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4EE6-9BE6-4465-83BC-88CDA348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129F-C085-4F3A-996B-395445E0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F778-0C4F-4418-9913-7FC4AA53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F4AF-5418-45BC-B43A-F1B00B14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BD81-59FE-4915-84B5-DD1C0CA6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24C5-4F9D-411F-949A-1DDDDBEB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AD8B-5E2E-430E-9173-487EAF0C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AA59-2E7B-4B8A-A7DB-CEF8F5B1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7772-4214-4164-8A14-3CAA2785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5B69-D813-48C3-8A01-245906AC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293D-B069-4ABC-B170-5D7E21C6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73E5A-EC35-40A2-85EA-8AFF056F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EBD8-05C1-4597-832E-21A740BE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2E3D-409E-400C-91D6-626431CC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735E-865C-4343-94C3-1166D201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EE74-B5A4-4B13-AD85-245BDBE3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8A39-BF1D-40ED-9442-5FF2EE61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A889-8E93-4373-A1DD-02F05A07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54DE5-2B25-4F65-88B7-2ABED258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384B3-E4EB-495E-B54F-A382A25C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1C0EC-E03F-460D-839A-30D7B720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23A9-C3D9-4768-8BA7-0D059501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D40B6-E672-486C-AEDA-D7DAA14B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BB7C2-4F35-48A1-AFF5-C59BDEFA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73B4-4520-4445-968B-E5B0AB35395F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78DF-970F-4BA3-B38F-DFD06767D8FC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76720" y="2133720"/>
            <a:ext cx="5562360" cy="145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KORAK U PROMJENE</a:t>
            </a:r>
            <a:endParaRPr b="0" lang="en-US" sz="6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 rot="20113200">
            <a:off x="304920" y="685440"/>
            <a:ext cx="1981080" cy="8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ŠTO?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 rot="1459800">
            <a:off x="6248520" y="533520"/>
            <a:ext cx="1752480" cy="799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KAKO?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828800" y="4572000"/>
            <a:ext cx="495288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U PETOM RAZREDU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Arial Black"/>
              </a:rPr>
              <a:t>KOD SLABIJIH ČITAČA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čitati na glas i prepričati pročitan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 Black"/>
              </a:rPr>
              <a:t>UČENICI KOJIMA JE POTREBNA STALNA POMOĆ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reška je reći: “Do četvrtog razreda sam mu pomagao, a sad više ne treba.”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ko ste pomagali, znači da dijete iz  raznih razloga nije razvilo samostalnost, sada će im pomoć još više trebati jar su djeca nesigurna, više izgubljena, brži je tempo obrade gradiv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kad prođe razdoblje prilagodbe treba ih početi osamostaljivati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omagati im da nauče kako učiti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 Black"/>
              </a:rPr>
              <a:t>UČENICI KOJI NEMAJU AUTOMATIZIRANE RAČUNSKE RADNJE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vakodnevno vježbati sve četiri računsk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radnje. Tablicu množenja i dijeljenja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otivirati ih možete igrom pogađanja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kvizom, igranjem obrnutih uloga 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6600"/>
                </a:solidFill>
                <a:latin typeface="Arial Black"/>
              </a:rPr>
              <a:t>UČENICI KOJI NEMAJU RAZVIJENE  ŠKOLSKE NAVIKE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o su oni učenici koji su bez puno napora i učenja svladavali nastavno gradivo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zbog većeg obima gradiva i različitog načina ispitivanja takva djeca se mogu početi „gubiti“ u količini gradiva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d velike je važnosti suradnj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RODITELJ- UČITELJ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razmjena  obavijesti važnih za napredak djeteta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010280" y="990720"/>
            <a:ext cx="1889280" cy="8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 Black"/>
              </a:rPr>
              <a:t>KAKO STEĆI NAVIKE UČENJA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6600"/>
                </a:solidFill>
                <a:latin typeface="Arial Black"/>
              </a:rPr>
              <a:t>?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apraviti plan učenja i učiti svaki da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mati stalno mjesto za rad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za vrijeme učenja ukloniti  sve što bi moglo odvući pažnju.TV, radio….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utažiti glad i žeđ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gradivo učiniti što smislenijim.Objasniti nepoznate riječi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20120" y="2666880"/>
            <a:ext cx="1176120" cy="1149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3809880"/>
            <a:ext cx="1022400" cy="8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lack"/>
              </a:rPr>
              <a:t>Aktivno učiti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odcrtati što je važn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zabilježiti najvažnije gradiv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lično gradivo grupirati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akon pročitanog prepričati svojim riječim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ovratna informacija.Roditelj ili neka druga osoba treba ispitati dijet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162920" y="3124080"/>
            <a:ext cx="18288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više puta ponoviti ono što se uči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učenje rasporediti u vremenu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nakon učenja važno je    </a:t>
            </a:r>
            <a:r>
              <a:rPr b="0" lang="hr-HR" sz="3200" spc="-1" strike="noStrike">
                <a:solidFill>
                  <a:srgbClr val="336600"/>
                </a:solidFill>
                <a:latin typeface="Arial"/>
              </a:rPr>
              <a:t>NAGRADITI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( sladoled, kino, biranje nečega što veseli dijete)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436920" y="4863960"/>
            <a:ext cx="1981080" cy="16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7152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NE OČEKUJTE SAVRŠENSTVO </a:t>
            </a:r>
            <a:br>
              <a:rPr sz="2800"/>
            </a:b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USPJEH JE KAD JE DIJETE SRETNO I ZADOVOLJNO SOBOM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NE USPOREĐUJTE DIJETE S DRUGOM DJECO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DIJETE TREBA NAUČITI DA SE </a:t>
            </a:r>
            <a:br>
              <a:rPr sz="2800"/>
            </a:b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NATJEČE SAMO SA SOBOM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934320" y="1828800"/>
            <a:ext cx="1952640" cy="1558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162920" y="4572000"/>
            <a:ext cx="1357200" cy="12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PRUŽITE DOBAR PRIMJER SVOJOJ DJEC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DOPUSTITE SVOM DJETETU DA BUDE PROSJEČNO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477120" y="2590920"/>
            <a:ext cx="209844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1143000"/>
            <a:ext cx="85345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POKAZUJTE IM LJUBAV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SLUŠAJTE SVOJE    DIJETE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1917720" cy="1959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343400" y="4724280"/>
            <a:ext cx="1854360" cy="1498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00"/>
                </a:solidFill>
                <a:latin typeface="Arial Black"/>
              </a:rPr>
              <a:t>Stresni događaji u životu školskog djeteta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polazak u prvi razred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prijelaz iz 4. u 5. razred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upisi u srednju školu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upisi na fakultet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477120" y="2819520"/>
            <a:ext cx="1939680" cy="17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3808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AKO GA KORITE ZA NEŠTO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LOŠE, POHVALITE ZA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DOBRO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NE PRETJERUJTE NI S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POHVALAMA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412640" cy="17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POGRJEŠKE I NEUSPJESI SU SASTAVNI DIO ŽIVOTA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POMOZITE IM DA VIDE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SVOJE DOBRE I LOŠE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OSOBINE.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867280" y="5257800"/>
            <a:ext cx="1003320" cy="923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467480" y="5105520"/>
            <a:ext cx="1067040" cy="1027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010280" y="2514600"/>
            <a:ext cx="183528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lack"/>
              </a:rPr>
              <a:t>          </a:t>
            </a:r>
            <a:r>
              <a:rPr b="0" lang="en-US" sz="4400" spc="-1" strike="noStrike">
                <a:solidFill>
                  <a:srgbClr val="336600"/>
                </a:solidFill>
                <a:latin typeface="Arial Black"/>
              </a:rPr>
              <a:t>NA KRAJU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VAŠOJ DJECI I VAMA ŽELIM DA, UZ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MNOGO  LJUBAV I STRPLJENJA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PRIJEĐETE USPJEŠNO SV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BUDUĆE ŽIVOTNE STUBE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                                       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UČITELJIC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38080" y="5054760"/>
            <a:ext cx="2000520" cy="1803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962760" y="750960"/>
            <a:ext cx="18669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5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1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4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09 0.0444 C 0.22518 0.04717 0.22952 0.05064 0.29046 0.04879 C 0.30261 0.0481 0.31476 0.04833 0.32691 0.04648 C 0.33612 0.04509 0.3448 0.03908 0.354 0.03816 C 0.3724 0.03608 0.39098 0.03561 0.40955 0.03399 C 0.43855 0.01966 0.49289 0.0259 0.51424 0.02544 C 0.54549 0.02475 0.57674 0.02405 0.60799 0.02336 C 0.62657 0.02058 0.64514 0.02082 0.66355 0.01688 C 0.69983 0.000699999999999999 0.72136 -0.02057 0.74601 -0.0571 C 0.75834 -0.07537 0.77014 -0.08762 0.77466 -0.1119 C 0.77362 -0.12462 0.77344 -0.13757 0.77136 -0.15005 C 0.76997 -0.15861 0.76094 -0.17086 0.75712 -0.17757 C 0.75487 -0.1815 0.75174 -0.18936 0.74914 -0.19236 C 0.74375 -0.19861 0.74167 -0.19629 0.73803 -0.20277 C 0.73577 -0.20693 0.73438 -0.21202 0.73178 -0.21549 C 0.72865 -0.21965 0.72223 -0.2282 0.72223 -0.2282 C 0.7165 -0.24369 0.71198 -0.24369 0.70469 -0.25572 C 0.69931 -0.2645 0.6948 -0.27514 0.68889 -0.28323 C 0.68455 -0.28901 0.67848 -0.29271 0.67309 -0.29595 C 0.66424 -0.30127 0.65556 -0.30913 0.64601 -0.31283 C 0.63316 -0.31791 0.61789 -0.31768 0.60469 -0.31907 C 0.59827 -0.32046 0.59219 -0.32485 0.58577 -0.32554 C 0.5625 -0.32809 0.57309 -0.32647 0.554 -0.3297 C 0.51615 -0.34589 0.47657 -0.35306 0.43803 -0.36554 C 0.42882 -0.37202 0.41962 -0.37572 0.40955 -0.37826 C 0.38073 -0.39421 0.42171 -0.37248 0.39358 -0.38473 C 0.37101 -0.39468 0.34896 -0.40924 0.32535 -0.41433 C 0.28941 -0.43028 0.23803 -0.42358 0.20157 -0.42473 C 0.18941 -0.42404 0.17605 -0.42774 0.16511 -0.42057 C 0.16112 -0.41803 0.15747 -0.41317 0.154 -0.40994 C 0.15087 -0.40693 0.14445 -0.40161 0.14445 -0.40161 C 0.14098 -0.38751 0.14566 -0.403 0.13803 -0.3889 C 0.13455 -0.38242 0.13125 -0.37271 0.12865 -0.36554 C 0.12691 -0.35514 0.12362 -0.3482 0.12066 -0.33826 C 0.11615 -0.30127 0.11962 -0.33595 0.12379 -0.25572 C 0.12518 -0.2282 0.12257 -0.2141 0.12865 -0.19236 C 0.12917 -0.1845 0.129 -0.17664 0.13021 -0.16901 C 0.13056 -0.16647 0.13264 -0.16508 0.13334 -0.16277 C 0.13577 -0.15398 0.13334 -0.15098 0.13803 -0.14358 C 0.1415 -0.13803 0.14341 -0.14057 0.14757 -0.13733 C 0.15643 -0.13063 0.16389 -0.12231 0.17309 -0.11629 C 0.18125 -0.10473 0.18143 -0.07999 0.16667 -0.07606 C 0.13941 -0.0689 0.13334 -0.07121 0.09358 -0.06959 C 0.08247 -0.06705 0.07101 -0.06589 0.06025 -0.06127 C 0.05556 -0.0571 0.05139 -0.05502 0.04601 -0.05271 C 0.0316 -0.03976 0.02344 -0.01202 0.00643 -0.00624 C 0.00226 -0.00092 0.00452 -0.003 -2.77778E-006 8.20809E-006 E">
                                      <p:cBhvr>
                                        <p:cTn id="773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8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66"/>
                </a:solidFill>
                <a:latin typeface="Arial"/>
              </a:rPr>
              <a:t>Prezentaciju izradila:Dubravka Petković,OŠF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00"/>
                </a:solidFill>
                <a:latin typeface="Arial"/>
              </a:rPr>
              <a:t>U prezentaciji korišten tekst iz priručnika za učitelj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hr-HR" sz="2000" spc="-1" strike="noStrike">
                <a:solidFill>
                  <a:srgbClr val="003300"/>
                </a:solidFill>
                <a:latin typeface="Arial"/>
              </a:rPr>
              <a:t>Vesele matematičke zgode” autora Gordane Paić-Željka Manzoni. </a:t>
            </a:r>
            <a:r>
              <a:rPr b="0" lang="hr-HR" sz="1200" spc="-1" strike="noStrike">
                <a:solidFill>
                  <a:srgbClr val="003300"/>
                </a:solidFill>
                <a:latin typeface="Arial"/>
              </a:rPr>
              <a:t>šk,2007.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lack"/>
              </a:rPr>
              <a:t>PRVI RAZRE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U prvom razredu dijete postaje đak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ora ovladati mnogim vještinama, ali stječe i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ove navike(sjediti na određenom mjestu koje nij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amo odabralo, rješavati zadatke koji nisu uvijek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zanimljivi, poštivati pravila koja vrijede z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unkcioniranje zajednice….)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Za neku djecu to je bura različitih osjećaja.Oni 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anifestiraju na različite način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ovraćanjem, bolovima u trbuhu, glavoboljam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ibjegavaju različitim trikovima kako bi izbjegl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dlazak u školu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lack"/>
              </a:rPr>
              <a:t>ČETVRTI  RAZRE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U četvrtom razredu već su zreliji. Razvijaju se i definiraju interesi i sklonosti k pojedinim predmetima, imaju svoje hobije,idole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naglašavaju svoju osobnost.</a:t>
            </a:r>
            <a:br>
              <a:rPr sz="2800"/>
            </a:b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Odlazak u školu im je rutina, to je normalno i prihvaća se, često i vole školu, ali to javno ne će priznati.</a:t>
            </a:r>
            <a:br>
              <a:rPr sz="2800"/>
            </a:b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Na kraju četvrtog razreda djeca su već formirani učenici.</a:t>
            </a:r>
            <a:br>
              <a:rPr sz="2800"/>
            </a:b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Neki su u pretpubertetu, neki ( mali broj) u pubertetu pretvarajući se u male buntovnike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91520" y="304920"/>
            <a:ext cx="1172880" cy="1266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620120" y="5334120"/>
            <a:ext cx="121896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Od starije djece već su čuli  kako pojedini predmetni nastavnici ispituju, što traže, kako ocjenjuju…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laze u peti razred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80280" y="3335400"/>
            <a:ext cx="1898640" cy="99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lack"/>
              </a:rPr>
              <a:t>PETI RAZRE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Sada se susreću s tim novim učiteljima i s neki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novim predmetima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Novi učitelji ne znaju im ni imena. Svaki od njih im  mor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naučiti ime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Ponekad ti novopečeni petaši uopće ne razumiju što t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novi ljudi od njih očekuju i kako ih nešto pitaj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Moraju se naviknuti na ta nova lica, uhvatiti ritam ka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školsko zvono prekida sat, kad se hrpa stvari seli iz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učionice u učionicu,upamtiti u koju učionicu treba ići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ponovo se moraju smještati u klupe kako traži baš taj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predmetni učitelj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281240" cy="11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VEĆINA UČENIKA PRIJELAZ DOŽIVLJAVA KAO JEDNO OD MNOGIH NOVIH ISKUSTAVA.</a:t>
            </a: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ŽIVOT PRED NAS POSTAVLJA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NOVE IZAZOVE I ZAHTJEVE, A MI IH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PRIHVAĆAMO BEZ PANIKE I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STRAHA.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44792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00"/>
                </a:solidFill>
                <a:latin typeface="Arial Black"/>
              </a:rPr>
              <a:t>RODITELJI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eki roditelji su navikli da njihovo dijete sve promjene lako prihvaća pa i to razdoblje u životu ne doživljavaju kao osobito važno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rugi su pak u panici prije bilo kakve promjene jer je njihovo dijete neprilagodljivo, preosjetljivo na promjene. Oni su zabrinuti i to prenose na svoje dijete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evelika roditeljska očekivanja i previše obveza jednako škodi djetetu kao i loša organiziranost vremena i zapuštanje radnih navika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0120" y="4191120"/>
            <a:ext cx="1209600" cy="127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 Black"/>
              </a:rPr>
              <a:t>Gdje bi se mogli pojaviti veći problemi?</a:t>
            </a:r>
            <a:r>
              <a:rPr b="0" lang="en-US" sz="44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3300"/>
                </a:solidFill>
                <a:latin typeface="Arial Black"/>
              </a:rPr>
              <a:t>Kako pomoći?</a:t>
            </a:r>
            <a:endParaRPr b="0" lang="en-US" sz="41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25480" y="4334040"/>
            <a:ext cx="1600200" cy="195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sna </cp:lastModifiedBy>
  <dcterms:modified xsi:type="dcterms:W3CDTF">2008-02-06T16:34:5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