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924-784D-4181-B4FB-45B3D1DD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165-6F77-4341-90B2-7492E224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CC3-9711-4FAD-B014-4D7CA616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AA5-9910-49FE-86E2-DF9FB555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3C9-1175-4C14-9903-93710C6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A4D-DCED-4206-988B-9ABADD97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C8F-822A-4124-8939-96F89DC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DCE-21F4-4013-9636-6F9E6CBD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A9B-DF34-45EA-8305-E0D7DB1F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3EA-82AD-4B13-BE6A-A5683A1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195-F51F-47D1-90C2-E8911FA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41C-F1EA-4A59-AF41-5F64C9B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68A-4A05-4532-B18A-355B5F99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5472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UKOV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4720" y="5013360"/>
            <a:ext cx="251964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700280"/>
            <a:ext cx="54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D  HERO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Grad je potpuno razor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33640" y="2924280"/>
            <a:ext cx="3078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Vukovarci  su protjerani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89560" cy="2927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200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Podat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atci svjedoče o golemim stradanjima građana branitel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 700 ljudi  je ubijeno u obrani grada (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 1 100 civil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še od 4 000 ljudi je ranj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zmeđu 3 000 i 5 000 ljudi je zaroblj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koliko tisuća ljudi se smatra nestal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ukovar je branilo oko 1 800 boraca koji su tijekom obrane bili organizirani u  204. briga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koro polovica branitelja su bili dragovoljci iz svih dijelova Hrvatske, Bosne i Hercegovine te iz cijeloga svije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ovratak u Vukov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kon oslobodilačkih akcija u drugim krajevima Hrvatske 1995. godine, počeli su pregovori o povratku Vukovara pod hrvatsku vl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Lokalna je samouprava u Vukovaru počela djelovati sredinom 1997. god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Hrvatsko podunavlje je mirno priključeno u Republiku Hrvatsku 15. siječnja 1998. god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tad se puno radi na obnovi grada i povratku svih stanovnika te se oživljava kulturni gospodarski život grada.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35280" cy="303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5040" y="10652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čara - mjesto strad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rvatskih zaroblj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4289400" cy="3082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46000" y="4119480"/>
            <a:ext cx="33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morijalno grobl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55640" y="11592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ukovar naš pon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b g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299844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Vukovarski se povijesni grb prvi put pojavljuje 1871. godine kad se ujedinio Stari i Novi Vukovar u jednu cjelinu. Ujedinjenje je na grbu prikazano s dvije spojene kule. U središtu se nalazi djevojka, kao zaštitinica grada i lav simbol s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54120" y="1600200"/>
            <a:ext cx="36432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ukovar se smjestio u plodnoj Slavoniji  na obali Dun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lobodnim gradom postao je u XIII. stoljeć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560" y="4195800"/>
            <a:ext cx="3772080" cy="2095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24600" y="4149720"/>
            <a:ext cx="3074760" cy="218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70028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Vukovar je stari barokni grad, poznat po   mnoštvu vrlo lijepih, ali u ratu teško oštećenih građev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Dvorac Eltz iz XVIII 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Franjevački samostan, župna crkva sv. Filipa i Jakova, pravoslavna crkva sv. Nikolaja i d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5240" y="3789360"/>
            <a:ext cx="3705480" cy="262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3240" y="386064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jevački sam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468600" cy="262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4520" y="3860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kva sv. Filipa i Ja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16360" y="3403440"/>
            <a:ext cx="4319640" cy="3265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zvan grada, na obali Dunava prema Iloku nalazi se Vučedol, bogato arheološko nalaz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bredna posu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Vučedolska golub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matra se simbol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8. studenoga,   prisjećamo se žrtve koju su podnijeli Vukovarci u Domovinskom ratu 1991.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984320"/>
            <a:ext cx="72723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itka za Vukov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456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itka za Vukov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Bitka za Vukova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počela j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25. kolovoza 1991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da je srpska vojska napala grad. Branitelji su se uspješno obran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 mjeseca neprijatelji su svakodnevno napadali 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 zadnjim je danima obrane  branitelji  više nisu imali dovoljno oružja, pa su se podijelili u manje skupine i probili se na zapad. Jedna je skupina branitelja na Mitnici i u Borovom Naselju ostala potpuno okružena agresorom i bez municije. Zarobljeni su s ostalim civilima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18. studenog 1991. godin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na dan koji pamtimo  kao dan okupacije Vukovar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svajačka srpska vojska je počinila mnoge zločine nad građanima i zarobljenicima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2854440"/>
            <a:ext cx="38102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8:40:56Z</dcterms:created>
  <dc:creator>Katica Konstantinović</dc:creator>
  <dc:description/>
  <dc:language>en-US</dc:language>
  <cp:lastModifiedBy>Stojic</cp:lastModifiedBy>
  <dcterms:modified xsi:type="dcterms:W3CDTF">2008-12-13T13:42:37Z</dcterms:modified>
  <cp:revision>13</cp:revision>
  <dc:subject/>
  <dc:title>VUKOVAR</dc:title>
</cp:coreProperties>
</file>