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FE13A-B906-45AD-A7DB-79E2340D2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F1E9-6290-45D1-9A27-762A88BB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73124-D012-4A78-95D1-D03436FDA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28620-3618-4F25-81CF-393FDA76D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20EEBB-408E-46E7-A5BB-0DA68FEED3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70CF4-9816-4E71-A22C-4F67D7745E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5A627A-DD05-426B-A4A5-A448181EC3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65392-74C0-48E1-8CFD-9EB4645313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3805DE-66C1-40C6-82F9-53D5B84351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64BD8B-0B7B-4038-B3A1-90C7F364C4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BC861-4D9F-448E-A059-63352D2925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60862-F58A-4EAD-ABA6-AED2E945A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6F454-4393-459F-8B1C-982FA1D6FE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C9FC8-C459-4E8D-A0D7-57A901D3B8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3B199-4CFF-4C26-8060-A0EB043117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0C2337-CD1C-47FB-9E63-C65ED17D817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86B370-B71D-4D30-904B-789CBD02C5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17174-014D-4AAC-A733-D8A38BCBB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0A5B-DA5D-4311-9706-1CD5420A1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F5EFB-054A-435B-B423-0894BA4D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5F346-E182-4373-A536-8666AE97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62CE-0ABE-4B7A-9582-551669C29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DE5C-F7D2-4643-A6EF-CC81891E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CAAF-36D0-4EE1-ABCD-F750BEE30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B2F1-4D6B-42CC-B9CB-73EE67D117BA}"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D34A-FD80-4BAA-AFCA-0E865F495A6C}"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Školovanje djece s posebnim potrebam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2195640" y="41497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otpuna integracija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jelomična integr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333360"/>
            <a:ext cx="8435880" cy="5975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    </a:t>
            </a:r>
            <a:r>
              <a:rPr b="1" lang="hr-HR" sz="2400" spc="-1" strike="noStrike">
                <a:solidFill>
                  <a:srgbClr val="ffffff"/>
                </a:solidFill>
                <a:latin typeface="Tahoma"/>
              </a:rPr>
              <a:t>Prilagođeni program u pravilu pretpostavlja smanjenje intenziteta i ekstenziteta pri izboru nastavnih sadržaja, premda je poželjno, s obzirom na to da je planiranje, programiranje i neposredan rad s učenikom s teškoćama u razvoju obvezatno individualiziran prema učenikovim razvojnim potrebama, prvo odrediti treba li se program odnositi n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nastavnih predmeta i sadržaj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razine usvajanja pojedinih nastavnih sadržaj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vremenskih dimenzija za pojedine nastavne sadržaj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nastavnih metoda, oblika i sredstava ra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     </a:t>
            </a:r>
            <a:r>
              <a:rPr b="1" lang="hr-HR" sz="2800" spc="-1" strike="noStrike">
                <a:solidFill>
                  <a:srgbClr val="ffffff"/>
                </a:solidFill>
                <a:latin typeface="Tahoma"/>
              </a:rPr>
              <a:t>Pri izradi prilagođenih programa, a osobito pri njihovom ostvarivanju neophodno je ispuniti sljedeće preduvje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1. utvrditi realnu (trenutnu) razinu učenikovih sposobnosti i znanja za svako nastavno područje (inicijalno ispitivanje je obvezatno za svako nastavno područje svake školske godin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2.   odrediti godišnji cilj odgoja i obrazovanj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3.   odrediti kratkoročne ciljeve odgoja i obrazovanj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4. utvrditi posebne učenikove potrebe i način njihova zadovoljavan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50560" y="259920"/>
            <a:ext cx="856908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 utvrditi opseg do kojeg će učenik sudjelovati u redovitom programu (poštujući minimum zahtjev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  utvrditi vrijeme početka i trajanja individualne pomoći;</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7. odrediti objektivne kriterije, sredstva i metode evaluacije ciljeva odgoja i obrazovanj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8. navesti stručnjake odgovorne za izradu, ostvarenje, procjenu i moguće izmjene program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9. prihvatiti činjenicu da dio učenika s teškoćama u razvoju može napredovati isto (u svim ili nekim područjima) kao i njihovi vršnjaci, a dio samo do određene granice, ali nema učenika koji se ne može odgajati i obrazovati sukladno svojim razvojnim sposobnostim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404640"/>
            <a:ext cx="8229600" cy="6120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400" spc="-1" strike="noStrike" u="sng">
                <a:solidFill>
                  <a:srgbClr val="ffffff"/>
                </a:solidFill>
                <a:uFillTx/>
                <a:latin typeface="Tahoma"/>
              </a:rPr>
              <a:t>Prilagođeni programi mogu se izraditi za sve nastavne predmete ali i samo za neke. Tu propisanog pravila nema! Postoji samo bitna preporuka - učenicima treba prilagoditi program iz onih nastavnih predmeta u kojima pokazuju izrazitije teškoće u svladavanju sadržaja.</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d se izrađuje prilagođeni program učitelj treba programski i izvedbeno smanjiti previsoke obrazovne zahtjeve, dakle izdvojiti one sadržaje i zahtjeve koje učenik doista može svladati. Te sadržaje treba obogatiti metodama (npr. učenje kroz iskustvo, rad u grupi i uz podršku vršnjaka) i didaktičkim materijalima koji će olakšati razumijevanje i usvajanje gradiva. </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dijelu izbora metoda rada najbolju podršku može pružiti edukacijsko-rehabilitacijski stručnja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žno je znati: na početku svake školske godine se utvrđuje iz kojih je nastavnih predmeta potrebno izraditi prilagođene programe. U tijeku školske godine moguće je unositi promjene u predložene programe. Na kraju svake školske godine potrebno je izvijestiti o uspješnosti učenika u provedenom obliku školovanj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dividualizirani pristup</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Za razliku od prilagođenog programa, koji preporučuje i dopušta da se redovni program "smanji" i tako učeniku učini laganijim i razumljivim, u prijedlogu individualiziranih postupaka misli se, prije svega, na primjenu onih metoda, sredstava i didaktičkih materijala koji podupiru posebne edukacijske potrebe djeteta (npr., potrebe uvjetovane teškoćama čitanja i pisanja, oštećenjem vida, oštećenjem sluha, cerebralnom paraliz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čaku Petru, koji ima cerebralnu paralizu, pojavile su se i smetnje vida. One nisu predstavljale veću teškoću za rad u školi jer su roditelji djetetu nabavili naočale. No, dijete s cerebralnom paralizom ima teškoće s djelotvornim korištenjem vida a one su uzrokovane nemogućnošću nadzora pokreta glave. To je Petru značajno otežavalo čitanje i pisanje pa se i brže umarao. Zbog navedenog, dobar učitelj treba ove osobitosti djeteta uzeti u obzir prigodom vrednovanja brzine čitanja te vremenski ograničenih pisanih zadataka (npr., dikta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764640"/>
            <a:ext cx="8229600" cy="554364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Postoji doista niz individualiziranih postupaka, a ovdje ćemo izdvojiti poželjne i preporučiti ih učiteljima i roditeljima za rad s djecom u školi i kod kuće (Ivančić, Stančić, 2002.):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ffffff"/>
                </a:solidFill>
                <a:uFillTx/>
                <a:latin typeface="Tahoma"/>
              </a:rPr>
              <a:t>zahtjevi s obzirom na samostalnost učenika</a:t>
            </a:r>
            <a:r>
              <a:rPr b="0" lang="hr-HR" sz="2800" spc="-1" strike="noStrike">
                <a:solidFill>
                  <a:srgbClr val="ffffff"/>
                </a:solidFill>
                <a:latin typeface="Tahoma"/>
              </a:rPr>
              <a:t>: stupnjevito pružanje pomoći i nadzora pri rješavanju različitih zadataka, izvođenju pokusa, rukovanju geometrijskim priborom i sl.;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ffffff"/>
                </a:solidFill>
                <a:uFillTx/>
                <a:latin typeface="Tahoma"/>
              </a:rPr>
              <a:t>zahtjevi s obzirom na vrijeme rada</a:t>
            </a:r>
            <a:r>
              <a:rPr b="0" lang="hr-HR" sz="2800" spc="-1" strike="noStrike">
                <a:solidFill>
                  <a:srgbClr val="ffffff"/>
                </a:solidFill>
                <a:latin typeface="Tahoma"/>
              </a:rPr>
              <a:t>: predviđanje duljeg vremena za rješavanje zadataka, osobito u pismenim provjerama znan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zahtjevi s obzirom na način rada:</a:t>
            </a:r>
            <a:r>
              <a:rPr b="0" lang="en-US" sz="2800" spc="-1" strike="noStrike">
                <a:solidFill>
                  <a:srgbClr val="ffffff"/>
                </a:solidFill>
                <a:latin typeface="Tahoma"/>
              </a:rPr>
              <a:t> pojedinačno zadavanje zadataka, odabir tipova zadataka koji motiviraju učenika prema načelu lakši - teži - lakši, odabir zadataka različite težine, češće vježbanje i ponavljanje;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zahtjevi s obzirom na provjeravanje:</a:t>
            </a:r>
            <a:r>
              <a:rPr b="0" lang="en-US" sz="2800" spc="-1" strike="noStrike">
                <a:solidFill>
                  <a:srgbClr val="ffffff"/>
                </a:solidFill>
                <a:latin typeface="Tahoma"/>
              </a:rPr>
              <a:t> samo usmena provjera ili davanje mogućnosti da učeniku netko drugi čita (učenik s disleksijom), češća provjera znanja u kraćim vremenskim jedinicama i s manjim brojem zadataka ili pitanja u ispitivanju;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zahtjevi s obzirom na aktivnost:</a:t>
            </a:r>
            <a:r>
              <a:rPr b="0" lang="en-US" sz="2800" spc="-1" strike="noStrike">
                <a:solidFill>
                  <a:srgbClr val="ffffff"/>
                </a:solidFill>
                <a:latin typeface="Tahoma"/>
              </a:rPr>
              <a:t> zajedničko planiranje rada s učenikom, češće promjene aktivnosti; fizičko približavanje učenika izvoru promatranja.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sim navedenih postupaka, rad s učenicima je potrebno podržati odgovarajućom specifičnom opremom i didaktičkim materijalima (npr., u razredu koristiti diktafon, Braillove strojeve i pločice, pribor za pisanje i crtanje na Braillovoj tablici, udžbenike/vježbenice s uvećanim tiskom, povećala, magnetne ploče i podloge stola za pisanje it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960"/>
            <a:ext cx="8147160" cy="19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Školovanje djece s posebnim potrebama u Hrvatskoj se odvija u:</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86" name="PlaceHolder 2"/>
          <p:cNvSpPr>
            <a:spLocks noGrp="1"/>
          </p:cNvSpPr>
          <p:nvPr>
            <p:ph/>
          </p:nvPr>
        </p:nvSpPr>
        <p:spPr>
          <a:xfrm>
            <a:off x="250920" y="220500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redovnim osnovnim školama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posebnim odgojno - obrazovnim ustanovam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Ovdje ćemo se više osvrnuti na prvi oblik školovanja - u redovnim osnovnim školama. Može se govoriti 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punoj integraciji</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jelomičnoj integracij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Djelomična integracija  </a:t>
            </a:r>
            <a:br>
              <a:rPr sz="4000"/>
            </a:br>
            <a:endParaRPr b="0" lang="en-US" sz="4000" spc="-1" strike="noStrike">
              <a:solidFill>
                <a:srgbClr val="ffffff"/>
              </a:solidFill>
              <a:latin typeface="Tahoma"/>
            </a:endParaRPr>
          </a:p>
        </p:txBody>
      </p:sp>
      <p:sp>
        <p:nvSpPr>
          <p:cNvPr id="109" name="PlaceHolder 2"/>
          <p:cNvSpPr>
            <a:spLocks noGrp="1"/>
          </p:cNvSpPr>
          <p:nvPr>
            <p:ph/>
          </p:nvPr>
        </p:nvSpPr>
        <p:spPr>
          <a:xfrm>
            <a:off x="395280" y="1413000"/>
            <a:ext cx="8229600" cy="5184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blik djelomične integracije provodi se u redovnoj osnovnoj školi, najčešće za učenike s teškoćama učenja općeg tipa (npr., laka mentalna retardacija).</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Prema čl. 7. Pravilnika o osnovnoškolskom odgoju i obrazovanju učenika s teškoćama u razvoju (1991.), učenici s posebnim edukacijskim potrebama dio nastavnih sadržaja (najčešće su to obrazovni predmeti ali nije izričito navedeno) svladavaju u posebnom razrednom odjelu, a dio (najčešće odgojne predmete) u matičnom razredu, dakle s vršnjacima bez posebnih edukacijskih potreb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60" y="692280"/>
            <a:ext cx="8893080" cy="5689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brazovne predmete vodi defektolog-učitelj (edukacijsko-rehabilitacijski stručnjak), a odgojne razredni odnosno predmetni učitelji.</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ključivanje učenika u odgojne predmete stavlja pred učitelje odgovornu zadaću maksimalne individualizacije i prilagođavanja sadržaja u nastavi glazbene, likovne i tjelesno-zdravstvene kulture. </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 protivnom, učenik i učenikovi roditelji suočavaju se s činjenicom da učenik mora putovati iz jedne škole u drugu, kako bi prema rasporedu obrazovnih, pa zatim odgojnih, predmeta bio uključen na nastavu. Jesmo li se ikad zapitali kako je biti dijete koje putuje od škole do škole i na takav način prati obrazovne i odgojne predmete! A gdje su povoljni uvjeti za odnose s vršnjacima i razvoj prijateljstv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Nedostatak ovakva načina rada se u pojedinim školama ogleda i u tome što posebno odjeljenje mogu pohađati učenici iz nekoliko različitih razreda.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Veliki nedostatak za učenike kad na istom satu "sudjeluju" učenici različitih razreda, npr. prvoga, trećega, četvrtoga i šestog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Brojni su defektolozi-učitelji pokušali na različite načine unaprijediti ovaj oblik školovanja: oblik rada organizirali su samo za učenike u predmetnoj nastavi, dakle od petoga do osmoga razred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 radu s DJECOM S POSEBNIM POTREBAMA treba imati na umu:</a:t>
            </a:r>
            <a:br>
              <a:rPr sz="4000"/>
            </a:br>
            <a:endParaRPr b="0" lang="en-US" sz="4000" spc="-1" strike="noStrike">
              <a:solidFill>
                <a:srgbClr val="ffffff"/>
              </a:solidFill>
              <a:latin typeface="Tahoma"/>
            </a:endParaRPr>
          </a:p>
        </p:txBody>
      </p:sp>
      <p:sp>
        <p:nvSpPr>
          <p:cNvPr id="113"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d s djecom s posebnim potrebama traži veliko strpljenje i ljubav (mali koraci – veliki je uspjeh).</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vijek u nastavi koristiti individualan rad prema sposobnostima učenika (grupni ili frontalni rad s ovom djecom ne daje rezultate).</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šljenje je konkretno.</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ažnja kratkotrajn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oncentracija slab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olja za rad (učenje pisanje i dr.) slab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Emocije postoje (žele se identificirati s normalnom djecom)</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otorika – usporena ( u kretnji) ili hiperaktivni.</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icijalna procjena</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sposobnosti – ”što učenik može, ne mož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interesa- ”što učenik voli/želi znat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potreba- ”što učeniku treb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razine znan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457200" y="274680"/>
          <a:ext cx="8229600" cy="6684840"/>
        </p:xfrm>
        <a:graphic>
          <a:graphicData uri="http://schemas.openxmlformats.org/drawingml/2006/table">
            <a:tbl>
              <a:tblPr/>
              <a:tblGrid>
                <a:gridCol w="2743200"/>
                <a:gridCol w="2743200"/>
                <a:gridCol w="2743200"/>
              </a:tblGrid>
              <a:tr h="985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oteškoće u usvajanju nastavnih sadržaja uvjetovani su teškoćama na područj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ako se manifestiraju</a:t>
                      </a:r>
                      <a:r>
                        <a:rPr b="1" lang="en-US" sz="1200" spc="-1" strike="noStrike">
                          <a:solidFill>
                            <a:srgbClr val="ffffff"/>
                          </a:solidFill>
                          <a:latin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oji su prikladni didaktičko-metodički pristup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cepcij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razumijevanj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točnos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ravilno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jasne kratke upu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jasnoća podatak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navljan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mćenj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vršna znanj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eškoće u ponavljanju</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mjena naučeno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navljan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žnj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težana usmjerenos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dugo zadržavanj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smjereni                         jednostavni           interesantni zadaci</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šljenj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grešni zaključci</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ovezanos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jmovno siromaštv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lagođavanje sadržaj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eškoće govornog izražavanj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ravilan izgovo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brzan,usporen gov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oticanje govornog izraz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ovođenje logopedskih vježbi</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našanj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vučeno</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peraktiv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mjena aktivnosti</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hvaljivanj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hrabrivan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azina usvajanja</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prisjeć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prepoznav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reprodukci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operativnost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varalačko znanj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lici rada</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ntalni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 pa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upn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izir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tpuna integracija </a:t>
            </a:r>
            <a:endParaRPr b="0" lang="en-US" sz="4000" spc="-1" strike="noStrike">
              <a:solidFill>
                <a:srgbClr val="ffffff"/>
              </a:solidFill>
              <a:latin typeface="Tahoma"/>
            </a:endParaRPr>
          </a:p>
        </p:txBody>
      </p:sp>
      <p:sp>
        <p:nvSpPr>
          <p:cNvPr id="88"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stvaruje se uključivanjem učenika s posebnim edukacijskim potrebama </a:t>
            </a:r>
            <a:r>
              <a:rPr b="0" lang="hr-HR" sz="2800" spc="-1" strike="noStrike" u="sng">
                <a:solidFill>
                  <a:srgbClr val="ffffff"/>
                </a:solidFill>
                <a:uFillTx/>
                <a:latin typeface="Tahoma"/>
              </a:rPr>
              <a:t>u redovni razredni odjel</a:t>
            </a:r>
            <a:r>
              <a:rPr b="0" lang="hr-HR" sz="2800" spc="-1" strike="noStrike">
                <a:solidFill>
                  <a:srgbClr val="ffffff"/>
                </a:solidFill>
                <a:latin typeface="Tahoma"/>
              </a:rPr>
              <a:t> gdje učenik svladava redovne ili prilagođene nastavne programe uz primjenu individualiziranih postupaka u radu.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enik s posebnim edukacijskim potrebama se, osim u redovnu nastavu, uključuje i u neki od edukacijsko-rehabilitacijskih postupaka (npr. postupci za poticanje perceptivnih i motoričkih sposobnosti za čitanje i pisanje). Ovaj dio programa izvodi defektolog-stručni suradnik, ako ga škola im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ode rada</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demonstraci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praktičnih rado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crt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pismenih rado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čitanja i rada na teks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a usmenog izlagan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incipi rada</a:t>
            </a:r>
            <a:br>
              <a:rPr sz="4000"/>
            </a:br>
            <a:endParaRPr b="0" lang="en-US" sz="40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zornosti i konkretnosti</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sistematičnosti i postupnos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diferencijacije i integracij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primjerenosti</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individualizacij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socijalizacije</a:t>
            </a:r>
            <a:endParaRPr b="0" lang="en-US" sz="24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racionalizacije </a:t>
            </a:r>
            <a:r>
              <a:rPr b="0" lang="hr-HR" sz="2800" spc="-1" strike="noStrike">
                <a:solidFill>
                  <a:srgbClr val="ffffff"/>
                </a:solidFill>
                <a:latin typeface="Tahoma"/>
              </a:rPr>
              <a:t>foulards </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poticajnosti (pohvala,podrška,razumijevanje, nagrada, priznanje,pomagan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Kad se dijete uključuje u oblik potpune integracije roditelj treba znati da postoji niz pozitivnih prijedloga u našim prosvjetnim zakonskim propisima s ciljem stvaranja povoljnijih uvjete za školovanje i napredak učenik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Evo najvažnijih: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čenici "s lakšim teškoćama u razvoju" uključuju se u razredni odjel od 1. do 4. razred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 razredni je odjel moguće uključiti do tri učenika s posebnim potrebama, a takav odjel ne može imati sveukupno više od 24 učenika (Pravilnik o broju učenika u razrednom odjelu, 1996.).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907920"/>
            <a:ext cx="8229600" cy="511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čenik s posebnim potrebama koji svladava redovne ili prilagođene programe individualiziranim postupcima ima pravo na posebnu dodatnu pomoć defektologa (edukacijsko-rehabilitacijskog stručnjak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ebna dodatna defektološka pomoć provodi se u posebno opremljenom prostoru škol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Za učenike kojima je oštećen vid, sluh ili imaju motorička oštećenja potrebno je organizirati produženi stručni postupak. Ovaj se postupak provodi prije ili nakon nastave uz pomoć defektologa. Spomenuti oblik rada je sastavni dio prilagođenog programa.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333360"/>
            <a:ext cx="82296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redovnu osnovnu školu mogu se uključiti i učenici s organski uvjetovanim poremećajima u ponašanju (predložen je postotak te djece u odnosu prema ukupnom broju učen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enici s posebnim potrebama od 1. do 4. razreda NE ponavljaju razred nego prelaze u viši razred i nastavljaju sa svladavanjem prilagođenog programa. Tek od 5. do 8. razreda mogu ponavljati razred ako nisu, prema mišljenju defektologa i drugih stručnih suradnika i razrednog vijeća, svladali program (op. aut. - Je li u tom slučaju program doista bio prilagođen? Jesu li pravodobno prepoznati uzroci školskog neuspjeha, npr. dodatne razvojne ili obiteljske teškoć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čenici s posebnim potrebama, kao i svi ostali učenici u školi, ocjenjuju se ocjenama od 1 do 5. Da bi učitelji u školama mogli bolje predložiti ocjenu, koriste Naputak o praćenju i ocjenjivanju učenika s teškoćama i većim teškoćama u razvoju u osnovnoj i srednjoj školi (</a:t>
            </a:r>
            <a:r>
              <a:rPr b="0" i="1" lang="en-US" sz="3200" spc="-1" strike="noStrike">
                <a:solidFill>
                  <a:srgbClr val="ffffff"/>
                </a:solidFill>
                <a:latin typeface="Tahoma"/>
              </a:rPr>
              <a:t>Glasnik Ministarstva prosvjete i športa Republike Hrvatske,</a:t>
            </a:r>
            <a:r>
              <a:rPr b="0" lang="en-US" sz="3200" spc="-1" strike="noStrike">
                <a:solidFill>
                  <a:srgbClr val="ffffff"/>
                </a:solidFill>
                <a:latin typeface="Tahoma"/>
              </a:rPr>
              <a:t> posebno izdanje, 4/1996.). </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Što je prilagođeni program?</a:t>
            </a:r>
            <a:endParaRPr b="0" lang="en-US" sz="4400" spc="-1" strike="noStrike">
              <a:solidFill>
                <a:srgbClr val="ffffff"/>
              </a:solidFill>
              <a:latin typeface="Tahoma"/>
            </a:endParaRPr>
          </a:p>
        </p:txBody>
      </p:sp>
      <p:sp>
        <p:nvSpPr>
          <p:cNvPr id="94" name="PlaceHolder 2"/>
          <p:cNvSpPr>
            <a:spLocks noGrp="1"/>
          </p:cNvSpPr>
          <p:nvPr>
            <p:ph/>
          </p:nvPr>
        </p:nvSpPr>
        <p:spPr>
          <a:xfrm>
            <a:off x="456840" y="1413000"/>
            <a:ext cx="8147160" cy="5256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ako vlada mnogo različitih tumačenja među učiteljima/nastavnicima i roditeljima o ovim oblicima školovanja dat ćemo neka dodatna objašnjenj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PRILAGOĐENI PROGRAM</a:t>
            </a:r>
            <a:r>
              <a:rPr b="0" lang="hr-HR" sz="2800" spc="-1" strike="noStrike">
                <a:solidFill>
                  <a:srgbClr val="ffffff"/>
                </a:solidFill>
                <a:latin typeface="Tahoma"/>
              </a:rPr>
              <a:t> je, kao što i sama riječ kaže, program koji je prilagođen učeniku, prije svega njegovim "jakim" stranama, tj. sposobnostima, onome što dijete zna i može! Tek onda je to program koji treba uvažavati teškoće djeteta, ono što dijete još nije svladalo, ono što ne može kao drugi vršnjaci u razredu. Jednostavno rečeno: koliko djece - toliko i prilagođenih programa. </a:t>
            </a:r>
            <a:endParaRPr b="0" lang="en-US" sz="2800" spc="-1" strike="noStrike">
              <a:solidFill>
                <a:srgbClr val="ffffff"/>
              </a:solidFill>
              <a:latin typeface="Tahoma"/>
            </a:endParaRPr>
          </a:p>
        </p:txBody>
      </p:sp>
      <p:sp>
        <p:nvSpPr>
          <p:cNvPr id="95" name=""/>
          <p:cNvSpPr/>
          <p:nvPr/>
        </p:nvSpPr>
        <p:spPr>
          <a:xfrm>
            <a:off x="-6950160" y="3357720"/>
            <a:ext cx="1832472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360"/>
            <a:ext cx="8362800" cy="5470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 početku je važno naglasiti kako nema univerzalnog prilagođenog programa koji bi se mogao načiniti za sve učenike s teškoćama u razvoju, neovisno o vrsti i stupnju teškoće u razvoju.</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sitelj izrade prilagođenog programa je učitelj koji to čini uz pomoć defektologa i drugih stručnih suradnika škole.</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lagođeni  program  za  svakog učenika  s  rješenjem potrebno je načiniti do kraja mjeseca rujna za svaku školsku godinu i usvojiti ga na učiteljskom vijeću. </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željno je da bude dostupan  roditelju učenika, skrbniku, staratelju, stoga bi ga trebalo priložiti u dnevnik razrednog odjel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09:59:24Z</dcterms:created>
  <dc:creator>Valentina</dc:creator>
  <dc:description/>
  <dc:language>en-US</dc:language>
  <cp:lastModifiedBy>Krešo</cp:lastModifiedBy>
  <dcterms:modified xsi:type="dcterms:W3CDTF">2008-04-23T06:41:14Z</dcterms:modified>
  <cp:revision>12</cp:revision>
  <dc:subject/>
  <dc:title>Školovanje djece s posebnim potrebama </dc:title>
</cp:coreProperties>
</file>