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1E2-F409-4E52-9D28-C3446970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B21-1FA6-4DD1-9A0C-9024000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54F-E19B-4ED1-9A63-AD2BB396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019-5B02-4FD9-8B6E-B70037BC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B866-C96A-493C-A3C9-9BEA0709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06D6-E19E-4221-8C6B-19FF4081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4287-6A3F-4324-9AC0-F3F3C06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E2C-27B9-41CD-A6BA-EAD27FD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DF6-BBDF-4E2F-B56A-E75DF4A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D49-40FC-4A66-B5F7-54B0750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083A-BC51-4B8A-B32C-3B94990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841-5913-4415-8378-2181019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60CE-D09A-4271-A194-E6F366C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E57A-81FB-49E9-9676-BE36FA5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58F6-281F-4DED-899C-E332A241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4514-7762-418A-8718-475651C8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FDC9-D7E6-4B05-97B9-8204B161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444-532C-48AF-9CD9-99DCA6A9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018-C882-448C-98C4-2BA9DCC2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5EF-4BCF-4975-9A7B-1CF8FD8E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B9C-4D7E-4FED-B517-48FA9DA4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0E1-AF21-49EF-BEE1-AEA5EF4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0AF-F214-4E39-898B-F4EC48C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8D8-B287-4B1B-A092-EBB821E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56F-B5BC-4BE7-9199-DF058C2D0A7B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7C90-DCE7-485F-8A48-1608A45AC64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8075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88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342E-5052-4D76-800B-615D17460A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32720" y="-4396320"/>
            <a:ext cx="1540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604000" y="6021360"/>
            <a:ext cx="8244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47640" y="191628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e8f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>
                        <a:alpha val="77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1749600" cy="1336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24000" y="4005360"/>
            <a:ext cx="1486080" cy="116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1546200" cy="151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124000" y="1700280"/>
            <a:ext cx="2057400" cy="193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A42-670F-4654-982F-2BAFCB0292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35760" y="-4955040"/>
            <a:ext cx="1526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16000" y="1844640"/>
          <a:ext cx="6504120" cy="4048200"/>
        </p:xfrm>
        <a:graphic>
          <a:graphicData uri="http://schemas.openxmlformats.org/drawingml/2006/table">
            <a:tbl>
              <a:tblPr/>
              <a:tblGrid>
                <a:gridCol w="2311560"/>
                <a:gridCol w="2097000"/>
                <a:gridCol w="2095560"/>
              </a:tblGrid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TARN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MBEN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JSK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MBEN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91D-739B-45DA-863E-1A1424975B8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STRATE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ABOSTI PRETVORITI U S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TI SNAGE ZA STVARANJE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TNJE PRETV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TI U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43C-8536-4B90-A944-00F5FECF85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44000" y="-1211400"/>
            <a:ext cx="900000" cy="26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404640"/>
          <a:ext cx="8280360" cy="5415120"/>
        </p:xfrm>
        <a:graphic>
          <a:graphicData uri="http://schemas.openxmlformats.org/drawingml/2006/table">
            <a:tbl>
              <a:tblPr/>
              <a:tblGrid>
                <a:gridCol w="1223640"/>
                <a:gridCol w="1224000"/>
                <a:gridCol w="1008360"/>
                <a:gridCol w="1304640"/>
                <a:gridCol w="1173240"/>
                <a:gridCol w="1173240"/>
                <a:gridCol w="1173240"/>
              </a:tblGrid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ETNO PODRU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E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E I AKTIVNOS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OSTVARIVANJE CILJ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ŽNI RESURS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INANCIJSKI, ORGANIZACIJSKI, LJUDSKI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e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DO KOJEGA ĆE SE CILJ OSTVAR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LEŽNA OS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RLJIVI POKAZATELJI OSTVARIVANJA CILJ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a su područja našeg rada koja najprije moramo promijenit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konkretne ciljeve želimo ostvariti u dogovorenom prioritetnom području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ifičn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ljiv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ntn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nski </a:t>
                      </a: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niran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var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sve valja poduzimati da bi se ciljevi ostvaril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i je najbolji, najbrži, najučinkovitiji način?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to ostvariti s najmanje mogućih troškov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neiskorištene kreativne ljudske resurse možemo za to iskoristiti?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na procjena vremena koje je potrebno da bi se došlo do cil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ciljeve ostvariti što brže?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ko preuzima odgovornost za cijeli postupa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znamo da smo ostvarili ciljev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to možemo 'opipljivo' dokazati?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AC2-FECE-42A3-B534-07FAC85DA2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40720" y="-2896920"/>
            <a:ext cx="71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SAŽET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gledajte ide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jerite zahtjeve i ogra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3EA-7888-44DC-818B-4969BEB12E1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Sljedeći korac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išite što slij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oučavanje prihvaćenih ide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aberite najbolje ideje i uskladite mišljenja </a:t>
            </a:r>
            <a:r>
              <a:rPr b="1" lang="hr-HR" sz="3200" spc="-1" strike="noStrike">
                <a:solidFill>
                  <a:srgbClr val="808080"/>
                </a:solidFill>
                <a:latin typeface="Arial"/>
              </a:rPr>
              <a:t>DEFINIRATI TRI PRIORITETNA   RAZVOJNA CILJ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e korake koje trebate poduze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čnite ostvarivati ide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F90-4390-42EF-B2D2-0E305890A997}" type="slidenum">
              <a:t>15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92144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HVALA NA SURADNJI 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120024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AE8-8477-47D9-8C90-EFE3D4040EA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50160" y="-4395600"/>
            <a:ext cx="698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637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trenghts –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SN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eakneses –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SLAB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pportunities –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PRI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hreats -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PRIJET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E57-C176-4190-B488-8A395F1C8E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32720" y="-3363480"/>
            <a:ext cx="1540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206064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e8f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>
                        <a:alpha val="77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1749600" cy="133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24000" y="4005360"/>
            <a:ext cx="1486080" cy="116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154620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24000" y="1700280"/>
            <a:ext cx="2057400" cy="193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D9E-22E7-4FE6-BCCC-5E6C99A8AC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04000" y="-4330440"/>
            <a:ext cx="824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327400"/>
            <a:ext cx="822960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100" spc="-1" strike="noStrike">
                <a:solidFill>
                  <a:srgbClr val="000000"/>
                </a:solidFill>
                <a:latin typeface="Arial"/>
              </a:rPr>
              <a:t>GDJE SMO DANAS?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4E5-9F85-4536-BF79-8CE056AE54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59280" y="-4366800"/>
            <a:ext cx="22716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7200" spc="-1" strike="noStrike">
                <a:solidFill>
                  <a:srgbClr val="000000"/>
                </a:solidFill>
                <a:latin typeface="Arial"/>
              </a:rPr>
              <a:t>GDJE BI MOGLI BITI U BUDUĆNOSTI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552-EC20-4EA0-9910-A457486631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2997360"/>
            <a:ext cx="65008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000000"/>
                </a:solidFill>
                <a:latin typeface="Arial"/>
              </a:rPr>
              <a:t>JASNO ODREDITI ŠTO SE ANALIZOM ŽELI OSTVARI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1FA-D209-4D6D-9482-A5DFCD0183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ZAŠTO PROVODIMO ANALIZ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60640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poznavanje razvojnih potreb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upljanje podataka koji će pridonijeti razvoju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37A-CF51-46AF-8E97-8E193538CE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udite kreativ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lje slaba ideja nego nikakva (VAŠE MIŠLJENJE JE VAŽ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skirajte, ne cenzuriraj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 kritiziraj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branjena evalu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936-77FB-4497-89F9-F5864F35F291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32720" y="-4366800"/>
            <a:ext cx="1540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532720" y="6021360"/>
            <a:ext cx="15408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03280" y="206064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ite dobre stra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og čega je dobro biti učenik ili profesor u škol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su sve mane, nedostaci, loše stra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ne funkcionira dobr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traži poboljšanj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e8f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ite sve neiskorištene mogućnosti, neiskorištene potencijale koji bi školu učinili još bolj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sve okolnosti ugrožavaju i sprječavaju optimalan razvoj šk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i su rizici i ograničenj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5D0-2B90-4495-8BF5-3060F4A5BC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jic</cp:lastModifiedBy>
  <dcterms:modified xsi:type="dcterms:W3CDTF">2008-12-31T10:27:39Z</dcterms:modified>
  <cp:revision>10</cp:revision>
  <dc:subject/>
  <dc:title>PowerPointova prezentaci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50</vt:r8>
  </property>
  <property fmtid="{D5CDD505-2E9C-101B-9397-08002B2CF9AE}" pid="3" name="Version">
    <vt:r8>4</vt:r8>
  </property>
</Properties>
</file>