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5D0-9A9F-4B4A-80C8-D5F164D6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1F4-D2A2-4A41-A8DA-4516517E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4FC-97B5-4340-85B0-93A2E12E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08E-BFA1-4327-8EB5-0A164A81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2F8E-6462-4391-9B98-64EE206F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307B-09A9-4D2D-AEF3-234300D7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F41F-0795-4F7C-9CD0-8B653B16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9B6B-E7F2-4710-8308-E0303954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3863-C2B5-4415-BD3B-AC612E58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7D4B-13A3-49D7-8FB8-83B29BF2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1AD0-1A51-4B9A-BE55-5C8F864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A23-B492-46D8-AAC1-69B118CA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ADCC-AB45-4E42-AB20-866B19C3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B7F7-B95D-4FBF-9BAE-CC129FDB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976D-796F-4999-A688-5AB7353E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2080-7287-427C-B5BD-7A821152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DDA3-345F-4C5C-A36F-AD714865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410D8-C5B9-4C5A-8234-CC894E38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A56C-F5A4-4894-9332-50FE99D6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20EC-D44F-404D-BC89-E2E82F55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468B-2424-40E7-AE52-9A3BEF13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5C55-F4BC-438B-B069-CD2CAA4A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628-D312-4ACC-B224-4088BE81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4E96-3326-4CBA-BC47-F5386FD5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EDED5-DEBC-4605-B0EE-BE9DD671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9B0C-1EDA-4835-A7D7-478EDEC2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9CD0-9BCD-48C9-A247-9EB30632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F486-D852-4321-BCA2-7A10546B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97B4-7C3C-4D4E-A1EB-9817B720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9A70-E93C-44FF-BFDD-168AD2E0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9C729-55CD-4300-A849-84BAF1E1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C852-3630-43ED-B047-25D617B7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FBB94-553E-4182-8384-D1B281A9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10F-9837-480B-AF14-9B618103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BC007-AA06-475A-B525-C07327C7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3769-45BB-4EBB-83B5-5DE37C9D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C7E4C-5DF8-4E17-A6E7-92236610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B0855-BCDC-4C69-A26F-730632F9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0258-1A02-4CA5-90AF-85E1113D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0466-AFF4-4ABC-8E01-44C23C82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6AF92-2D85-4E66-A5E4-F7DA579F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DE24-5456-4606-9297-0F867977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9B9CC-7A90-4256-884A-2F0892CD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897A4-7316-41C7-BD9B-F40DBC6D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F07-9740-4A90-A7E2-C51ABDAC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21461-2BD5-4446-91B7-84BC74A3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D3DC-505C-4707-A415-E62E274D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86DF2-295B-4B61-9D16-755B8EB5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38245-654E-41D1-93C6-D6A45FDB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80921-D022-4C28-A8A2-F79931FB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948C2-A647-4667-907C-22343C5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7A4CE-12A0-47BA-AF07-6ABA71C2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E3858-B649-436A-B4BB-55D8A0A9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F0DB7-4633-4958-ABF7-FB728246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BAEC3-0A3C-44CB-83E5-35950482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B1C-7EF6-4E4B-B6AE-DED01C60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EA8A4-9FFC-41A5-BCD9-5B75D8C0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0E6B4-F6D0-4D06-B284-1CF19382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8E382-E900-4D02-84CA-CAAB7E6C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B748B-FB13-45E4-86EF-DF1E5938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3D2D9-5D48-4021-9CD6-46035280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E9CAA-872C-4E81-B384-D3794794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B532F-E4BB-4775-A254-58EB5D48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EBAED-F8C0-46B2-BF3F-C07F3E72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8C2BD-B5F4-44FE-A021-19396E7C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D808-7D2E-417D-9B2A-EAF7FEC3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E08-ADF7-4EBC-8E97-92F9A7EB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80D4D-651E-4E76-99A3-BF516D7E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B7D06-7CCB-4D17-9909-1645D8E1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AC97C-1187-4060-92B0-2F0B9958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D47EC-FBE5-4DD8-A893-7ACFEDB2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387F7-6F12-442D-99EA-B1C763F2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71128-DA65-4267-9C95-CF056AC2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48D19-5D6D-4DC3-9BFC-8A7AAF78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15B0A-7B97-4F45-90CB-6E0C8E69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AE5F4-38D6-4D82-80DE-7452E3C1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43C05-93DF-41A6-95B9-60CBF88C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DFF-F81E-4CB6-88E0-B5878A06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33845-C647-4FF2-8F46-86F4891D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F94AE-B69F-4AE5-BF20-FC3BF6EA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6FED5-161C-4F04-AC10-D2EDC1A0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8D514-6C18-4230-BBE1-32EBBB8A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52A6F-7E5F-4C95-B5F9-611DE214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BC7DA-27AB-43BB-AA31-7D28067A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B4FA7-124C-498B-83D3-88C9397D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9C29B-DFEE-4E9E-AF1E-31DA366C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0DDF6-E6BB-480E-A271-B67C1562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CDC55-F520-423B-9BD6-028696A8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FFF-1066-408B-A348-BBE7B074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7F06C-3289-4801-AB50-395C108B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BE210-8F9E-40D0-B106-4C6E2AD9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9E81E-2F19-4E01-911C-AE1C2EC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82DB7-C99B-4670-B402-5C0BFE6F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21EFB-DE26-4C6D-8145-3C62AFDF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4CEFA-3D71-45AD-8695-9E350C46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DC6AA-7C98-436D-AC7A-A6B1484D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0BA6-DCA6-45F2-B3DA-89D37C3CD888}" type="slidenum">
              <a:rPr b="0" lang="hr-H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avni poveznik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Ravni poveznik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Jednakokračni trokut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kutni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ravokutni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ravokutnik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ravokutnik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2A63-EE65-48DA-985E-FBC599739E09}" type="slidenum">
              <a:rPr b="0" lang="hr-H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kutni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ravokutni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8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80ff80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80f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EB23-ABBC-4AED-96C1-0766EA4851AB}" type="slidenum">
              <a:rPr b="0" lang="hr-HR" sz="1400" spc="-1" strike="noStrike">
                <a:solidFill>
                  <a:srgbClr val="80ff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avni poveznik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avni poveznik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Jednakokračni trokut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Jednakokračni trokut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2F19-E8F6-4218-A35E-9FC88B6C093F}" type="slidenum">
              <a:rPr b="0" lang="hr-H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avni poveznik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Jednakokračni trokut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5D8F-823D-4E80-9108-E794549DE80F}" type="slidenum">
              <a:rPr b="0" lang="hr-H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avni poveznik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avni poveznik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Jednakokračni trokut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CCD3-F3AF-4D46-B828-428DAF192722}" type="slidenum">
              <a:rPr b="0" lang="hr-H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avni poveznik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Jednakokračni trokut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ravokutnik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8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80ff80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80f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40D7-8EC1-40A8-8BB2-A593757EB8FB}" type="slidenum">
              <a:rPr b="0" lang="hr-HR" sz="1400" spc="-1" strike="noStrike">
                <a:solidFill>
                  <a:srgbClr val="80ff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avni poveznik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Jednakokračni trokut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Ravni poveznik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7C50-B6EE-4BAF-8E88-8FA13325590C}" type="slidenum">
              <a:rPr b="0" lang="hr-H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childdevelopment.com/parenting/self_esteem" TargetMode="External"/><Relationship Id="rId3" Type="http://schemas.openxmlformats.org/officeDocument/2006/relationships/hyperlink" Target="http://www.familyeducation.com/" TargetMode="External"/><Relationship Id="rId4" Type="http://schemas.openxmlformats.org/officeDocument/2006/relationships/hyperlink" Target="http://www.pta.org/programs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self-esteem-nase.or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Znak 398"/>
          <p:cNvPicPr/>
          <p:nvPr/>
        </p:nvPicPr>
        <p:blipFill>
          <a:blip r:embed="rId1"/>
          <a:stretch/>
        </p:blipFill>
        <p:spPr>
          <a:xfrm>
            <a:off x="2916360" y="981000"/>
            <a:ext cx="3295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Georgia"/>
              </a:rPr>
              <a:t>Što o sebi kaže dijete niskog samopoštovanja?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“</a:t>
            </a: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Mene nitko ne voli. Ne, nemam prijatelja. Nemam hobi. Htjela sam se baviti plesom ili ritmikom, ali nisam. A i u školi mi teško ide. Koliko god da učim, nikad ne dobijem dobru ocjenu. Da, ove godine sam bolja u matematici, ali ne znam ja to ništa.”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Georgia"/>
              </a:rPr>
              <a:t>Što o sebi kaže dijete niskog samopoštovanja?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0" y="2205000"/>
            <a:ext cx="3025800" cy="38163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2987640" y="1771560"/>
            <a:ext cx="554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“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Mene nitko ne voli. Ne, nemam prijatelja. Nemam hobi. Htjela sam se baviti plesom ili ritmikom, ali nisam. A i u školi mi teško ide. Koliko god da učim, nikad ne dobijem dobru ocjenu. Da, ove godine sam bolja u matematici, ali ne znam ja to ništa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BernhardMod BT"/>
              </a:rPr>
              <a:t>Osobine djeteta niskog samopoštovanja: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0" y="2205000"/>
            <a:ext cx="3025800" cy="381636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4"/>
          <p:cNvSpPr/>
          <p:nvPr/>
        </p:nvSpPr>
        <p:spPr>
          <a:xfrm>
            <a:off x="2987640" y="1484280"/>
            <a:ext cx="5543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N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ije zadovoljn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sobom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P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odcjenjuje se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I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ma negativno mišljenje o sebi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S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voje neuspjehe pripisuj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e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vlastitoj nesposobnosti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U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spjeh pripisuj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e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sre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ć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i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S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klon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je 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tra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ž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iti odobravanje od drugih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Oč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ekuje da će do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ž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ivjeti neuspjeh i da 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će ga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drugi odbaciti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Češće se sukobljava s roditeljim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99"/>
                </a:solidFill>
                <a:latin typeface="Georgia"/>
              </a:rPr>
              <a:t>Postoji li previsoko samopoštovanje?</a:t>
            </a:r>
            <a:endParaRPr b="0" lang="en-US" sz="36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BernhardMod BT"/>
              </a:rPr>
              <a:t>NE. Samopoštovanje je osobina koja nema dva suprotna pola. Kao što ne možemo biti previše zdravi, nije moguće imati ni previše samopoštovanja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BernhardMod BT"/>
              </a:rPr>
              <a:t>Problem je ipak kod onih ljudi koji svoje “samopoštovanje” baziraju na lažnim činjenicama (“Ja sam najpametniji, nema pametnije osobe od mene.”). Tu se radi o samoljublju a ne samopoštovanju!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Georgia"/>
              </a:rPr>
              <a:t>Razvoj samopoštovanja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 rot="20536200">
            <a:off x="2700000" y="1916280"/>
            <a:ext cx="2890800" cy="3273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6"/>
          <p:cNvSpPr/>
          <p:nvPr/>
        </p:nvSpPr>
        <p:spPr>
          <a:xfrm>
            <a:off x="293760" y="5273640"/>
            <a:ext cx="845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Georgia"/>
              </a:rPr>
              <a:t>Samopoštovanje nije urođeno, već se razvija tijekom života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54b37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c54b37"/>
                </a:solidFill>
                <a:latin typeface="Georgia"/>
              </a:rPr>
              <a:t>Prve znakove samopoštovanja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 u djece naziremo u drugoj godini života. U toj dobi djeca počinju shvaćati sebe same odvojeno od svoje majke i drugih značajnih osoba u njihovu životu.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S tri godine djeca počinju donositi prve sudove o sebi i vrednovati poruke koje dolaze iz vanjskog svijeta a odnose se na njih. U toj dobi pokazuju i snažnu želju učiniti nešto samostalno i stoga često čujemo NE i NEĆU kad im pokušavamo nešto nametnuti.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54b37"/>
                </a:solidFill>
                <a:latin typeface="BernhardMod BT"/>
              </a:rPr>
              <a:t>	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54b37"/>
                </a:solidFill>
                <a:latin typeface="BernhardMod BT"/>
              </a:rPr>
              <a:t>	</a:t>
            </a:r>
            <a:r>
              <a:rPr b="1" lang="hr-HR" sz="2600" spc="-1" strike="noStrike">
                <a:solidFill>
                  <a:srgbClr val="c54b37"/>
                </a:solidFill>
                <a:latin typeface="BernhardMod BT"/>
              </a:rPr>
              <a:t>U predškolskoj dobi</a:t>
            </a:r>
            <a:r>
              <a:rPr b="1" lang="hr-HR" sz="2600" spc="-1" strike="noStrike">
                <a:solidFill>
                  <a:srgbClr val="003366"/>
                </a:solidFill>
                <a:latin typeface="BernhardMod BT"/>
              </a:rPr>
              <a:t> intenzivno uče nove vještine (npr. vezanje cipela, crtanje i sl.), te postaju svjesna kako svojih interesa, tako i svojih sposobnosti u pojedinim područjima njihove aktivnosti. U ovoj dobi djeca prvi put svoj rad počinju uspoređivati s radom druge djece i tako stvaraju sliku o vlastitoj vrijednosti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54b37"/>
                </a:solidFill>
                <a:latin typeface="BernhardMod BT"/>
              </a:rPr>
              <a:t>	</a:t>
            </a:r>
            <a:r>
              <a:rPr b="1" lang="hr-HR" sz="2800" spc="-1" strike="noStrike">
                <a:solidFill>
                  <a:srgbClr val="c54b37"/>
                </a:solidFill>
                <a:latin typeface="Georgia"/>
              </a:rPr>
              <a:t>Polaskom u školu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 djeca se još intenzivnije počinju uspoređivati sa svojim vršnjacima (koliko je visoko u odnosu na druge, kako piše, koliko brzo računa ili trči). U školskoj sredini djeca imaju priliku prepoznati svoje dobre i loše strane.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U opisu sebe koriste riječi koje se odnose na: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njihove tjelesne, socijalne i intelektualne kompetentnosti,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percepciju funkcioniranja u školi,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osobine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 koje su vezane uz obitelj, vršnjake i svoju emocionalnu zrelost.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Georgia"/>
              </a:rPr>
              <a:t>Ima li razlika između dječaka i djevojčica?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3600" spc="-1" strike="noStrike">
                <a:solidFill>
                  <a:srgbClr val="003366"/>
                </a:solidFill>
                <a:latin typeface="Georgia"/>
              </a:rPr>
              <a:t>Kako to istraživanja pokazuju, dječacima su važnije njihove sposobnosti i talenti, a djevojčicama tjelesni izgled i uspjeh među vršnjacima.</a:t>
            </a:r>
            <a:endParaRPr b="0" lang="en-US" sz="3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BernhardMod BT"/>
              </a:rPr>
              <a:t>Da li se samopoštovanje mijenja?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DA. Čak se i osobe koje općenito imaju visoko samopoštovanje, ponekad nađu u razdoblju života u kojem se ne mogu pohvaliti dobrim mislima o samima sebi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Istraživanja pokazuju da je u srednjem (od 6. do 10. godine)  i kasnom djetinjstvu (od 10. do 12. godine) samopoštovanje uglavnom stabilno. 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U adolescenciji dolazi do mnogih promjena. Prema većini autora, početkom adolescencije (oko 12 godina) samopoštovanje uglavnom opada, a povećava se opet polaskom u srednju školu. Neki istraživači ukazuju da čak 1/6 adolescenata ima kronično nisko samopoštovanje. 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18920" y="501300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99"/>
                </a:solidFill>
                <a:latin typeface="Georgia"/>
              </a:rPr>
              <a:t>razvoj samopoštovanja kod školskog djeteta</a:t>
            </a:r>
            <a:endParaRPr b="0" lang="en-US" sz="36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214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99"/>
                </a:solidFill>
                <a:latin typeface="BernhardMod BT"/>
              </a:rPr>
              <a:t>Kako roditelji mogu pomoći razvoj samopoštovanja svoje djece?</a:t>
            </a:r>
            <a:endParaRPr b="0" lang="en-US" sz="36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 rot="20536200">
            <a:off x="2339640" y="2276280"/>
            <a:ext cx="33368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hr-HR" sz="2800" spc="-1" strike="noStrike">
                <a:solidFill>
                  <a:srgbClr val="000099"/>
                </a:solidFill>
                <a:latin typeface="BernhardMod BT"/>
              </a:rPr>
              <a:t>Djeca od roditelja i drugih značajnih osoba iz njihova života traže potvrdu da su voljena, važna, sposobna. Zbog toga značajnu ulogu u nastanku pozitivne slike kod djece imaju roditelji i druge odrasle osobe koje brinu o njima.</a:t>
            </a:r>
            <a:br>
              <a:rPr sz="2800"/>
            </a:br>
            <a:br>
              <a:rPr sz="2800"/>
            </a:br>
            <a:r>
              <a:rPr b="1" lang="hr-HR" sz="2800" spc="-1" strike="noStrike">
                <a:solidFill>
                  <a:srgbClr val="000099"/>
                </a:solidFill>
                <a:latin typeface="BernhardMod BT"/>
              </a:rPr>
              <a:t>Kako roditelji reagiraju na djetetov uspjeh, neuspjeh, odluke koje donosi, situacije u kojima se nađe, ono zaključuje ne samo iz njihovih verbalnih izjava, već i iz neverbalnih poruka, promatrajući stvarno ponašanje. 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54b37"/>
                </a:solidFill>
                <a:latin typeface="BernhardMod BT"/>
              </a:rPr>
              <a:t>	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Ne propustite priliku da djetetu ka</a:t>
            </a:r>
            <a:r>
              <a:rPr b="1" lang="hr-HR" sz="2800" spc="-1" strike="noStrike">
                <a:solidFill>
                  <a:srgbClr val="000099"/>
                </a:solidFill>
                <a:latin typeface="Georgia"/>
              </a:rPr>
              <a:t>ž</a:t>
            </a:r>
            <a:r>
              <a:rPr b="1" lang="hr-HR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ete što vam se svi</a:t>
            </a:r>
            <a:r>
              <a:rPr b="1" lang="hr-HR" sz="2800" spc="-1" strike="noStrike">
                <a:solidFill>
                  <a:srgbClr val="000099"/>
                </a:solidFill>
                <a:latin typeface="Georgia"/>
              </a:rPr>
              <a:t>đ</a:t>
            </a:r>
            <a:r>
              <a:rPr b="1" lang="hr-HR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a kod njega, što je dobro u</a:t>
            </a:r>
            <a:r>
              <a:rPr b="1" lang="hr-HR" sz="2800" spc="-1" strike="noStrike">
                <a:solidFill>
                  <a:srgbClr val="000099"/>
                </a:solidFill>
                <a:latin typeface="Georgia"/>
              </a:rPr>
              <a:t>č</a:t>
            </a:r>
            <a:r>
              <a:rPr b="1" lang="hr-HR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inilo i da ga volite.</a:t>
            </a:r>
            <a:endParaRPr b="0" lang="en-US" sz="28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Roditelji su često skloni djeci ukazivati samo na pogreške. Neka djeca nisu sigurna da ih roditelji vole samo zato što im to nikada ili dovoljno često nisu rekli. 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Reći djetetu da ga volimo, čak i kada je pogriješilo, ne mora značiti da prihvaćamo njegovo pogrešno ponašanje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Zagrljaj, osmijeh, pogled odobravanja i nježan dodir također su snažni izrazi ljubavi. 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Osjećaj da je voljeno, da je za nas posebno, snažno hrani djetetovo samopoštovanje. 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hr-HR" sz="3200" spc="-1" strike="noStrike">
                <a:solidFill>
                  <a:srgbClr val="000099"/>
                </a:solidFill>
                <a:latin typeface="BernhardMod BT"/>
              </a:rPr>
              <a:t>Pohvalite dijete kada je:</a:t>
            </a:r>
            <a:br>
              <a:rPr sz="3200"/>
            </a:br>
            <a:r>
              <a:rPr b="1" lang="hr-HR" sz="3200" spc="-1" strike="noStrike">
                <a:solidFill>
                  <a:srgbClr val="000099"/>
                </a:solidFill>
                <a:latin typeface="BernhardMod BT"/>
              </a:rPr>
              <a:t>Uspješno dovršilo neki zadatak ili obvezu: “Dobro si pokosio travu.”</a:t>
            </a:r>
            <a:br>
              <a:rPr sz="3200"/>
            </a:br>
            <a:r>
              <a:rPr b="1" lang="hr-HR" sz="3200" spc="-1" strike="noStrike">
                <a:solidFill>
                  <a:srgbClr val="000099"/>
                </a:solidFill>
                <a:latin typeface="BernhardMod BT"/>
              </a:rPr>
              <a:t>Pokazalo da ima talenta: “Jako lijep crtež. Imaš ukusa za odabir boja.” Tako ćete kod djeteta potaknuti interes za ativnosti koje mu pričinjaju zadovoljstvo i koje može samostalno obavljati.</a:t>
            </a:r>
            <a:br>
              <a:rPr sz="3200"/>
            </a:br>
            <a:r>
              <a:rPr b="1" lang="hr-HR" sz="3200" spc="-1" strike="noStrike">
                <a:solidFill>
                  <a:srgbClr val="000099"/>
                </a:solidFill>
                <a:latin typeface="BernhardMod BT"/>
              </a:rPr>
              <a:t>Iskazalo svoje dobre osobine: “Sviđa mi se kada priznaš da si pogriješila čak i onda kada ti je teško.”</a:t>
            </a:r>
            <a:r>
              <a:rPr b="0" lang="hr-HR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br>
              <a:rPr sz="4000"/>
            </a:br>
            <a:r>
              <a:rPr b="0" lang="hr-HR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50920" y="476280"/>
            <a:ext cx="8447040" cy="586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54b37"/>
                </a:solidFill>
                <a:latin typeface="BernhardMod BT"/>
              </a:rPr>
              <a:t>	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Georgia"/>
              </a:rPr>
              <a:t>Ne kritizirajte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U ljutnji, koju je izazvalo djetetovo ponašanje, neki roditelji izgovaraju kritike na njegov račun. Zbog njih se ono osjeća nevoljeno i povrijeđeno. 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“Smotan si. Ništa ne možeš učiniti kako treba.”,  “Zločesta si.”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Roditelji se prema svojoj djeci trebaju ponašati na isti način kako žele da to čine osobe koje su djetetu nepoznate.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Nikad ne kritizirajte dijete (“Ti si loš dje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č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ak.”), ve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ć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 njegovo ponašanje (“To što 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č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iniš je loše.”).</a:t>
            </a:r>
            <a:r>
              <a:rPr b="1" lang="en-GB" sz="2800" spc="-1" strike="noStrike">
                <a:solidFill>
                  <a:srgbClr val="99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99"/>
                </a:solidFill>
                <a:latin typeface="Georgia"/>
              </a:rPr>
              <a:t>Učite dijete pozitivnom govoru</a:t>
            </a:r>
            <a:endParaRPr b="0" lang="en-US" sz="36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BernhardMod BT"/>
              </a:rPr>
              <a:t>	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600" spc="-1" strike="noStrike">
                <a:solidFill>
                  <a:srgbClr val="003366"/>
                </a:solidFill>
                <a:latin typeface="Georgia"/>
              </a:rPr>
              <a:t>Istraživanja su pokazala da se uglavnom osjećamo onako kako se ponašamo i onako kako govorimo. Što više dijete spominje dobre stvari o samome sebi, to će više biti uvjereno u ono što govori. Zato, potičite dijete da govori pozitivno o sebi i drugima: “Mislim da mogu rješiti ovaj problem ako se potrudim.” 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Georgia"/>
                <a:ea typeface="Times New Roman"/>
              </a:rPr>
              <a:t>Pomozite djetetu da nau</a:t>
            </a:r>
            <a:r>
              <a:rPr b="1" lang="hr-HR" sz="3200" spc="-1" strike="noStrike">
                <a:solidFill>
                  <a:srgbClr val="000099"/>
                </a:solidFill>
                <a:latin typeface="Georgia"/>
              </a:rPr>
              <a:t>č</a:t>
            </a:r>
            <a:r>
              <a:rPr b="1" lang="hr-HR" sz="3200" spc="-1" strike="noStrike">
                <a:solidFill>
                  <a:srgbClr val="000099"/>
                </a:solidFill>
                <a:latin typeface="Georgia"/>
                <a:ea typeface="Times New Roman"/>
              </a:rPr>
              <a:t>i donositi odluke</a:t>
            </a:r>
            <a:r>
              <a:rPr b="1" lang="hr-HR" sz="3200" spc="-1" strike="noStrike">
                <a:solidFill>
                  <a:srgbClr val="000099"/>
                </a:solidFill>
                <a:latin typeface="Georgia"/>
              </a:rPr>
              <a:t> i</a:t>
            </a:r>
            <a:r>
              <a:rPr b="1" lang="hr-HR" sz="3200" spc="-1" strike="noStrike">
                <a:solidFill>
                  <a:srgbClr val="000099"/>
                </a:solidFill>
                <a:latin typeface="Georgia"/>
                <a:ea typeface="Times New Roman"/>
              </a:rPr>
              <a:t> rješavati probleme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Već mlađa djeca (3 i više godina) su sposobna donositi prve odluke (ako im to dopustite): </a:t>
            </a:r>
            <a:r>
              <a:rPr b="1" i="1" lang="hr-HR" sz="2800" spc="-1" strike="noStrike">
                <a:solidFill>
                  <a:srgbClr val="003366"/>
                </a:solidFill>
                <a:latin typeface="Georgia"/>
              </a:rPr>
              <a:t>“Želiš li obući plave ili zelene čarape?”,”Koji sok želiš?”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Starija djeca spremna su donositi i važnije odluke, pogotovo ako ih na to pripremite.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Samostalno donošenje odluka i rješavanje problema prilika je za dijete da preuzme odgovornost za svoje ponašanje. Naučit će da svi ponekad griješimo u svojim odlukama i da se greške mogu ispraviti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54b37"/>
                </a:solidFill>
                <a:latin typeface="Georgia"/>
              </a:rPr>
              <a:t>I ne zaboravite: ljudski je griješiti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Georgia"/>
              </a:rPr>
              <a:t>Učite dijete da si postavlja i ostvaruje ciljeve: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BernhardMod BT"/>
              </a:rPr>
              <a:t>Vrlo je važno da su ciljevi realni s obzirom na djetetovu dob i sposobnosti. Ciljevi koji su djetetu neostvarivi vode ga k razočarenju i osjećaju bespomoćnosti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cc"/>
                </a:solidFill>
                <a:latin typeface="BernhardMod BT"/>
              </a:rPr>
              <a:t>	</a:t>
            </a:r>
            <a:r>
              <a:rPr b="0" lang="hr-HR" sz="2400" spc="-1" strike="noStrike">
                <a:solidFill>
                  <a:srgbClr val="cc3300"/>
                </a:solidFill>
                <a:latin typeface="BernhardMod BT"/>
              </a:rPr>
              <a:t>Znate li priču o buhi koja je uhvačena u kutiju šibica? Skakala je i skakala ne bi li izašla na svjetlo dana, međutim, stalno je udarala u poklopac kutijice. Na koncu se umorila. A kad su kutijicu otvorili... ona više nije niti pokušavala</a:t>
            </a:r>
            <a:r>
              <a:rPr b="0" lang="hr-HR" sz="2400" spc="-1" strike="noStrike">
                <a:solidFill>
                  <a:srgbClr val="3366cc"/>
                </a:solidFill>
                <a:latin typeface="BernhardMod BT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BernhardMod BT"/>
              </a:rPr>
              <a:t>Za ostvarenje ciljeva potrebno je odrediti male ciljeve-korake čije ostvarenje će dijete dovesti do konačnog cilja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Georgia"/>
              </a:rPr>
              <a:t>I još nekoliko malih savjeta: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Pružite djetetu priliku da pomogne drugima (npr. nekom vršnjaku, mlađem djetetu ili starijoj osobi)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Va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ž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no je djetetu omogu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ć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iti i poticati ga da otvoreno govori o svojim osje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ć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ajima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Pomozite mu da realno prihvati svoje jake strane kao i slabosti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Razgovarajte s njim o njegovim korijenima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Ne uspoređujte ga s braćom i sestrama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Neka humor bude prisutan u vašem domu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be03">
              <a:alpha val="3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Georgia"/>
              </a:rPr>
              <a:t>Ne zaboravite:</a:t>
            </a:r>
            <a:endParaRPr b="0" lang="en-US" sz="3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BernhardMod BT"/>
              </a:rPr>
              <a:t>Informacije koje djeci (i odraslima) daju njima važne osobe (roditelji, učitelji, rođaci i prijatelji), ujedno i najviše utječu na njihovo samopoštovanje. Zato je djeci važno dati do znanja kada su nešto učinila dobro te im dati do znanja da se i greške mogu ispravljati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000099"/>
                </a:solidFill>
                <a:latin typeface="Georgia"/>
              </a:rPr>
              <a:t>Samopoštovanje je...</a:t>
            </a:r>
            <a:endParaRPr b="0" lang="en-US" sz="54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 rot="20118600">
            <a:off x="755280" y="1773000"/>
            <a:ext cx="2724120" cy="34192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5"/>
          <p:cNvSpPr/>
          <p:nvPr/>
        </p:nvSpPr>
        <p:spPr>
          <a:xfrm>
            <a:off x="3492360" y="198900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Georgia"/>
              </a:rPr>
              <a:t>negativna ili pozitivna slika o sebi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To je način na koji vrednujemo ono što činimo, ono što jesmo i rezultate koje postižem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Georgia"/>
              </a:rPr>
              <a:t>Literatura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417" name="Picture 5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53920" cy="1413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7"/>
          <p:cNvSpPr/>
          <p:nvPr/>
        </p:nvSpPr>
        <p:spPr>
          <a:xfrm>
            <a:off x="468360" y="191628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Bezinović, P. i Lacković-Grgin, K. (1990.). Percepcija vlastite kompetentnosti, tjelesnog izgleda i samopoštovanja kod 10-godišnje djece, </a:t>
            </a:r>
            <a:r>
              <a:rPr b="1" i="1" lang="hr-HR" sz="1800" spc="-1" strike="noStrike">
                <a:solidFill>
                  <a:srgbClr val="003366"/>
                </a:solidFill>
                <a:latin typeface="Arial"/>
              </a:rPr>
              <a:t>Primjenjena psihologija,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11.,71-79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Brajković, S. Živković, Ž. (2002.). </a:t>
            </a:r>
            <a:r>
              <a:rPr b="1" i="1" lang="hr-HR" sz="1800" spc="-1" strike="noStrike">
                <a:solidFill>
                  <a:srgbClr val="003366"/>
                </a:solidFill>
                <a:latin typeface="Arial"/>
              </a:rPr>
              <a:t>Ja to mogu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. Osijek: Nanse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Dinkmeyer, D.Sr., McKay, G. D. (1997.). </a:t>
            </a:r>
            <a:r>
              <a:rPr b="1" i="1" lang="hr-HR" sz="1800" spc="-1" strike="noStrike">
                <a:solidFill>
                  <a:srgbClr val="003366"/>
                </a:solidFill>
                <a:latin typeface="Arial"/>
              </a:rPr>
              <a:t>The Parents Handbook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. Minnesota: AG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Lacković-Grgin, K. (1994.). </a:t>
            </a:r>
            <a:r>
              <a:rPr b="1" i="1" lang="hr-HR" sz="1800" spc="-1" strike="noStrike">
                <a:solidFill>
                  <a:srgbClr val="003366"/>
                </a:solidFill>
                <a:latin typeface="Arial"/>
              </a:rPr>
              <a:t>Samopoimanje mladih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. Jastrebarsko: Naklada Sla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Lindenfield, G. (2001.). </a:t>
            </a:r>
            <a:r>
              <a:rPr b="1" i="1" lang="hr-HR" sz="1800" spc="-1" strike="noStrike">
                <a:solidFill>
                  <a:srgbClr val="003366"/>
                </a:solidFill>
                <a:latin typeface="Arial"/>
              </a:rPr>
              <a:t>Confident teens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. London: Thors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Severe, S. (2000.). </a:t>
            </a:r>
            <a:r>
              <a:rPr b="1" i="1" lang="hr-HR" sz="1800" spc="-1" strike="noStrike">
                <a:solidFill>
                  <a:srgbClr val="003366"/>
                </a:solidFill>
                <a:latin typeface="Arial"/>
              </a:rPr>
              <a:t>How to Behave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. London: Vrmil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childdevelopment.com/parenting/self_este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familyeducation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www.kidsource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www.pta.org/progra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Georgia"/>
              </a:rPr>
              <a:t>Preporučujemo: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420" name="Picture 3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53920" cy="14130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4"/>
          <p:cNvSpPr/>
          <p:nvPr/>
        </p:nvSpPr>
        <p:spPr>
          <a:xfrm>
            <a:off x="324000" y="198900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iljković, D. (1996). Roditelji i dječje samopouzdanje,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Zrno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, 46.,8-1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elač-Hrupelj, J., Miljković D., Lugomer Armano, G. I sur. (2000.)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Lijepo je biti roditelj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 Zagreb: Kreati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iljković, D. (1996).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Pomozite svojoj djeci da razviju samopouzdanj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, Đakovo: Temp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iljković, D. I Rijavec, M. (2002).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Bolje biti vjetar nego list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 Zagreb: IE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iljković, D. I Rijavec, M.(1994).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Čuda se ipak događaju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 Zagreb: IE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ullo, R. A. (1995).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Učite ih da budu sretni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 Zagreb: Alin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www.school.discovery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self-esteem-nase.or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29672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99"/>
                </a:solidFill>
                <a:latin typeface="Bookman Old Style"/>
              </a:rPr>
              <a:t>Zašto je poželjno da djeca imaju visoko samopoštovanje?</a:t>
            </a:r>
            <a:endParaRPr b="0" lang="en-US" sz="36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4716360" cy="3478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 rot="1129800">
            <a:off x="5724000" y="2781360"/>
            <a:ext cx="27244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Način na koji dijete vidi samo sebe, značajno utječe na njegove osjećaje, njegov rad i naposljetku na njegovo postignuće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Što dijete ima veće samopoštovanje, bit će samouvjerenije u svoje sposobnosti, lakše će nalaziti prijatelje, lakše donositi odluke. Ukratko, djeca visokog samopoštovanja općenito su uspješnija u životu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Samopoštovanje utječe na školski uspjeh. Djeca koja imaju pozitivno mišljenje o sebi, češće imaju bolji uspjeh u školi. Dobar školski uspjeh opet povećava njihovo samopoštovanje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Djeca koja imaju lošiji uspjeh u školi, često imaju i nisko samopoštovanje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Istraživanja su pokazala da nisko samopoštovanje kod većine djece može pridonijeti (uz neke druge okolnosti kao što su stresne situacije) emocionalnim problemima, a može doći i do depresije, maloljetničke delikvencije, anoreksije i drugih ozbiljnih psihičkih poremećaja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Djeca visokog samopoštovanja znaju se oduprijeti negativnom utjecaju vršnjaka: lakše će odbiti ponuđen alkohol ili drogu. Takva djeca lakše izlaze na kraj sa svim životnim izazovima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Georgia"/>
              </a:rPr>
              <a:t>Što o sebi kaže dijete visokog samopoštovanja?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0" y="2205000"/>
            <a:ext cx="3025800" cy="38163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5"/>
          <p:cNvSpPr/>
          <p:nvPr/>
        </p:nvSpPr>
        <p:spPr>
          <a:xfrm>
            <a:off x="2987640" y="1771560"/>
            <a:ext cx="554364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“</a:t>
            </a: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Volim se igrati s drugom djecom. Uglavnom se dobro slažemo. U razredu imam zaista puno prijatelja. Što se tiče učenja, mogu reći da sam dobar učenik. Ipak, dogodi mi se i pokoja loša ocjena. To je uglavnom onda kada se nisam dovoljno trudio. Imam mnogo hobija: igram nogomet s dečkima, izrađujem makete i sviram gitaru. Kako sve uspjevam? Pa to je bar lako!”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Georgia"/>
              </a:rPr>
              <a:t>Osobine djeteta visokog samopoštovanja: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24000" y="162864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Lako sklapa prijateljstva i uspješno se zabavlja samo ili u društvu s drugom djecom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Veselo je i puno energije, koju često prenosi i na drugu djecu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Uspješno surađuje s vršnjacima i odraslima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Zna donositi odluke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Kreativno je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Sigurno je u svoje sposobnosti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R</a:t>
            </a:r>
            <a:r>
              <a:rPr b="0" lang="en-GB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ad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i</a:t>
            </a:r>
            <a:r>
              <a:rPr b="0" lang="en-GB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 bolje i uz manji napor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Z</a:t>
            </a:r>
            <a:r>
              <a:rPr b="0" lang="en-GB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adovoljnij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e je</a:t>
            </a:r>
            <a:r>
              <a:rPr b="0" lang="en-GB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 svojim 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radom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O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ekuje uspjeh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2987640" y="1771560"/>
            <a:ext cx="554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 rot="1129800">
            <a:off x="5724000" y="2781360"/>
            <a:ext cx="27244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23:37:07Z</dcterms:created>
  <dc:creator>sanja</dc:creator>
  <dc:description/>
  <dc:language>en-US</dc:language>
  <cp:lastModifiedBy>Kreso Stojic</cp:lastModifiedBy>
  <dcterms:modified xsi:type="dcterms:W3CDTF">2009-05-15T19:51:14Z</dcterms:modified>
  <cp:revision>19</cp:revision>
  <dc:subject/>
  <dc:title>Slide 1</dc:title>
</cp:coreProperties>
</file>