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.jpeg" ContentType="image/jpeg"/>
  <Override PartName="/ppt/media/image36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CA0C-B64A-4311-8547-CEA12824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396-279C-459F-9B12-533003BF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FA85-54C5-41B4-996F-1991654A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22D-0AFB-4262-A8A1-F06BE9E1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5FB-5094-4CCA-9B14-BCC55AA7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F6F-6D76-4374-9367-02010379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640B-DCF1-4082-AA24-8AA08B2E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8A69-F50B-4ADE-A8FA-0724AF6E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F5E-5B14-40F3-AEA1-EE312584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273-1357-43E5-8438-EA2BF1E7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F78-9370-45FE-AF35-C72D04A5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EA8-93E5-44FD-986C-6FFAFB76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E361-4F58-43E6-B6F0-326575C2EC76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3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2895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Arial"/>
              </a:rPr>
              <a:t>Prostor i volum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85800" y="1219320"/>
            <a:ext cx="655308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ostor je stvarnost u kojoj živimo i u kojoj se krećemo.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Doživljavamo ga kroz tri dimenzi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širin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dužin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visin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li i kroz nizanje doživljenih trenutaka u određenom trajanju zbog čega možemo dodati i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vrijem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kao četvrtu dimenziju prostora.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lbert Einstein: 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prostor-vrijem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kao jedan, nedjeljiv poj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ivid prostora na plohi – </a:t>
            </a:r>
            <a:r>
              <a:rPr b="0" lang="hr-HR" sz="1600" spc="-1" strike="noStrike">
                <a:solidFill>
                  <a:srgbClr val="993300"/>
                </a:solidFill>
                <a:latin typeface="Arial"/>
              </a:rPr>
              <a:t>perspektiv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D:\predavanja\Prostor i volumen\Arkade.jpg"/>
          <p:cNvPicPr/>
          <p:nvPr/>
        </p:nvPicPr>
        <p:blipFill>
          <a:blip r:embed="rId1"/>
          <a:stretch/>
        </p:blipFill>
        <p:spPr>
          <a:xfrm>
            <a:off x="762120" y="3740040"/>
            <a:ext cx="3429000" cy="2657520"/>
          </a:xfrm>
          <a:prstGeom prst="rect">
            <a:avLst/>
          </a:prstGeom>
          <a:ln w="0">
            <a:noFill/>
          </a:ln>
        </p:spPr>
      </p:pic>
      <p:sp>
        <p:nvSpPr>
          <p:cNvPr id="44" name="Line 6"/>
          <p:cNvSpPr/>
          <p:nvPr/>
        </p:nvSpPr>
        <p:spPr>
          <a:xfrm>
            <a:off x="5638680" y="380988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7"/>
          <p:cNvSpPr/>
          <p:nvPr/>
        </p:nvSpPr>
        <p:spPr>
          <a:xfrm>
            <a:off x="6400800" y="32004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 flipV="1">
            <a:off x="5562720" y="3733920"/>
            <a:ext cx="144756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6141960" y="29289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6172200" y="521172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ol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5105520" y="35812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lije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7479720" y="44956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es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4843800" y="4713120"/>
            <a:ext cx="766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naprij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6994080" y="3505320"/>
            <a:ext cx="61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atr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Linijski istanjena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652040" y="6205680"/>
            <a:ext cx="33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lberto Giacometti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Čovjek koji pokazuj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4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D:\predavanja\prostor i vol. mali\A. Giacometti.jpg"/>
          <p:cNvPicPr/>
          <p:nvPr/>
        </p:nvPicPr>
        <p:blipFill>
          <a:blip r:embed="rId1"/>
          <a:stretch/>
        </p:blipFill>
        <p:spPr>
          <a:xfrm>
            <a:off x="5259240" y="0"/>
            <a:ext cx="3884760" cy="6856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D:\predavanja\prostor i vol. mali\dalekovod.jpg"/>
          <p:cNvPicPr/>
          <p:nvPr/>
        </p:nvPicPr>
        <p:blipFill>
          <a:blip r:embed="rId2"/>
          <a:stretch/>
        </p:blipFill>
        <p:spPr>
          <a:xfrm>
            <a:off x="746280" y="1295280"/>
            <a:ext cx="2454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5165640" y="6202440"/>
            <a:ext cx="36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Henry Cartier Bresson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Alberto Giacometti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6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D:\predavanja\prostor i vol. mali\Henri Cartier Bresson.Alberto Giacometti.1961.jpg"/>
          <p:cNvPicPr/>
          <p:nvPr/>
        </p:nvPicPr>
        <p:blipFill>
          <a:blip r:embed="rId1"/>
          <a:stretch/>
        </p:blipFill>
        <p:spPr>
          <a:xfrm>
            <a:off x="341280" y="0"/>
            <a:ext cx="46116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685080" y="380880"/>
            <a:ext cx="3760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životinj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linijski istanjena mas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žic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deliranje i građ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9" descr="D:\predavanja\prostor i vol. mali\zica 3.jpg"/>
          <p:cNvPicPr/>
          <p:nvPr/>
        </p:nvPicPr>
        <p:blipFill>
          <a:blip r:embed="rId1"/>
          <a:stretch/>
        </p:blipFill>
        <p:spPr>
          <a:xfrm>
            <a:off x="5257800" y="388800"/>
            <a:ext cx="3581280" cy="2887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D:\predavanja\prostor i vol. mali\zica 2.jpg"/>
          <p:cNvPicPr/>
          <p:nvPr/>
        </p:nvPicPr>
        <p:blipFill>
          <a:blip r:embed="rId2"/>
          <a:stretch/>
        </p:blipFill>
        <p:spPr>
          <a:xfrm>
            <a:off x="5257800" y="3662280"/>
            <a:ext cx="3657600" cy="2738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D:\predavanja\prostor i vol. mali\zica 1.jpg"/>
          <p:cNvPicPr/>
          <p:nvPr/>
        </p:nvPicPr>
        <p:blipFill>
          <a:blip r:embed="rId3"/>
          <a:stretch/>
        </p:blipFill>
        <p:spPr>
          <a:xfrm>
            <a:off x="2898720" y="3657600"/>
            <a:ext cx="2054160" cy="2743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D:\predavanja\prostor i vol. mali\zica 4.jpg"/>
          <p:cNvPicPr/>
          <p:nvPr/>
        </p:nvPicPr>
        <p:blipFill>
          <a:blip r:embed="rId4"/>
          <a:stretch/>
        </p:blipFill>
        <p:spPr>
          <a:xfrm>
            <a:off x="399960" y="3657600"/>
            <a:ext cx="2114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Geometrijska tij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D:\predavanja\prostor i vol. mali\zgrada kockica.jpg"/>
          <p:cNvPicPr/>
          <p:nvPr/>
        </p:nvPicPr>
        <p:blipFill>
          <a:blip r:embed="rId1"/>
          <a:stretch/>
        </p:blipFill>
        <p:spPr>
          <a:xfrm>
            <a:off x="5257800" y="2575080"/>
            <a:ext cx="3581280" cy="268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D:\predavanja\prostor i vol. mali\papir.tijela1.jpg"/>
          <p:cNvPicPr/>
          <p:nvPr/>
        </p:nvPicPr>
        <p:blipFill>
          <a:blip r:embed="rId2"/>
          <a:stretch/>
        </p:blipFill>
        <p:spPr>
          <a:xfrm>
            <a:off x="380880" y="1719360"/>
            <a:ext cx="472464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7"/>
          <p:cNvSpPr/>
          <p:nvPr/>
        </p:nvSpPr>
        <p:spPr>
          <a:xfrm>
            <a:off x="685080" y="685800"/>
            <a:ext cx="3760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likovni i kompozicijski elementi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ao poticaj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geometrijska tijel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geometrijska tijel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apir plastik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deliranje i građ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8" descr="D:\predavanja\prostor i vol. mali\papir.tijela4.jpg"/>
          <p:cNvPicPr/>
          <p:nvPr/>
        </p:nvPicPr>
        <p:blipFill>
          <a:blip r:embed="rId1"/>
          <a:stretch/>
        </p:blipFill>
        <p:spPr>
          <a:xfrm>
            <a:off x="762120" y="3852720"/>
            <a:ext cx="3504960" cy="2548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D:\predavanja\prostor i vol. mali\papir.tijela3.jpg"/>
          <p:cNvPicPr/>
          <p:nvPr/>
        </p:nvPicPr>
        <p:blipFill>
          <a:blip r:embed="rId2"/>
          <a:stretch/>
        </p:blipFill>
        <p:spPr>
          <a:xfrm>
            <a:off x="4952880" y="3844800"/>
            <a:ext cx="3581640" cy="255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D:\predavanja\prostor i vol. mali\papir.tijela2.jpg"/>
          <p:cNvPicPr/>
          <p:nvPr/>
        </p:nvPicPr>
        <p:blipFill>
          <a:blip r:embed="rId3"/>
          <a:stretch/>
        </p:blipFill>
        <p:spPr>
          <a:xfrm>
            <a:off x="4952880" y="785880"/>
            <a:ext cx="35816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6777000" y="6278400"/>
            <a:ext cx="23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aum Gabo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Glava br. 2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61400" y="380880"/>
            <a:ext cx="3760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reprodukcij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lošno istanjena mas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ljepenk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deliranje i građ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D:\predavanja\prostor i vol. mali\Naum Gabo. Glava br. 2.jpg"/>
          <p:cNvPicPr/>
          <p:nvPr/>
        </p:nvPicPr>
        <p:blipFill>
          <a:blip r:embed="rId1"/>
          <a:stretch/>
        </p:blipFill>
        <p:spPr>
          <a:xfrm>
            <a:off x="5181480" y="482760"/>
            <a:ext cx="3746520" cy="5765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D:\predavanja\prostor i vol. mali\plosno istanjen 5.jpg"/>
          <p:cNvPicPr/>
          <p:nvPr/>
        </p:nvPicPr>
        <p:blipFill>
          <a:blip r:embed="rId2"/>
          <a:stretch/>
        </p:blipFill>
        <p:spPr>
          <a:xfrm>
            <a:off x="851040" y="3708360"/>
            <a:ext cx="28828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D:\predavanja\prostor i vol. mali\plosno istanjen 2.jpg"/>
          <p:cNvPicPr/>
          <p:nvPr/>
        </p:nvPicPr>
        <p:blipFill>
          <a:blip r:embed="rId1"/>
          <a:stretch/>
        </p:blipFill>
        <p:spPr>
          <a:xfrm>
            <a:off x="762120" y="228600"/>
            <a:ext cx="3514680" cy="3657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D:\predavanja\prostor i vol. mali\plosno istanjen 1.jpg"/>
          <p:cNvPicPr/>
          <p:nvPr/>
        </p:nvPicPr>
        <p:blipFill>
          <a:blip r:embed="rId2"/>
          <a:stretch/>
        </p:blipFill>
        <p:spPr>
          <a:xfrm>
            <a:off x="762120" y="4114800"/>
            <a:ext cx="5105160" cy="2562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D:\predavanja\prostor i vol. mali\plosno istanjen 3.jpg"/>
          <p:cNvPicPr/>
          <p:nvPr/>
        </p:nvPicPr>
        <p:blipFill>
          <a:blip r:embed="rId3"/>
          <a:stretch/>
        </p:blipFill>
        <p:spPr>
          <a:xfrm>
            <a:off x="4952880" y="228600"/>
            <a:ext cx="3382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04200" y="304920"/>
            <a:ext cx="3760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rib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lošno istanjena mas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apir plastik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deliranje i građ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D:\predavanja\prostor i vol. mali\ribe1.jpg"/>
          <p:cNvPicPr/>
          <p:nvPr/>
        </p:nvPicPr>
        <p:blipFill>
          <a:blip r:embed="rId1"/>
          <a:stretch/>
        </p:blipFill>
        <p:spPr>
          <a:xfrm>
            <a:off x="4343400" y="314280"/>
            <a:ext cx="4343400" cy="3038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D:\predavanja\prostor i vol. mali\ribe2.jpg"/>
          <p:cNvPicPr/>
          <p:nvPr/>
        </p:nvPicPr>
        <p:blipFill>
          <a:blip r:embed="rId2"/>
          <a:stretch/>
        </p:blipFill>
        <p:spPr>
          <a:xfrm>
            <a:off x="4343400" y="3581280"/>
            <a:ext cx="434340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Mob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447920" y="6202440"/>
            <a:ext cx="268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lexander Calder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Mali pauk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D:\predavanja\prostor i vol. mali\A. Calder.jpg"/>
          <p:cNvPicPr/>
          <p:nvPr/>
        </p:nvPicPr>
        <p:blipFill>
          <a:blip r:embed="rId1"/>
          <a:stretch/>
        </p:blipFill>
        <p:spPr>
          <a:xfrm>
            <a:off x="4095720" y="0"/>
            <a:ext cx="50482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761400" y="380880"/>
            <a:ext cx="3760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likovni i kompozicijski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elementi kao poticaj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bil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ravnotež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600"/>
            </a:b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lošno istanjena mas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apir plastik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deliranje i građ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7" descr="D:\predavanja\prostor i vol. mali\mobil1.jpg"/>
          <p:cNvPicPr/>
          <p:nvPr/>
        </p:nvPicPr>
        <p:blipFill>
          <a:blip r:embed="rId1"/>
          <a:stretch/>
        </p:blipFill>
        <p:spPr>
          <a:xfrm>
            <a:off x="3429000" y="3200400"/>
            <a:ext cx="249876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D:\predavanja\prostor i vol. mali\mobil2.jpg"/>
          <p:cNvPicPr/>
          <p:nvPr/>
        </p:nvPicPr>
        <p:blipFill>
          <a:blip r:embed="rId2"/>
          <a:stretch/>
        </p:blipFill>
        <p:spPr>
          <a:xfrm>
            <a:off x="6248520" y="3200400"/>
            <a:ext cx="2511360" cy="3352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D:\predavanja\prostor i vol. mali\mobil4.jpg"/>
          <p:cNvPicPr/>
          <p:nvPr/>
        </p:nvPicPr>
        <p:blipFill>
          <a:blip r:embed="rId3"/>
          <a:stretch/>
        </p:blipFill>
        <p:spPr>
          <a:xfrm>
            <a:off x="5181480" y="345960"/>
            <a:ext cx="350532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43600" y="685440"/>
            <a:ext cx="312408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nutarnji i vanjski pro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648320" y="35812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anjski prostor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nutarnji pro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928560" y="3505320"/>
            <a:ext cx="20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Henry Moore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Ležeća fig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1" descr="D:\predavanja\prostor i vol. mali\unutrasnji i vanjski prostor.jpg"/>
          <p:cNvPicPr/>
          <p:nvPr/>
        </p:nvPicPr>
        <p:blipFill>
          <a:blip r:embed="rId1"/>
          <a:stretch/>
        </p:blipFill>
        <p:spPr>
          <a:xfrm>
            <a:off x="0" y="0"/>
            <a:ext cx="475308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D:\predavanja\prostor i vol. mali\Henry Moore.jpg"/>
          <p:cNvPicPr/>
          <p:nvPr/>
        </p:nvPicPr>
        <p:blipFill>
          <a:blip r:embed="rId2"/>
          <a:stretch/>
        </p:blipFill>
        <p:spPr>
          <a:xfrm>
            <a:off x="5181480" y="1125360"/>
            <a:ext cx="37339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D:\predavanja\prostor i vol. mali\mobil3.jpg"/>
          <p:cNvPicPr/>
          <p:nvPr/>
        </p:nvPicPr>
        <p:blipFill>
          <a:blip r:embed="rId1"/>
          <a:stretch/>
        </p:blipFill>
        <p:spPr>
          <a:xfrm>
            <a:off x="378000" y="685800"/>
            <a:ext cx="4041720" cy="5410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D:\predavanja\prostor i vol. mali\mobil5.jpg"/>
          <p:cNvPicPr/>
          <p:nvPr/>
        </p:nvPicPr>
        <p:blipFill>
          <a:blip r:embed="rId2"/>
          <a:stretch/>
        </p:blipFill>
        <p:spPr>
          <a:xfrm>
            <a:off x="4800600" y="685800"/>
            <a:ext cx="404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106668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Relj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9144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. Uleknuti reljef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. Niski reljef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3. Visoki relje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775520" y="6019920"/>
            <a:ext cx="302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iski reljef s prizorom kralja (Zvonimira?), 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1. st.,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Split, vjerojatno iz Sol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D:\predavanja\prostor i vol. mali\Solin.jpg"/>
          <p:cNvPicPr/>
          <p:nvPr/>
        </p:nvPicPr>
        <p:blipFill>
          <a:blip r:embed="rId1"/>
          <a:stretch/>
        </p:blipFill>
        <p:spPr>
          <a:xfrm>
            <a:off x="4876920" y="457200"/>
            <a:ext cx="3806640" cy="6019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D:\predavanja2\Prostor i volumen\Amenhotep IV s Nefretiti. Egipat2. 1360.g.p.n.e.jpg"/>
          <p:cNvPicPr/>
          <p:nvPr/>
        </p:nvPicPr>
        <p:blipFill>
          <a:blip r:embed="rId2"/>
          <a:stretch/>
        </p:blipFill>
        <p:spPr>
          <a:xfrm>
            <a:off x="609480" y="2197080"/>
            <a:ext cx="3594240" cy="3060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447840" y="5334120"/>
            <a:ext cx="383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leknuti reljef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Amenhotep IV s Nefretiti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360.g.p.n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61400" y="685800"/>
            <a:ext cx="3760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ahulj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reljef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alu folij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deliranje i građ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8" descr="D:\predavanja\prostor i vol. mali\folija7.jpg"/>
          <p:cNvPicPr/>
          <p:nvPr/>
        </p:nvPicPr>
        <p:blipFill>
          <a:blip r:embed="rId1"/>
          <a:stretch/>
        </p:blipFill>
        <p:spPr>
          <a:xfrm>
            <a:off x="4800600" y="372960"/>
            <a:ext cx="3962520" cy="282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D:\predavanja\prostor i vol. mali\folija1.jpg"/>
          <p:cNvPicPr/>
          <p:nvPr/>
        </p:nvPicPr>
        <p:blipFill>
          <a:blip r:embed="rId2"/>
          <a:stretch/>
        </p:blipFill>
        <p:spPr>
          <a:xfrm>
            <a:off x="380880" y="3755880"/>
            <a:ext cx="2667240" cy="264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D:\predavanja\prostor i vol. mali\folija6.jpg"/>
          <p:cNvPicPr/>
          <p:nvPr/>
        </p:nvPicPr>
        <p:blipFill>
          <a:blip r:embed="rId3"/>
          <a:stretch/>
        </p:blipFill>
        <p:spPr>
          <a:xfrm>
            <a:off x="3581280" y="3745080"/>
            <a:ext cx="2667240" cy="2655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D:\predavanja\prostor i vol. mali\folija5.jpg"/>
          <p:cNvPicPr/>
          <p:nvPr/>
        </p:nvPicPr>
        <p:blipFill>
          <a:blip r:embed="rId4"/>
          <a:stretch/>
        </p:blipFill>
        <p:spPr>
          <a:xfrm>
            <a:off x="6605640" y="3733920"/>
            <a:ext cx="2233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226800" y="5837400"/>
            <a:ext cx="134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ztečki kalendar: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unčeva ploča,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ko 13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D:\predavanja\prostor i vol. mali\Aztecki kalendar.Sunceva ploca.1300.1525.jpg"/>
          <p:cNvPicPr/>
          <p:nvPr/>
        </p:nvPicPr>
        <p:blipFill>
          <a:blip r:embed="rId1"/>
          <a:stretch/>
        </p:blipFill>
        <p:spPr>
          <a:xfrm>
            <a:off x="1503360" y="0"/>
            <a:ext cx="60404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14840" y="3049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rhitektura </a:t>
            </a:r>
            <a:br>
              <a:rPr sz="1800"/>
            </a:b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i urbaniz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553080" y="990720"/>
            <a:ext cx="2614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Grad se sastoji od zgrada,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lica, trgova i parko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Zgrade –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volumen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lice –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ro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5" descr="D:\predavanja\prostor i vol. mali\grad.jpg"/>
          <p:cNvPicPr/>
          <p:nvPr/>
        </p:nvPicPr>
        <p:blipFill>
          <a:blip r:embed="rId1"/>
          <a:stretch/>
        </p:blipFill>
        <p:spPr>
          <a:xfrm>
            <a:off x="-46080" y="0"/>
            <a:ext cx="6066000" cy="6856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D:\predavanja\prostor i vol. mali\ulica uska.jpg"/>
          <p:cNvPicPr/>
          <p:nvPr/>
        </p:nvPicPr>
        <p:blipFill>
          <a:blip r:embed="rId2"/>
          <a:stretch/>
        </p:blipFill>
        <p:spPr>
          <a:xfrm>
            <a:off x="6781680" y="3048120"/>
            <a:ext cx="2362320" cy="1809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D:\predavanja\prostor i vol. mali\ulica siroka.jpg"/>
          <p:cNvPicPr/>
          <p:nvPr/>
        </p:nvPicPr>
        <p:blipFill>
          <a:blip r:embed="rId3"/>
          <a:stretch/>
        </p:blipFill>
        <p:spPr>
          <a:xfrm>
            <a:off x="6781680" y="5087880"/>
            <a:ext cx="236232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D:\predavanja\prostor i vol. mali\kuca i neboder.jpg"/>
          <p:cNvPicPr/>
          <p:nvPr/>
        </p:nvPicPr>
        <p:blipFill>
          <a:blip r:embed="rId1"/>
          <a:stretch/>
        </p:blipFill>
        <p:spPr>
          <a:xfrm>
            <a:off x="304920" y="366840"/>
            <a:ext cx="8381880" cy="5881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Eksterijer i interij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86520" y="1143000"/>
            <a:ext cx="24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nutarnji i vanjski pro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D:\predavanja\Prostor i volumen\Giacometti. Dvokolica.jpg"/>
          <p:cNvPicPr/>
          <p:nvPr/>
        </p:nvPicPr>
        <p:blipFill>
          <a:blip r:embed="rId1"/>
          <a:stretch/>
        </p:blipFill>
        <p:spPr>
          <a:xfrm>
            <a:off x="2666880" y="1447920"/>
            <a:ext cx="2516400" cy="43434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153000" y="685800"/>
            <a:ext cx="24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nutarnji i vanjski pro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8" descr="D:\predavanja\prostor i vol. mali\Eiffelov toranj.jpg"/>
          <p:cNvPicPr/>
          <p:nvPr/>
        </p:nvPicPr>
        <p:blipFill>
          <a:blip r:embed="rId2"/>
          <a:stretch/>
        </p:blipFill>
        <p:spPr>
          <a:xfrm>
            <a:off x="250920" y="1447920"/>
            <a:ext cx="2263680" cy="4343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D:\predavanja\prostor i vol. mali\Henry Moore.jpg"/>
          <p:cNvPicPr/>
          <p:nvPr/>
        </p:nvPicPr>
        <p:blipFill>
          <a:blip r:embed="rId3"/>
          <a:stretch/>
        </p:blipFill>
        <p:spPr>
          <a:xfrm>
            <a:off x="5943600" y="2470320"/>
            <a:ext cx="2666880" cy="1644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D:\predavanja\prostor i vol. mali\prozor.jpg"/>
          <p:cNvPicPr/>
          <p:nvPr/>
        </p:nvPicPr>
        <p:blipFill>
          <a:blip r:embed="rId4"/>
          <a:stretch/>
        </p:blipFill>
        <p:spPr>
          <a:xfrm>
            <a:off x="5943600" y="262080"/>
            <a:ext cx="2666880" cy="1871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D:\predavanja\prostor i vol. mali\podvoznjak.jpg"/>
          <p:cNvPicPr/>
          <p:nvPr/>
        </p:nvPicPr>
        <p:blipFill>
          <a:blip r:embed="rId5"/>
          <a:stretch/>
        </p:blipFill>
        <p:spPr>
          <a:xfrm>
            <a:off x="5943600" y="4495680"/>
            <a:ext cx="265428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5"/>
          <p:cNvSpPr/>
          <p:nvPr/>
        </p:nvSpPr>
        <p:spPr>
          <a:xfrm>
            <a:off x="4876200" y="3809880"/>
            <a:ext cx="3760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grad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odnos prostora </a:t>
            </a:r>
            <a:br>
              <a:rPr sz="1600"/>
            </a:b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i volumena, urbanizam, tlocrt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didaktički neoblikovan </a:t>
            </a:r>
            <a:br>
              <a:rPr sz="1600"/>
            </a:b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aterijal (kutijice)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deliranje i građ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D:\predavanja\prostor i vol. mali\grad1.jpg"/>
          <p:cNvPicPr/>
          <p:nvPr/>
        </p:nvPicPr>
        <p:blipFill>
          <a:blip r:embed="rId1"/>
          <a:stretch/>
        </p:blipFill>
        <p:spPr>
          <a:xfrm>
            <a:off x="736560" y="431640"/>
            <a:ext cx="3606840" cy="2692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D:\predavanja\prostor i vol. mali\kutije.tlocrt 3.jpg"/>
          <p:cNvPicPr/>
          <p:nvPr/>
        </p:nvPicPr>
        <p:blipFill>
          <a:blip r:embed="rId2"/>
          <a:stretch/>
        </p:blipFill>
        <p:spPr>
          <a:xfrm>
            <a:off x="736560" y="3809880"/>
            <a:ext cx="360684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D:\predavanja\prostor i vol. mali\kutije.tlocrt 5.jpg"/>
          <p:cNvPicPr/>
          <p:nvPr/>
        </p:nvPicPr>
        <p:blipFill>
          <a:blip r:embed="rId1"/>
          <a:stretch/>
        </p:blipFill>
        <p:spPr>
          <a:xfrm>
            <a:off x="4572000" y="35053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D:\predavanja\prostor i vol. mali\kutije.tlocrt 6.jpg"/>
          <p:cNvPicPr/>
          <p:nvPr/>
        </p:nvPicPr>
        <p:blipFill>
          <a:blip r:embed="rId2"/>
          <a:stretch/>
        </p:blipFill>
        <p:spPr>
          <a:xfrm>
            <a:off x="304920" y="35053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D:\predavanja\prostor i vol. mali\kutije.tlocrt 4.jpg"/>
          <p:cNvPicPr/>
          <p:nvPr/>
        </p:nvPicPr>
        <p:blipFill>
          <a:blip r:embed="rId3"/>
          <a:stretch/>
        </p:blipFill>
        <p:spPr>
          <a:xfrm>
            <a:off x="304920" y="2476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687960" y="608040"/>
            <a:ext cx="10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Tlo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. raz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5" descr="D:\predavanja\prostor i vol. mali\piljenje1.jpg"/>
          <p:cNvPicPr/>
          <p:nvPr/>
        </p:nvPicPr>
        <p:blipFill>
          <a:blip r:embed="rId1"/>
          <a:stretch/>
        </p:blipFill>
        <p:spPr>
          <a:xfrm>
            <a:off x="304920" y="2181240"/>
            <a:ext cx="4190760" cy="284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D:\predavanja\prostor i vol. mali\piljenje 2.jpg"/>
          <p:cNvPicPr/>
          <p:nvPr/>
        </p:nvPicPr>
        <p:blipFill>
          <a:blip r:embed="rId2"/>
          <a:stretch/>
        </p:blipFill>
        <p:spPr>
          <a:xfrm>
            <a:off x="4800600" y="2857680"/>
            <a:ext cx="3606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85800" y="1219320"/>
            <a:ext cx="693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lumen je prostorni oblik sa sve tri dimenzije: širinom, dužinom i visinom.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akođer: obujam ili zapremnina nekog tijela u prostor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85800" y="2209680"/>
            <a:ext cx="6019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iparstv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dijelimo na </a:t>
            </a:r>
            <a:r>
              <a:rPr b="1" lang="hr-HR" sz="1600" spc="-1" strike="noStrike">
                <a:solidFill>
                  <a:srgbClr val="800000"/>
                </a:solidFill>
                <a:latin typeface="Arial"/>
                <a:ea typeface="Arial"/>
              </a:rPr>
              <a:t>reljef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r>
              <a:rPr b="1" lang="hr-HR" sz="1600" spc="-1" strike="noStrike">
                <a:solidFill>
                  <a:srgbClr val="800000"/>
                </a:solidFill>
                <a:latin typeface="Arial"/>
                <a:ea typeface="Arial"/>
              </a:rPr>
              <a:t>punu plastik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Puna plastika može biti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skulptur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(statična) i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mobil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(pokretn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" descr="D:\predavanja\prostor i vol. mali\Jean Arp. Poprsje zene1.jpg"/>
          <p:cNvPicPr/>
          <p:nvPr/>
        </p:nvPicPr>
        <p:blipFill>
          <a:blip r:embed="rId1"/>
          <a:stretch/>
        </p:blipFill>
        <p:spPr>
          <a:xfrm>
            <a:off x="3200400" y="3581280"/>
            <a:ext cx="1598760" cy="259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D:\predavanja\prostor i vol. mali\A. Calder1.jpg"/>
          <p:cNvPicPr/>
          <p:nvPr/>
        </p:nvPicPr>
        <p:blipFill>
          <a:blip r:embed="rId2"/>
          <a:stretch/>
        </p:blipFill>
        <p:spPr>
          <a:xfrm>
            <a:off x="5486400" y="3581280"/>
            <a:ext cx="1906560" cy="2590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D:\predavanja\prostor i vol. mali\Solin1.jpg"/>
          <p:cNvPicPr/>
          <p:nvPr/>
        </p:nvPicPr>
        <p:blipFill>
          <a:blip r:embed="rId3"/>
          <a:stretch/>
        </p:blipFill>
        <p:spPr>
          <a:xfrm>
            <a:off x="762120" y="3581280"/>
            <a:ext cx="1631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761400" y="482760"/>
            <a:ext cx="3760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zgrad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tlocrt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600"/>
            </a:b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odnos prostora i volumen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didaktički neoblikovan </a:t>
            </a:r>
            <a:br>
              <a:rPr sz="1600"/>
            </a:b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aterijal (kutijice)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deliranje i građ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8" descr="D:\predavanja\prostor i vol. mali\grad2.jpg"/>
          <p:cNvPicPr/>
          <p:nvPr/>
        </p:nvPicPr>
        <p:blipFill>
          <a:blip r:embed="rId1"/>
          <a:stretch/>
        </p:blipFill>
        <p:spPr>
          <a:xfrm>
            <a:off x="4876920" y="584280"/>
            <a:ext cx="3606840" cy="2692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D:\predavanja\prostor i vol. mali\kutije.tlocrt 2.jpg"/>
          <p:cNvPicPr/>
          <p:nvPr/>
        </p:nvPicPr>
        <p:blipFill>
          <a:blip r:embed="rId2"/>
          <a:stretch/>
        </p:blipFill>
        <p:spPr>
          <a:xfrm>
            <a:off x="4876920" y="3657600"/>
            <a:ext cx="3606840" cy="275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D:\predavanja\prostor i vol. mali\kutije.tlocrt 1.jpg"/>
          <p:cNvPicPr/>
          <p:nvPr/>
        </p:nvPicPr>
        <p:blipFill>
          <a:blip r:embed="rId3"/>
          <a:stretch/>
        </p:blipFill>
        <p:spPr>
          <a:xfrm>
            <a:off x="736560" y="3657600"/>
            <a:ext cx="360684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1" descr="D:\predavanja\prostor i vol. mali\kutije.tlocrt 10.jpg"/>
          <p:cNvPicPr/>
          <p:nvPr/>
        </p:nvPicPr>
        <p:blipFill>
          <a:blip r:embed="rId1"/>
          <a:stretch/>
        </p:blipFill>
        <p:spPr>
          <a:xfrm>
            <a:off x="1889280" y="228600"/>
            <a:ext cx="2454120" cy="327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D:\predavanja\prostor i vol. mali\kutije.tlocrt 7.jpg"/>
          <p:cNvPicPr/>
          <p:nvPr/>
        </p:nvPicPr>
        <p:blipFill>
          <a:blip r:embed="rId2"/>
          <a:stretch/>
        </p:blipFill>
        <p:spPr>
          <a:xfrm>
            <a:off x="4648320" y="80028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D:\predavanja\prostor i vol. mali\kutije.tlocrt 8.jpg"/>
          <p:cNvPicPr/>
          <p:nvPr/>
        </p:nvPicPr>
        <p:blipFill>
          <a:blip r:embed="rId3"/>
          <a:stretch/>
        </p:blipFill>
        <p:spPr>
          <a:xfrm>
            <a:off x="4648320" y="373392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D:\predavanja\prostor i vol. mali\kutije.tlocrt 9.jpg"/>
          <p:cNvPicPr/>
          <p:nvPr/>
        </p:nvPicPr>
        <p:blipFill>
          <a:blip r:embed="rId4"/>
          <a:stretch/>
        </p:blipFill>
        <p:spPr>
          <a:xfrm>
            <a:off x="736560" y="3733920"/>
            <a:ext cx="36068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6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5037840" y="5867280"/>
            <a:ext cx="2494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ffffff"/>
                </a:solidFill>
                <a:latin typeface="Arial"/>
              </a:rPr>
              <a:t>Friedensreich Hundertwass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" descr="D:\predavanja\prostor i vol. mali\Hundredwasser2.jpg"/>
          <p:cNvPicPr/>
          <p:nvPr/>
        </p:nvPicPr>
        <p:blipFill>
          <a:blip r:embed="rId1"/>
          <a:stretch/>
        </p:blipFill>
        <p:spPr>
          <a:xfrm>
            <a:off x="-12600" y="0"/>
            <a:ext cx="48132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D:\predavanja\prostor i vol. mali\Hundredwasser1.jpg"/>
          <p:cNvPicPr/>
          <p:nvPr/>
        </p:nvPicPr>
        <p:blipFill>
          <a:blip r:embed="rId1"/>
          <a:stretch/>
        </p:blipFill>
        <p:spPr>
          <a:xfrm>
            <a:off x="0" y="263520"/>
            <a:ext cx="915660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87240" y="666720"/>
            <a:ext cx="4211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nevizualni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egipatski bogovi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rostor i volumen, proporci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glin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deliranje i građ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D:\predavanja\prostor i vol. mali\egipatske figurice4.jpg"/>
          <p:cNvPicPr/>
          <p:nvPr/>
        </p:nvPicPr>
        <p:blipFill>
          <a:blip r:embed="rId1"/>
          <a:stretch/>
        </p:blipFill>
        <p:spPr>
          <a:xfrm>
            <a:off x="228600" y="2806560"/>
            <a:ext cx="2692440" cy="3594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D:\predavanja\prostor i vol. mali\egipatske figurice2.jpg"/>
          <p:cNvPicPr/>
          <p:nvPr/>
        </p:nvPicPr>
        <p:blipFill>
          <a:blip r:embed="rId2"/>
          <a:stretch/>
        </p:blipFill>
        <p:spPr>
          <a:xfrm>
            <a:off x="3200400" y="2793960"/>
            <a:ext cx="2692440" cy="360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D:\predavanja\prostor i vol. mali\egipatske figurice3.jpg"/>
          <p:cNvPicPr/>
          <p:nvPr/>
        </p:nvPicPr>
        <p:blipFill>
          <a:blip r:embed="rId3"/>
          <a:stretch/>
        </p:blipFill>
        <p:spPr>
          <a:xfrm>
            <a:off x="6172200" y="2793960"/>
            <a:ext cx="26924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D:\predavanja\prostor i vol. mali\egipatske figurice.jpg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2514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Kategorizacija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685800" y="100476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ma odnosu mase i prosto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609480" y="1523880"/>
            <a:ext cx="3657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Monolitna ili apsolutna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434680" y="6202440"/>
            <a:ext cx="200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Constantin Brancusi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Mu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9" descr="D:\predavanja\prostor i vol. mali\C. Brancusi. A Muse.jpg"/>
          <p:cNvPicPr/>
          <p:nvPr/>
        </p:nvPicPr>
        <p:blipFill>
          <a:blip r:embed="rId1"/>
          <a:stretch/>
        </p:blipFill>
        <p:spPr>
          <a:xfrm>
            <a:off x="4600440" y="0"/>
            <a:ext cx="4543560" cy="6856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D:\predavanja\prostor i vol. mali\jaje.jpg"/>
          <p:cNvPicPr/>
          <p:nvPr/>
        </p:nvPicPr>
        <p:blipFill>
          <a:blip r:embed="rId2"/>
          <a:stretch/>
        </p:blipFill>
        <p:spPr>
          <a:xfrm>
            <a:off x="762120" y="2355840"/>
            <a:ext cx="24382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Udubljeno-ispupčena masa</a:t>
            </a:r>
            <a:br>
              <a:rPr sz="1800"/>
            </a:b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(konkavno – konveksna ma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489400" y="6202440"/>
            <a:ext cx="22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Jean Arp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Poprsje žen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D:\predavanja\prostor i vol. mali\Jean Arp. Poprsje zene.jpg"/>
          <p:cNvPicPr/>
          <p:nvPr/>
        </p:nvPicPr>
        <p:blipFill>
          <a:blip r:embed="rId1"/>
          <a:stretch/>
        </p:blipFill>
        <p:spPr>
          <a:xfrm>
            <a:off x="4908600" y="0"/>
            <a:ext cx="4235400" cy="6856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D:\predavanja\prostor i vol. mali\dunja.jpg"/>
          <p:cNvPicPr/>
          <p:nvPr/>
        </p:nvPicPr>
        <p:blipFill>
          <a:blip r:embed="rId2"/>
          <a:stretch/>
        </p:blipFill>
        <p:spPr>
          <a:xfrm>
            <a:off x="765000" y="1676520"/>
            <a:ext cx="1901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šupljena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76320" y="620244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Barbara Hepwort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Tri oblika (Walk-in),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 1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6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7" descr="D:\predavanja\prostor i vol. mali\Barbara Hepwort. Walk in.jpg"/>
          <p:cNvPicPr/>
          <p:nvPr/>
        </p:nvPicPr>
        <p:blipFill>
          <a:blip r:embed="rId1"/>
          <a:stretch/>
        </p:blipFill>
        <p:spPr>
          <a:xfrm>
            <a:off x="3505320" y="1306440"/>
            <a:ext cx="5638680" cy="5094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D:\predavanja\prostor i vol. mali\maslina1.jpg"/>
          <p:cNvPicPr/>
          <p:nvPr/>
        </p:nvPicPr>
        <p:blipFill>
          <a:blip r:embed="rId2"/>
          <a:stretch/>
        </p:blipFill>
        <p:spPr>
          <a:xfrm>
            <a:off x="709560" y="1219320"/>
            <a:ext cx="2262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lošno-istanjena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09680" y="6202440"/>
            <a:ext cx="22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ojin Bakić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Razlistana f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D:\predavanja\prostor i vol. mali\Vojin Bakic.Razlistana forma.jpg"/>
          <p:cNvPicPr/>
          <p:nvPr/>
        </p:nvPicPr>
        <p:blipFill>
          <a:blip r:embed="rId1"/>
          <a:stretch/>
        </p:blipFill>
        <p:spPr>
          <a:xfrm>
            <a:off x="4724280" y="609480"/>
            <a:ext cx="4418280" cy="5791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D:\predavanja\prostor i vol. mali\list.jpg"/>
          <p:cNvPicPr/>
          <p:nvPr/>
        </p:nvPicPr>
        <p:blipFill>
          <a:blip r:embed="rId2"/>
          <a:stretch/>
        </p:blipFill>
        <p:spPr>
          <a:xfrm>
            <a:off x="782640" y="1600200"/>
            <a:ext cx="226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7:43:51Z</dcterms:created>
  <dc:creator>Miro</dc:creator>
  <dc:description/>
  <dc:language>en-US</dc:language>
  <cp:lastModifiedBy>Kreso Stojic</cp:lastModifiedBy>
  <dcterms:modified xsi:type="dcterms:W3CDTF">2009-05-15T20:30:54Z</dcterms:modified>
  <cp:revision>112</cp:revision>
  <dc:subject/>
  <dc:title>Prostor i volumen</dc:title>
</cp:coreProperties>
</file>