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C83-4206-4626-8C03-D0579EAA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BEF-114B-4B41-9F6F-01CEA9EB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7A5-FA51-4A8F-8576-30AE59C6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132-BD1E-4C1F-BDD0-EAC33F02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454-9F93-423C-9EC7-F44F8441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7CE-D885-442E-85AB-C786AEED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0B6-CADB-4FAF-87A4-FCC82789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146-2D8F-4894-AD45-543632FA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7DD-EDC7-45C8-9223-596DEB43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3FA-FD3A-4683-84F6-E3AB5D41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9EA-9FAC-446C-B14E-2AF0EB60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BD9-508C-4D41-B861-D557FB74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BC28-FE8F-44D2-B2D7-5B8C25EB77CC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549360"/>
          <a:ext cx="8229600" cy="5351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</a:tr>
              <a:tr h="1076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9900"/>
                      </a:solidFill>
                    </a:lnL>
                    <a:lnR w="18720">
                      <a:solidFill>
                        <a:srgbClr val="669900"/>
                      </a:solidFill>
                    </a:lnR>
                    <a:lnT w="18720">
                      <a:solidFill>
                        <a:srgbClr val="669900"/>
                      </a:solidFill>
                    </a:lnT>
                    <a:lnB w="18720">
                      <a:solidFill>
                        <a:srgbClr val="66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482760" y="549360"/>
            <a:ext cx="2016000" cy="8636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2760" y="1455840"/>
            <a:ext cx="2016000" cy="8208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2760" y="2276640"/>
            <a:ext cx="2016000" cy="86508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3141720"/>
            <a:ext cx="2016000" cy="7920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2760" y="3990960"/>
            <a:ext cx="2016000" cy="8064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41600" y="549360"/>
            <a:ext cx="2016000" cy="8636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41600" y="1413000"/>
            <a:ext cx="2016000" cy="8636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41600" y="2276640"/>
            <a:ext cx="2016000" cy="8078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3141720"/>
            <a:ext cx="2016000" cy="8636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41600" y="3990960"/>
            <a:ext cx="2016000" cy="8064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86400" y="549360"/>
            <a:ext cx="2073240" cy="8636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441440"/>
            <a:ext cx="2087640" cy="7920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262240"/>
            <a:ext cx="2087640" cy="8064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14840" y="3083040"/>
            <a:ext cx="2016000" cy="86508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962520"/>
            <a:ext cx="2030400" cy="8348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3920" y="549360"/>
            <a:ext cx="1971720" cy="86364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03920" y="1455840"/>
            <a:ext cx="1971720" cy="7920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276640"/>
            <a:ext cx="2016000" cy="7920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3068640"/>
            <a:ext cx="2016000" cy="86508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3976560"/>
            <a:ext cx="2016000" cy="820800"/>
          </a:xfrm>
          <a:prstGeom prst="rect">
            <a:avLst/>
          </a:prstGeom>
          <a:solidFill>
            <a:srgbClr val="99ff66"/>
          </a:solid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797360"/>
            <a:ext cx="820728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277920"/>
          <a:ext cx="8229600" cy="6402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5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68360" y="318960"/>
            <a:ext cx="27432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557360"/>
            <a:ext cx="274320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852640"/>
            <a:ext cx="27352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105440"/>
            <a:ext cx="27432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2852640"/>
            <a:ext cx="274320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3640" y="1557360"/>
            <a:ext cx="274320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18960"/>
            <a:ext cx="27432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4105440"/>
            <a:ext cx="2743200" cy="131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317520"/>
            <a:ext cx="27432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38920" y="1557360"/>
            <a:ext cx="274320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2852640"/>
            <a:ext cx="274320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4105440"/>
            <a:ext cx="27432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430960"/>
            <a:ext cx="8229600" cy="12189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500220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765000"/>
            <a:ext cx="1008360" cy="100836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765000"/>
            <a:ext cx="1008000" cy="10083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765000"/>
            <a:ext cx="1008000" cy="10083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765000"/>
            <a:ext cx="1008000" cy="1008360"/>
          </a:xfrm>
          <a:prstGeom prst="rect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765000"/>
            <a:ext cx="1008000" cy="100836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765000"/>
            <a:ext cx="1008360" cy="1008360"/>
          </a:xfrm>
          <a:prstGeom prst="rect">
            <a:avLst/>
          </a:prstGeom>
          <a:solidFill>
            <a:srgbClr val="66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1773360"/>
            <a:ext cx="1008360" cy="10080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1773360"/>
            <a:ext cx="1008000" cy="1008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1773360"/>
            <a:ext cx="1008000" cy="10080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11640" y="1773360"/>
            <a:ext cx="1008000" cy="1008000"/>
          </a:xfrm>
          <a:prstGeom prst="rect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19640" y="1773360"/>
            <a:ext cx="1008000" cy="100800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1773360"/>
            <a:ext cx="1008360" cy="1008000"/>
          </a:xfrm>
          <a:prstGeom prst="rect">
            <a:avLst/>
          </a:prstGeom>
          <a:solidFill>
            <a:srgbClr val="66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2781360"/>
            <a:ext cx="1008360" cy="10080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2781360"/>
            <a:ext cx="1008000" cy="1008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2781360"/>
            <a:ext cx="1008000" cy="10080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2781360"/>
            <a:ext cx="1008000" cy="1008000"/>
          </a:xfrm>
          <a:prstGeom prst="rect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2781360"/>
            <a:ext cx="1008000" cy="100800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2781360"/>
            <a:ext cx="1008360" cy="1008000"/>
          </a:xfrm>
          <a:prstGeom prst="rect">
            <a:avLst/>
          </a:prstGeom>
          <a:solidFill>
            <a:srgbClr val="66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789360"/>
            <a:ext cx="1008360" cy="10080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3789360"/>
            <a:ext cx="1008000" cy="1008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3789360"/>
            <a:ext cx="1008000" cy="10080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3789360"/>
            <a:ext cx="1008000" cy="1008000"/>
          </a:xfrm>
          <a:prstGeom prst="rect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789360"/>
            <a:ext cx="1008000" cy="100800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7640" y="3789360"/>
            <a:ext cx="1008360" cy="1008000"/>
          </a:xfrm>
          <a:prstGeom prst="rect">
            <a:avLst/>
          </a:prstGeom>
          <a:solidFill>
            <a:srgbClr val="66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4797360"/>
            <a:ext cx="1008360" cy="10080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4797360"/>
            <a:ext cx="1008000" cy="1008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4797360"/>
            <a:ext cx="1008000" cy="10080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4797360"/>
            <a:ext cx="1008000" cy="1008000"/>
          </a:xfrm>
          <a:prstGeom prst="rect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797360"/>
            <a:ext cx="1008000" cy="100800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7640" y="4797360"/>
            <a:ext cx="1008360" cy="1008000"/>
          </a:xfrm>
          <a:prstGeom prst="rect">
            <a:avLst/>
          </a:prstGeom>
          <a:solidFill>
            <a:srgbClr val="66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5792760"/>
            <a:ext cx="1008000" cy="10080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5792760"/>
            <a:ext cx="1008000" cy="10080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5792760"/>
            <a:ext cx="1008000" cy="10080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5792760"/>
            <a:ext cx="1008000" cy="10080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6:26:49Z</dcterms:created>
  <dc:creator>name</dc:creator>
  <dc:description/>
  <dc:language>en-US</dc:language>
  <cp:lastModifiedBy>Krešo</cp:lastModifiedBy>
  <dcterms:modified xsi:type="dcterms:W3CDTF">2008-03-21T21:48:15Z</dcterms:modified>
  <cp:revision>21</cp:revision>
  <dc:subject/>
  <dc:title>Slide 1</dc:title>
</cp:coreProperties>
</file>