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58B-8FD1-44BE-BEE3-02BB4E8D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E8E-8488-426E-B648-DC47953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CC5-D34D-4476-8395-31A1C591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F78-B69B-4EE0-A1BF-5D1A17DF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64C6-01AB-47AC-ABED-D0BC8C4D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4A8-EB20-4276-BAE9-63A2BB6C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EEE-CCDF-4FD4-9B25-D5A11D68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C9C-1D21-4E05-9F9C-6DF93AB5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CE1-5A10-4743-951E-798301C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2A6D-472A-4BB4-B190-95B2744A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EE4F-9C7B-43FB-A622-7AE3399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79F-8163-42E2-A1FF-3E19645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A9A7-5136-4876-B1A2-E780C70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0FC2-374C-48B8-90EF-018B5E5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38F-9803-4485-88E3-F717B72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3E93-558A-4601-9E20-53BEF186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2AEB-422A-481E-953B-10E6E5EE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6F5-42C3-4586-9006-92F4F2E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6BF-E95A-4D7D-AC31-EE27F73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EAC-DEAF-4C3C-9199-135D2EC3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93B-077E-4363-A9DB-CDA91E1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0CA-F653-4A8B-AA3A-7E76746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385-28D7-426D-AB37-460F697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713-8276-4457-92DA-3C495CC9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9A55-4218-4F90-899E-DCB6C623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CC9-FBDA-4570-835D-1A0CAE0BD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2130120"/>
            <a:ext cx="60260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82232"/>
                </a:solidFill>
                <a:latin typeface="Arial"/>
              </a:rPr>
              <a:t>PowerPoint u nasta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39600" y="271440"/>
            <a:ext cx="486252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Što je Power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632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 za izradu prezentacija, dio programskog paketa Microsoft Offic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je popularniji jer olakšava stvaranje atraktivnih prezentacijskih materij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lativno lako ga je svlad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 se prikazati na računalnom ekranu, projicirati uporabom projektora ili grafosko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e se mogu obogatiti slikama, animacijama i zvukov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Uporaba PowerPointa u nast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632592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lo koristan izvor zn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mo ga rabiti u svim nastavnim predmetima i svim tipovima s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cima olakšava razumijevanje sadrž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prinosi zornosti nast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Na što treba obratiti pozornost pri izradi prezentaci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6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a treba imati svoj tijek, ako je rabimo na nastavnom satu treba slijediti faze s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držaj treba biti jasno predstavlj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a ne smije biti opterećena prevelikom količinom informacija i animac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014480" cy="1125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2"/>
          <a:stretch/>
        </p:blipFill>
        <p:spPr>
          <a:xfrm>
            <a:off x="6372360" y="115920"/>
            <a:ext cx="2085840" cy="1582560"/>
          </a:xfrm>
          <a:prstGeom prst="rect">
            <a:avLst/>
          </a:prstGeom>
          <a:ln w="9360">
            <a:solidFill>
              <a:srgbClr val="f3315f"/>
            </a:solidFill>
            <a:miter/>
          </a:ln>
        </p:spPr>
      </p:pic>
      <p:pic>
        <p:nvPicPr>
          <p:cNvPr id="92" name="Picture 18" descr=""/>
          <p:cNvPicPr/>
          <p:nvPr/>
        </p:nvPicPr>
        <p:blipFill>
          <a:blip r:embed="rId3"/>
          <a:stretch/>
        </p:blipFill>
        <p:spPr>
          <a:xfrm>
            <a:off x="6653160" y="2421000"/>
            <a:ext cx="186552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042920" y="5084640"/>
            <a:ext cx="7489800" cy="865440"/>
          </a:xfrm>
          <a:prstGeom prst="rect">
            <a:avLst/>
          </a:prstGeom>
          <a:solidFill>
            <a:srgbClr val="f7f9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ičaste” pozadine (pozadinske slike koje nemaju veze sa sadržajem prezentacije, različite boje pozad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doni MT Black"/>
              </a:rPr>
              <a:t>Uporab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viš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rsta </a:t>
            </a:r>
            <a:r>
              <a:rPr b="0" lang="hr-HR" sz="2400" spc="-1" strike="noStrike">
                <a:solidFill>
                  <a:srgbClr val="000000"/>
                </a:solidFill>
                <a:latin typeface="Castellar"/>
              </a:rPr>
              <a:t>slova</a:t>
            </a:r>
            <a:r>
              <a:rPr b="0" lang="hr-HR" sz="2400" spc="-1" strike="noStrike">
                <a:solidFill>
                  <a:srgbClr val="00000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cc33"/>
                </a:solidFill>
                <a:latin typeface="Arial"/>
              </a:rPr>
              <a:t>Uporab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ff"/>
                </a:solidFill>
                <a:latin typeface="Arial"/>
              </a:rPr>
              <a:t>viš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33cc"/>
                </a:solidFill>
                <a:latin typeface="Arial"/>
              </a:rPr>
              <a:t>bo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9900"/>
                </a:solidFill>
                <a:latin typeface="Arial"/>
              </a:rPr>
              <a:t>sl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oraba više vrsta ani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oraba mnogo dinamičnih ani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asićenost teks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c82232"/>
                </a:solidFill>
                <a:latin typeface="Arial"/>
              </a:rPr>
              <a:t>SVE OVO ODVLAČI POZORNOST OD SADRŽAJA PREZENTACI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356000" y="443700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solidFill>
            <a:srgbClr val="f331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95280" y="1484280"/>
            <a:ext cx="8137440" cy="2952720"/>
          </a:xfrm>
          <a:prstGeom prst="rect">
            <a:avLst/>
          </a:prstGeom>
          <a:noFill/>
          <a:ln w="38160">
            <a:solidFill>
              <a:srgbClr val="f331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Najčešće pogreške pri izradi prezenta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179280" y="4724280"/>
          <a:ext cx="819360" cy="113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724280"/>
                    <a:ext cx="8193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4"/>
          <p:cNvGraphicFramePr/>
          <p:nvPr/>
        </p:nvGraphicFramePr>
        <p:xfrm>
          <a:off x="5364000" y="2492280"/>
          <a:ext cx="8859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2492280"/>
                    <a:ext cx="8859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82232"/>
                </a:solidFill>
                <a:latin typeface="Arial"/>
              </a:rPr>
              <a:t>ZAPAM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lj je prezentirati sadržaj, a ne mogućnosti PowerPoint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9:48:53Z</dcterms:created>
  <dc:creator>Prosvjetari</dc:creator>
  <dc:description/>
  <dc:language>en-US</dc:language>
  <cp:lastModifiedBy>Stojic</cp:lastModifiedBy>
  <dcterms:modified xsi:type="dcterms:W3CDTF">2008-10-27T15:19:03Z</dcterms:modified>
  <cp:revision>11</cp:revision>
  <dc:subject/>
  <dc:title>PowerPoint u nastavi</dc:title>
</cp:coreProperties>
</file>