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CB94-AE16-4BB3-8AF0-01D484CB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144-1BF8-4D4E-971C-63969E24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6247-73CC-41B7-88C5-63DB20EF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4B63-CDC1-438C-85F4-5CBC7FC0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4431-E7B7-46A0-AB84-6A7255B5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6EBD-B483-4A0A-8ADE-D15F661A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2A56-91C7-47F7-9511-705AF80A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E73-0CD3-4599-A5A6-2248B582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3F5-97ED-4744-90C4-138C2822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8DE5-11BF-4E52-9AB6-8A4088C2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A79F-18DC-47DF-8DFB-18EF6955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5967-C1E0-4C96-BB00-D1FB2ABC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67F1-8FAE-4FA2-BE19-3950C7180F53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Lkultura/reprodukcije3/durer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Arial"/>
              </a:rPr>
              <a:t>Površin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57200" y="1295280"/>
            <a:ext cx="57150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vršina je vanjski izgled plohe; 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vršina je vanjski izgled nekog volumena za koji je površina uvijek veza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vršinu osim okom (vizualno) doživljavamo i dodirom, iz promjena na našoj koži: ovo zovemo </a:t>
            </a:r>
            <a:r>
              <a:rPr b="0" i="1" lang="hr-HR" sz="1600" spc="-1" strike="noStrike">
                <a:solidFill>
                  <a:srgbClr val="800000"/>
                </a:solidFill>
                <a:latin typeface="Arial"/>
              </a:rPr>
              <a:t>taktiln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i="1" lang="hr-HR" sz="1600" spc="-1" strike="noStrike">
                <a:solidFill>
                  <a:srgbClr val="800000"/>
                </a:solidFill>
                <a:latin typeface="Arial"/>
              </a:rPr>
              <a:t>haptičk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doživljaj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snovna svojstva površina su njihova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tekstur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faktur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D:\predavanja\Povrsina mala\drvo.jpg"/>
          <p:cNvPicPr/>
          <p:nvPr/>
        </p:nvPicPr>
        <p:blipFill>
          <a:blip r:embed="rId1"/>
          <a:stretch/>
        </p:blipFill>
        <p:spPr>
          <a:xfrm>
            <a:off x="6603840" y="0"/>
            <a:ext cx="25401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457200" y="685800"/>
            <a:ext cx="411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tic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tekstur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crtanje i slik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kombinirano, </a:t>
            </a:r>
            <a:br>
              <a:rPr sz="1600"/>
            </a:b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akvarel + olovke u bo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D:\predavanja\Povrsina mala\3. razred. ptica 2.jpg"/>
          <p:cNvPicPr/>
          <p:nvPr/>
        </p:nvPicPr>
        <p:blipFill>
          <a:blip r:embed="rId1"/>
          <a:stretch/>
        </p:blipFill>
        <p:spPr>
          <a:xfrm>
            <a:off x="5257800" y="1828800"/>
            <a:ext cx="3543480" cy="4495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D:\predavanja\Povrsina mala\3. razred. ptica 1.jpg"/>
          <p:cNvPicPr/>
          <p:nvPr/>
        </p:nvPicPr>
        <p:blipFill>
          <a:blip r:embed="rId2"/>
          <a:stretch/>
        </p:blipFill>
        <p:spPr>
          <a:xfrm>
            <a:off x="533520" y="3378240"/>
            <a:ext cx="41907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027"/>
          <p:cNvSpPr/>
          <p:nvPr/>
        </p:nvSpPr>
        <p:spPr>
          <a:xfrm>
            <a:off x="457200" y="3505320"/>
            <a:ext cx="3048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rib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rekompozicija oblika, tekstur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slik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kola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29"/>
          <p:cNvSpPr/>
          <p:nvPr/>
        </p:nvSpPr>
        <p:spPr>
          <a:xfrm>
            <a:off x="457200" y="457200"/>
            <a:ext cx="3048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ne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neobična životinj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rekompozicija oblika, tekstur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slik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kola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030" descr="D:\predavanja\Povrsina mala\2. razred. kolaz.zivotinja 1.jpg"/>
          <p:cNvPicPr/>
          <p:nvPr/>
        </p:nvPicPr>
        <p:blipFill>
          <a:blip r:embed="rId1"/>
          <a:stretch/>
        </p:blipFill>
        <p:spPr>
          <a:xfrm>
            <a:off x="4572000" y="351000"/>
            <a:ext cx="4267080" cy="2925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31" descr="D:\predavanja\Povrsina mala\2. razred. kolaz.riba.jpg"/>
          <p:cNvPicPr/>
          <p:nvPr/>
        </p:nvPicPr>
        <p:blipFill>
          <a:blip r:embed="rId2"/>
          <a:stretch/>
        </p:blipFill>
        <p:spPr>
          <a:xfrm>
            <a:off x="4572000" y="3581280"/>
            <a:ext cx="426708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457200" y="685800"/>
            <a:ext cx="3809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ne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hrapavo-glatko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kontrast tekstur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crtanje i slik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kombinirano, </a:t>
            </a:r>
            <a:br>
              <a:rPr sz="1600"/>
            </a:b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akvarel + tuš i p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D:\predavanja\Povrsina mala\2. razred. materijali 2.jpg"/>
          <p:cNvPicPr/>
          <p:nvPr/>
        </p:nvPicPr>
        <p:blipFill>
          <a:blip r:embed="rId1"/>
          <a:stretch/>
        </p:blipFill>
        <p:spPr>
          <a:xfrm>
            <a:off x="4572000" y="237960"/>
            <a:ext cx="3809880" cy="2962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D:\predavanja\Povrsina mala\2. razred. materijali 1.jpg"/>
          <p:cNvPicPr/>
          <p:nvPr/>
        </p:nvPicPr>
        <p:blipFill>
          <a:blip r:embed="rId2"/>
          <a:stretch/>
        </p:blipFill>
        <p:spPr>
          <a:xfrm>
            <a:off x="4572000" y="3505320"/>
            <a:ext cx="38098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5105520" y="457200"/>
            <a:ext cx="3352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ne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hrapavo - glatko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kontrast tekstur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crt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olov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838080" y="457200"/>
            <a:ext cx="281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ortal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tekstur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crt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flo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D:\predavanja\Povrsina mala\2. razred. materijali 3.jpg"/>
          <p:cNvPicPr/>
          <p:nvPr/>
        </p:nvPicPr>
        <p:blipFill>
          <a:blip r:embed="rId1"/>
          <a:stretch/>
        </p:blipFill>
        <p:spPr>
          <a:xfrm>
            <a:off x="5105520" y="2286000"/>
            <a:ext cx="3154320" cy="4191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D:\predavanja\Povrsina mala\7. razred. tekstura.jpg"/>
          <p:cNvPicPr/>
          <p:nvPr/>
        </p:nvPicPr>
        <p:blipFill>
          <a:blip r:embed="rId2"/>
          <a:stretch/>
        </p:blipFill>
        <p:spPr>
          <a:xfrm>
            <a:off x="870120" y="2286000"/>
            <a:ext cx="3168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57200" y="457200"/>
            <a:ext cx="3505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tic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lastičk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tekstur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delir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glinam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D:\predavanja\Povrsina mala\3. razred. ptica. glinamol 2.jpg"/>
          <p:cNvPicPr/>
          <p:nvPr/>
        </p:nvPicPr>
        <p:blipFill>
          <a:blip r:embed="rId1"/>
          <a:stretch/>
        </p:blipFill>
        <p:spPr>
          <a:xfrm>
            <a:off x="4191120" y="414360"/>
            <a:ext cx="4419360" cy="301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D:\predavanja\Povrsina mala\3. razred. ptica. glinamol 1.jpg"/>
          <p:cNvPicPr/>
          <p:nvPr/>
        </p:nvPicPr>
        <p:blipFill>
          <a:blip r:embed="rId2"/>
          <a:stretch/>
        </p:blipFill>
        <p:spPr>
          <a:xfrm>
            <a:off x="4191120" y="3657600"/>
            <a:ext cx="441936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57200" y="838080"/>
            <a:ext cx="3809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ove tehnike u dvadesetom stoljeću:</a:t>
            </a:r>
            <a:br>
              <a:rPr sz="1600"/>
            </a:b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kolaž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(lijepljenje plošnih objekata),</a:t>
            </a:r>
            <a:br>
              <a:rPr sz="1600"/>
            </a:b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asamblaž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(lijepljenje prostornih objekata)</a:t>
            </a:r>
            <a:br>
              <a:rPr sz="1600"/>
            </a:b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frotaž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(trljanje bojom platna ili papira postavljenog na hrapavu podlogu),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990720" y="62024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alentina Antanavičius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Poganski idol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9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D:\predavanja\Povrsina mala\Valentinas Antanavičius. Poganski idol. 1995.jpg"/>
          <p:cNvPicPr/>
          <p:nvPr/>
        </p:nvPicPr>
        <p:blipFill>
          <a:blip r:embed="rId1"/>
          <a:stretch/>
        </p:blipFill>
        <p:spPr>
          <a:xfrm>
            <a:off x="4572000" y="533520"/>
            <a:ext cx="42642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380880" y="65070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ax Ernst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Totem i tabu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D:\predavanja\Povrsina mala\Max Ernst. Totem i tabu. 1942.jpg"/>
          <p:cNvPicPr/>
          <p:nvPr/>
        </p:nvPicPr>
        <p:blipFill>
          <a:blip r:embed="rId1"/>
          <a:stretch/>
        </p:blipFill>
        <p:spPr>
          <a:xfrm>
            <a:off x="609480" y="209520"/>
            <a:ext cx="79250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121896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80880" y="1600200"/>
            <a:ext cx="396252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-tehnički postupak obrade površine likovnog djela, ili drugim rječima umjetnikov rukop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 slikarstvu se to odnosi na način nanošenja boje kistom koji može bi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hr-HR" sz="1600" spc="-1" strike="noStrike">
                <a:solidFill>
                  <a:srgbClr val="800000"/>
                </a:solidFill>
                <a:latin typeface="Arial"/>
              </a:rPr>
              <a:t>impast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: gusti, debeli nanos koji je taktilno osjetljiv, i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hr-HR" sz="1600" spc="-1" strike="noStrike">
                <a:solidFill>
                  <a:srgbClr val="800000"/>
                </a:solidFill>
                <a:latin typeface="Arial"/>
              </a:rPr>
              <a:t>lazuran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namaz: tanak i proziran sloj boje glatke površi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D:\predavanja\Povrsina mala\Knut Koops.jpg"/>
          <p:cNvPicPr/>
          <p:nvPr/>
        </p:nvPicPr>
        <p:blipFill>
          <a:blip r:embed="rId1"/>
          <a:stretch/>
        </p:blipFill>
        <p:spPr>
          <a:xfrm>
            <a:off x="4952880" y="0"/>
            <a:ext cx="42037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030"/>
          <p:cNvSpPr/>
          <p:nvPr/>
        </p:nvSpPr>
        <p:spPr>
          <a:xfrm>
            <a:off x="7238880" y="62024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Jean Dubuff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031" descr="D:\predavanja\Povrsina mala\Dubufet.jpg"/>
          <p:cNvPicPr/>
          <p:nvPr/>
        </p:nvPicPr>
        <p:blipFill>
          <a:blip r:embed="rId1"/>
          <a:stretch/>
        </p:blipFill>
        <p:spPr>
          <a:xfrm>
            <a:off x="2076480" y="0"/>
            <a:ext cx="50101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027"/>
          <p:cNvSpPr/>
          <p:nvPr/>
        </p:nvSpPr>
        <p:spPr>
          <a:xfrm>
            <a:off x="380880" y="62024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rdan Petlevski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Crne brazde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6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28"/>
          <p:cNvSpPr/>
          <p:nvPr/>
        </p:nvSpPr>
        <p:spPr>
          <a:xfrm>
            <a:off x="457200" y="297180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50-te godine su vrijeme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enformel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(negdje: apstraktni ekspresionizam), 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“slikarstva materij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29" descr="D:\predavanja\Povrsina mala\Ordan Petlevski. Crne brazde. 1969.jpg"/>
          <p:cNvPicPr/>
          <p:nvPr/>
        </p:nvPicPr>
        <p:blipFill>
          <a:blip r:embed="rId1"/>
          <a:stretch/>
        </p:blipFill>
        <p:spPr>
          <a:xfrm>
            <a:off x="3556080" y="0"/>
            <a:ext cx="48258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38120" y="60948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Teks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838080" y="1324080"/>
            <a:ext cx="548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d lat. 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textur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- tkanje, tkanina, sklop, sastav; povezana je s riječima tkanje, tekstil, i s rječju teks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990720" y="2438280"/>
            <a:ext cx="6172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ekstura je karakter površine i kao takva može bi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crtačk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tekstura, gdje se koriste crtački elementi - točka i crta;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slikarsk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(različite gustoće mrlja koje čine površinu);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lastičk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(hrapavo ili glatko, taktil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1" descr="D:\predavanja\Povrsina mala\Albrecht Durer. Rhinocerus2. 1515.jpg"/>
          <p:cNvPicPr/>
          <p:nvPr/>
        </p:nvPicPr>
        <p:blipFill>
          <a:blip r:embed="rId1"/>
          <a:stretch/>
        </p:blipFill>
        <p:spPr>
          <a:xfrm>
            <a:off x="304920" y="4354560"/>
            <a:ext cx="3047760" cy="2046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D:\predavanja\Povrsina mala\Brancusi. Muza2.jpg"/>
          <p:cNvPicPr/>
          <p:nvPr/>
        </p:nvPicPr>
        <p:blipFill>
          <a:blip r:embed="rId2"/>
          <a:stretch/>
        </p:blipFill>
        <p:spPr>
          <a:xfrm>
            <a:off x="6248520" y="434340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D:\predavanja\Povrsina mala\Vincent.van.Gogh.Zvijezdana noc2.jpg"/>
          <p:cNvPicPr/>
          <p:nvPr/>
        </p:nvPicPr>
        <p:blipFill>
          <a:blip r:embed="rId3"/>
          <a:stretch/>
        </p:blipFill>
        <p:spPr>
          <a:xfrm>
            <a:off x="3581280" y="4343400"/>
            <a:ext cx="2451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380880" y="62024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Rembrandt van Rijn: Autoportret, 166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D:\predavanja\Povrsina mala\Rembrandt van Rijn. Autoportret2. 1669.jpg"/>
          <p:cNvPicPr/>
          <p:nvPr/>
        </p:nvPicPr>
        <p:blipFill>
          <a:blip r:embed="rId1"/>
          <a:stretch/>
        </p:blipFill>
        <p:spPr>
          <a:xfrm>
            <a:off x="3809880" y="0"/>
            <a:ext cx="53406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D:\predavanja\Povrsina mala\Rembrandt van Rijn. Autoportret1.jpg"/>
          <p:cNvPicPr/>
          <p:nvPr/>
        </p:nvPicPr>
        <p:blipFill>
          <a:blip r:embed="rId1"/>
          <a:stretch/>
        </p:blipFill>
        <p:spPr>
          <a:xfrm>
            <a:off x="304920" y="-22320"/>
            <a:ext cx="8076960" cy="687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6"/>
          <p:cNvSpPr/>
          <p:nvPr/>
        </p:nvSpPr>
        <p:spPr>
          <a:xfrm>
            <a:off x="380880" y="653724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Arial"/>
              </a:rPr>
              <a:t>Michelangelo Buonarotti: </a:t>
            </a:r>
            <a:r>
              <a:rPr b="0" i="1" lang="hr-HR" sz="1000" spc="-1" strike="noStrike">
                <a:solidFill>
                  <a:srgbClr val="ffffff"/>
                </a:solidFill>
                <a:latin typeface="Arial"/>
              </a:rPr>
              <a:t>Atlas</a:t>
            </a:r>
            <a:r>
              <a:rPr b="0" lang="hr-HR" sz="10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i="1" lang="hr-HR" sz="1000" spc="-1" strike="noStrike">
                <a:solidFill>
                  <a:srgbClr val="ffffff"/>
                </a:solidFill>
                <a:latin typeface="Arial"/>
              </a:rPr>
              <a:t>Probuđeni r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D:\predavanja\Povrsina mala\Michelangelo. Atlas.jpg"/>
          <p:cNvPicPr/>
          <p:nvPr/>
        </p:nvPicPr>
        <p:blipFill>
          <a:blip r:embed="rId1"/>
          <a:stretch/>
        </p:blipFill>
        <p:spPr>
          <a:xfrm>
            <a:off x="297000" y="457200"/>
            <a:ext cx="3817800" cy="6019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D:\predavanja\Povrsina mala\Michelangelo. Usnuli rob.jpg"/>
          <p:cNvPicPr/>
          <p:nvPr/>
        </p:nvPicPr>
        <p:blipFill>
          <a:blip r:embed="rId2"/>
          <a:stretch/>
        </p:blipFill>
        <p:spPr>
          <a:xfrm>
            <a:off x="5149800" y="380880"/>
            <a:ext cx="37022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52280" y="62024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incent van Gogh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Autoportret,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889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D:\predavanja\Povrsina mala\Vincent.van.Gogh.Autoportret2.1889.jpg"/>
          <p:cNvPicPr/>
          <p:nvPr/>
        </p:nvPicPr>
        <p:blipFill>
          <a:blip r:embed="rId1"/>
          <a:stretch/>
        </p:blipFill>
        <p:spPr>
          <a:xfrm>
            <a:off x="2819520" y="0"/>
            <a:ext cx="57751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D:\predavanja\Povrsina mala\Rukopis Van Gogh1.jpg"/>
          <p:cNvPicPr/>
          <p:nvPr/>
        </p:nvPicPr>
        <p:blipFill>
          <a:blip r:embed="rId1"/>
          <a:stretch/>
        </p:blipFill>
        <p:spPr>
          <a:xfrm>
            <a:off x="990720" y="206280"/>
            <a:ext cx="7619760" cy="2994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D:\predavanja\Povrsina mala\Rukopis Van Gogh2.jpg"/>
          <p:cNvPicPr/>
          <p:nvPr/>
        </p:nvPicPr>
        <p:blipFill>
          <a:blip r:embed="rId2"/>
          <a:stretch/>
        </p:blipFill>
        <p:spPr>
          <a:xfrm>
            <a:off x="914400" y="3581280"/>
            <a:ext cx="7620120" cy="30481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304920" y="29559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04920" y="63849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kopi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5181480" y="5943600"/>
            <a:ext cx="32767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Lucio Fontana: </a:t>
            </a:r>
            <a:r>
              <a:rPr b="0" i="1" lang="hr-HR" sz="1000" spc="-1" strike="noStrike">
                <a:solidFill>
                  <a:srgbClr val="000000"/>
                </a:solidFill>
                <a:latin typeface="Arial"/>
              </a:rPr>
              <a:t>Prostorni ovalni koncept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, 1959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D:\predavanja\Povrsina mala\Lucio Fontana. Prostorni koncept. 1959.jpg"/>
          <p:cNvPicPr/>
          <p:nvPr/>
        </p:nvPicPr>
        <p:blipFill>
          <a:blip r:embed="rId1"/>
          <a:stretch/>
        </p:blipFill>
        <p:spPr>
          <a:xfrm>
            <a:off x="1066680" y="824040"/>
            <a:ext cx="708660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5715000" y="57913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lbrecht Durer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Rinoceros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5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D:\predavanja\Povrsina mala\Albrecht Durer. Rhinocerus. 1515.jpg"/>
          <p:cNvPicPr/>
          <p:nvPr/>
        </p:nvPicPr>
        <p:blipFill>
          <a:blip r:embed="rId2"/>
          <a:stretch/>
        </p:blipFill>
        <p:spPr>
          <a:xfrm>
            <a:off x="1066680" y="579600"/>
            <a:ext cx="70106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D:\predavanja\Povrsina mala\Vincent.van.Gogh.Zvijezdana noc.1889.jpg"/>
          <p:cNvPicPr/>
          <p:nvPr/>
        </p:nvPicPr>
        <p:blipFill>
          <a:blip r:embed="rId1"/>
          <a:stretch/>
        </p:blipFill>
        <p:spPr>
          <a:xfrm>
            <a:off x="990720" y="382680"/>
            <a:ext cx="7315200" cy="5789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914400" y="62784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incent van Gogh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Zvijezdana noć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88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4952880" y="6172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Constantin Brancusi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Mu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D:\predavanja\Povrsina mala\Brancusi. Muza.jpg"/>
          <p:cNvPicPr/>
          <p:nvPr/>
        </p:nvPicPr>
        <p:blipFill>
          <a:blip r:embed="rId1"/>
          <a:stretch/>
        </p:blipFill>
        <p:spPr>
          <a:xfrm>
            <a:off x="-25560" y="0"/>
            <a:ext cx="45212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027"/>
          <p:cNvSpPr/>
          <p:nvPr/>
        </p:nvSpPr>
        <p:spPr>
          <a:xfrm>
            <a:off x="4267080" y="5867280"/>
            <a:ext cx="38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ablo Picasso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Mrtva priroda s platnom stolice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28" descr="D:\predavanja\Povrsina mala\Pablo Picasso. Mrtva priroda s platnom stolice. 1912.jpg"/>
          <p:cNvPicPr/>
          <p:nvPr/>
        </p:nvPicPr>
        <p:blipFill>
          <a:blip r:embed="rId1"/>
          <a:stretch/>
        </p:blipFill>
        <p:spPr>
          <a:xfrm>
            <a:off x="1371600" y="297000"/>
            <a:ext cx="65530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D:\predavanja\Povrsina mala\4.razred.kora drveta0.jpg"/>
          <p:cNvPicPr/>
          <p:nvPr/>
        </p:nvPicPr>
        <p:blipFill>
          <a:blip r:embed="rId1"/>
          <a:stretch/>
        </p:blipFill>
        <p:spPr>
          <a:xfrm>
            <a:off x="1066680" y="1000080"/>
            <a:ext cx="716292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6"/>
          <p:cNvSpPr/>
          <p:nvPr/>
        </p:nvSpPr>
        <p:spPr>
          <a:xfrm>
            <a:off x="457200" y="4724280"/>
            <a:ext cx="4648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kora drvet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tekstur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slik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kombinirano, akvarel+tuš i pero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razred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" descr="D:\predavanja\Povrsina mala\4.razred.kora drveta3.jpg"/>
          <p:cNvPicPr/>
          <p:nvPr/>
        </p:nvPicPr>
        <p:blipFill>
          <a:blip r:embed="rId1"/>
          <a:stretch/>
        </p:blipFill>
        <p:spPr>
          <a:xfrm>
            <a:off x="533520" y="228600"/>
            <a:ext cx="2517480" cy="3809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D:\predavanja\Povrsina mala\4.razred.kora drveta2.jpg"/>
          <p:cNvPicPr/>
          <p:nvPr/>
        </p:nvPicPr>
        <p:blipFill>
          <a:blip r:embed="rId2"/>
          <a:stretch/>
        </p:blipFill>
        <p:spPr>
          <a:xfrm>
            <a:off x="3352680" y="228600"/>
            <a:ext cx="2517840" cy="3809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D:\predavanja\Povrsina mala\4.razred.kora drveta1.jpg"/>
          <p:cNvPicPr/>
          <p:nvPr/>
        </p:nvPicPr>
        <p:blipFill>
          <a:blip r:embed="rId3"/>
          <a:stretch/>
        </p:blipFill>
        <p:spPr>
          <a:xfrm>
            <a:off x="6172200" y="228600"/>
            <a:ext cx="2517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D:\predavanja\Povrsina mala\4.razred.kora drveta5.jpg"/>
          <p:cNvPicPr/>
          <p:nvPr/>
        </p:nvPicPr>
        <p:blipFill>
          <a:blip r:embed="rId1"/>
          <a:stretch/>
        </p:blipFill>
        <p:spPr>
          <a:xfrm>
            <a:off x="228600" y="825480"/>
            <a:ext cx="4051440" cy="2133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D:\predavanja\Povrsina mala\4.razred.kora drveta7.jpg"/>
          <p:cNvPicPr/>
          <p:nvPr/>
        </p:nvPicPr>
        <p:blipFill>
          <a:blip r:embed="rId2"/>
          <a:stretch/>
        </p:blipFill>
        <p:spPr>
          <a:xfrm>
            <a:off x="4648320" y="990720"/>
            <a:ext cx="4114800" cy="2166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D:\predavanja\Povrsina mala\4.razred.kora drveta6.jpg"/>
          <p:cNvPicPr/>
          <p:nvPr/>
        </p:nvPicPr>
        <p:blipFill>
          <a:blip r:embed="rId3"/>
          <a:stretch/>
        </p:blipFill>
        <p:spPr>
          <a:xfrm>
            <a:off x="304920" y="3908520"/>
            <a:ext cx="4419360" cy="22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D:\predavanja\Povrsina mala\4.razred.kora drveta8.jpg"/>
          <p:cNvPicPr/>
          <p:nvPr/>
        </p:nvPicPr>
        <p:blipFill>
          <a:blip r:embed="rId4"/>
          <a:stretch/>
        </p:blipFill>
        <p:spPr>
          <a:xfrm>
            <a:off x="5029200" y="4324320"/>
            <a:ext cx="38862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4:11:45Z</dcterms:created>
  <dc:creator>Miro</dc:creator>
  <dc:description/>
  <dc:language>en-US</dc:language>
  <cp:lastModifiedBy>Kreso Stojic</cp:lastModifiedBy>
  <dcterms:modified xsi:type="dcterms:W3CDTF">2009-05-15T20:30:19Z</dcterms:modified>
  <cp:revision>72</cp:revision>
  <dc:subject/>
  <dc:title>Površina</dc:title>
</cp:coreProperties>
</file>