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media/image8.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C8D92-BB49-467F-AACB-FA059357A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4AF7F-654C-41F6-AD9E-3F67FF51D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59F5A-0E27-4968-9144-FCB10E596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97694-4AF2-416C-8C7E-206461907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F8996-7B6E-4190-ACC5-120818753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BED9C-3179-43B0-A87C-7A958F8EC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C5747-54B6-4C5B-9803-16F2197C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41F72-552D-4F28-9035-CDA1D6802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D5102-1B01-4AD5-9F13-827DCB28D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9CF7-1B9F-4F7F-A897-2C3771515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A6B9-501E-4BD1-92F3-4F0FBB6CB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3124-223E-4360-AFCA-DE774D9F5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F257-8465-48FF-B0BA-7C0D92F32C18}"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elainegibson.net/parenting/discipline.html" TargetMode="External"/><Relationship Id="rId3" Type="http://schemas.openxmlformats.org/officeDocument/2006/relationships/hyperlink" Target="http://www.crisiscounseling.com/" TargetMode="External"/><Relationship Id="rId4" Type="http://schemas.openxmlformats.org/officeDocument/2006/relationships/hyperlink" Target="http://www.kidshealth.org/" TargetMode="External"/><Relationship Id="rId5" Type="http://schemas.openxmlformats.org/officeDocument/2006/relationships/hyperlink" Target="http://www.bbc.co.uk/parenting"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Znak 485"/>
          <p:cNvPicPr/>
          <p:nvPr/>
        </p:nvPicPr>
        <p:blipFill>
          <a:blip r:embed="rId1"/>
          <a:stretch/>
        </p:blipFill>
        <p:spPr>
          <a:xfrm>
            <a:off x="2843280" y="1125360"/>
            <a:ext cx="3478320" cy="411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95280" y="620280"/>
            <a:ext cx="8229600" cy="5792760"/>
          </a:xfrm>
          <a:prstGeom prst="rect">
            <a:avLst/>
          </a:prstGeom>
          <a:solidFill>
            <a:srgbClr val="ff6d74">
              <a:alpha val="32000"/>
            </a:srgbClr>
          </a:solid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majte na umu da djeca uvijek nastoje pomaknuti nametnute im granic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0" i="1" lang="hr-HR" sz="2400" spc="-1" strike="noStrike">
                <a:solidFill>
                  <a:srgbClr val="000000"/>
                </a:solidFill>
                <a:latin typeface="Georgia"/>
              </a:rPr>
              <a:t>(Npr. sedmogodišnje dijete koje ima izlazak do sedam sati kaže roditeljima: “Ali svi imaju izlazak do deve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ka djeca brzo odustaju od svojih zahtjeva, dok su neka vrlo uporna i potrebno im je više vremena da prihvate roditeljska obrazloženja. Neka djeca na pokušaj ispravljanja njihova ponašanja, reagiraju vrlo negativno, npr. postaju agresivna ili su pasivna. Važno je postići da dijete prihvati sugestiju koju mu dajemo, a to je lakše  ako jasno objasnimo zašto ne želimo da se ponaša na određeni način, koje posljedice to ponašanje može imati i potom dosljedno tražimo takvo ponašanj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rot="21199800">
            <a:off x="0" y="691560"/>
            <a:ext cx="9144000" cy="1197000"/>
          </a:xfrm>
          <a:prstGeom prst="rect">
            <a:avLst/>
          </a:prstGeom>
          <a:solidFill>
            <a:srgbClr val="ff6d74"/>
          </a:solidFill>
          <a:ln w="28440">
            <a:solidFill>
              <a:srgbClr val="000000"/>
            </a:solidFill>
            <a:prstDash val="sys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Osnovne preporuke:</a:t>
            </a:r>
            <a:endParaRPr b="0" lang="en-US" sz="3600" spc="-1" strike="noStrike">
              <a:solidFill>
                <a:srgbClr val="000000"/>
              </a:solidFill>
              <a:latin typeface="Arial"/>
            </a:endParaRPr>
          </a:p>
        </p:txBody>
      </p:sp>
      <p:sp>
        <p:nvSpPr>
          <p:cNvPr id="64"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65" name="Rectangle 4"/>
          <p:cNvSpPr/>
          <p:nvPr/>
        </p:nvSpPr>
        <p:spPr>
          <a:xfrm rot="21204000">
            <a:off x="1185840" y="2349360"/>
            <a:ext cx="6845400" cy="3385800"/>
          </a:xfrm>
          <a:prstGeom prst="rect">
            <a:avLst/>
          </a:prstGeom>
          <a:noFill/>
          <a:ln w="2844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jviše pažnje poklanjajte dobrom i poželjnom ponašanju svog djeteta. Posebno ga pohvalite kad pokazuje samokontrolu (npr. suzdrži se od agresivnog reagiranja, sluša što druga osoba govori iako se s njom ne slaže i sl.), jer mu na taj način dajete do znanja da je njegovo ponašanje poželjno i da s njim  treba i nastavi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54b37"/>
                </a:solidFill>
                <a:latin typeface="Arial"/>
              </a:rPr>
              <a:t>	</a:t>
            </a:r>
            <a:r>
              <a:rPr b="0" lang="hr-HR" sz="2400" spc="-1" strike="noStrike">
                <a:solidFill>
                  <a:srgbClr val="ff6d74"/>
                </a:solidFill>
                <a:latin typeface="Arial"/>
              </a:rPr>
              <a:t>Ne propustite priliku pohvaliti dijete!</a:t>
            </a:r>
            <a:endParaRPr b="0" lang="en-US" sz="2400" spc="-1" strike="noStrike">
              <a:solidFill>
                <a:srgbClr val="000000"/>
              </a:solidFill>
              <a:latin typeface="Arial"/>
            </a:endParaRPr>
          </a:p>
        </p:txBody>
      </p:sp>
      <p:sp>
        <p:nvSpPr>
          <p:cNvPr id="66" name="Rectangle 5"/>
          <p:cNvSpPr/>
          <p:nvPr/>
        </p:nvSpPr>
        <p:spPr>
          <a:xfrm>
            <a:off x="4863600" y="6203880"/>
            <a:ext cx="4022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d74"/>
                </a:solidFill>
                <a:latin typeface="Monotype Corsiva"/>
              </a:rPr>
              <a:t>...</a:t>
            </a:r>
            <a:r>
              <a:rPr b="1" lang="hr-HR" sz="2400" spc="-1" strike="noStrike">
                <a:solidFill>
                  <a:srgbClr val="ff6d74"/>
                </a:solidFill>
                <a:latin typeface="Monotype Corsiva"/>
              </a:rPr>
              <a:t>	</a:t>
            </a:r>
            <a:r>
              <a:rPr b="1" lang="hr-HR" sz="2400" spc="-1" strike="noStrike">
                <a:solidFill>
                  <a:srgbClr val="ff6d74"/>
                </a:solidFill>
                <a:latin typeface="Monotype Corsiva"/>
              </a:rPr>
              <a:t>a sada još savj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rot="907200">
            <a:off x="6227640" y="4292640"/>
            <a:ext cx="2519640" cy="1859040"/>
          </a:xfrm>
          <a:prstGeom prst="rect">
            <a:avLst/>
          </a:prstGeom>
          <a:ln w="0">
            <a:noFill/>
          </a:ln>
        </p:spPr>
      </p:pic>
      <p:sp>
        <p:nvSpPr>
          <p:cNvPr id="68"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ajte svom djetetu do znanja da ga volite</a:t>
            </a:r>
            <a:endParaRPr b="0" lang="en-US" sz="3600" spc="-1" strike="noStrike">
              <a:solidFill>
                <a:srgbClr val="000000"/>
              </a:solidFill>
              <a:latin typeface="Arial"/>
            </a:endParaRPr>
          </a:p>
        </p:txBody>
      </p:sp>
      <p:sp>
        <p:nvSpPr>
          <p:cNvPr id="69"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70" name="Rectangle 4"/>
          <p:cNvSpPr/>
          <p:nvPr/>
        </p:nvSpPr>
        <p:spPr>
          <a:xfrm>
            <a:off x="611280" y="1628640"/>
            <a:ext cx="58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cite mu </a:t>
            </a:r>
            <a:r>
              <a:rPr b="1" lang="hr-HR" sz="2400" spc="-1" strike="noStrike" u="sng">
                <a:solidFill>
                  <a:srgbClr val="000000"/>
                </a:solidFill>
                <a:uFillTx/>
                <a:latin typeface="Georgia"/>
              </a:rPr>
              <a:t>što točno cijenite</a:t>
            </a:r>
            <a:r>
              <a:rPr b="1" lang="hr-HR" sz="2400" spc="-1" strike="noStrike">
                <a:solidFill>
                  <a:srgbClr val="000000"/>
                </a:solidFill>
                <a:latin typeface="Georgia"/>
              </a:rPr>
              <a:t> kod njega (koje su njegove dobre osob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nekad “nagradite” dijete (najveća je nagrada za dijete vaš zagrljaj, pažnja onomu što govori, iskazivanje ponosa zbog onoga što je učinilo, neka zajednička aktivnost - igra, zajedničko gledanje film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rot="907200">
            <a:off x="5508720" y="2852640"/>
            <a:ext cx="2519280" cy="1859040"/>
          </a:xfrm>
          <a:prstGeom prst="rect">
            <a:avLst/>
          </a:prstGeom>
          <a:ln w="0">
            <a:noFill/>
          </a:ln>
        </p:spPr>
      </p:pic>
      <p:sp>
        <p:nvSpPr>
          <p:cNvPr id="72"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ajte svom djetetu do znanja da ga volite</a:t>
            </a:r>
            <a:endParaRPr b="0" lang="en-US" sz="3600" spc="-1" strike="noStrike">
              <a:solidFill>
                <a:srgbClr val="000000"/>
              </a:solidFill>
              <a:latin typeface="Arial"/>
            </a:endParaRPr>
          </a:p>
        </p:txBody>
      </p:sp>
      <p:sp>
        <p:nvSpPr>
          <p:cNvPr id="73"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74" name="Rectangle 6"/>
          <p:cNvSpPr/>
          <p:nvPr/>
        </p:nvSpPr>
        <p:spPr>
          <a:xfrm>
            <a:off x="971640" y="162864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cite mu </a:t>
            </a:r>
            <a:r>
              <a:rPr b="1" lang="hr-HR" sz="2400" spc="-1" strike="noStrike" u="sng">
                <a:solidFill>
                  <a:srgbClr val="000000"/>
                </a:solidFill>
                <a:uFillTx/>
                <a:latin typeface="Georgia"/>
              </a:rPr>
              <a:t>što točno cijenite</a:t>
            </a:r>
            <a:r>
              <a:rPr b="1" lang="hr-HR" sz="2400" spc="-1" strike="noStrike">
                <a:solidFill>
                  <a:srgbClr val="000000"/>
                </a:solidFill>
                <a:latin typeface="Georgia"/>
              </a:rPr>
              <a:t> kod njega (koje su njegove dobre osob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nekad “nagradite” dijete (najveća je nagrada za dijete vaš zagrljaj, pažnja onomu što govori, iskazivanje ponosa zbog onoga što je učinilo, neka zajednička aktivnost - igra, zajedničko gledanje film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539640" y="333360"/>
            <a:ext cx="8064720" cy="1224000"/>
          </a:xfrm>
          <a:prstGeom prst="rect">
            <a:avLst/>
          </a:prstGeom>
          <a:solidFill>
            <a:srgbClr val="ff6d74"/>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stavite djetetu granice. Važno je da točno zna što očekujete od njega.</a:t>
            </a:r>
            <a:endParaRPr b="0" lang="en-US" sz="3200" spc="-1" strike="noStrike">
              <a:solidFill>
                <a:srgbClr val="000000"/>
              </a:solidFill>
              <a:latin typeface="Arial"/>
            </a:endParaRPr>
          </a:p>
        </p:txBody>
      </p:sp>
      <p:sp>
        <p:nvSpPr>
          <p:cNvPr id="77" name="Rectangle 5"/>
          <p:cNvSpPr/>
          <p:nvPr/>
        </p:nvSpPr>
        <p:spPr>
          <a:xfrm>
            <a:off x="755640" y="1773360"/>
            <a:ext cx="756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lađa djeca, iako to nikada ne bi priznala, razvijaju strah ako doživljavaju previše slobode... z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tavite jasne granice za one aktivnosti koje vaše dijete, zbog svoje dobi, nije sposobno samo kontrolirati. </a:t>
            </a:r>
            <a:r>
              <a:rPr b="0" i="1" lang="hr-HR" sz="2400" spc="-1" strike="noStrike">
                <a:solidFill>
                  <a:srgbClr val="000000"/>
                </a:solidFill>
                <a:latin typeface="Arial"/>
              </a:rPr>
              <a:t>(npr. “Ne smiješ se voziti biciklom po cesti.”)</a:t>
            </a:r>
            <a:endParaRPr b="0" lang="en-US" sz="2400" spc="-1" strike="noStrike">
              <a:solidFill>
                <a:srgbClr val="000000"/>
              </a:solidFill>
              <a:latin typeface="Arial"/>
            </a:endParaRPr>
          </a:p>
        </p:txBody>
      </p:sp>
      <p:pic>
        <p:nvPicPr>
          <p:cNvPr id="78" name="Picture 6" descr="timeout"/>
          <p:cNvPicPr/>
          <p:nvPr/>
        </p:nvPicPr>
        <p:blipFill>
          <a:blip r:embed="rId1"/>
          <a:stretch/>
        </p:blipFill>
        <p:spPr>
          <a:xfrm>
            <a:off x="4140360" y="2708280"/>
            <a:ext cx="146052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11280" y="3645000"/>
            <a:ext cx="7848360" cy="1224000"/>
          </a:xfrm>
          <a:prstGeom prst="rect">
            <a:avLst/>
          </a:prstGeom>
          <a:solidFill>
            <a:srgbClr val="ff6d74"/>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nekad roditelji misle da moraju imati potpunu kontrolu nad svojom djecom, ili će, u suprotnom, djeca kontrolirati nji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 djeca trebaju imati kontrolu nad određenim okolnostima i stvarima. Na taj ih način učimo  odgovornost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Z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Izbjegavajte naredbe i postavljajte djetetu granice unutar kojih može preuzeti kontrolu svoga ponašanj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	</a:t>
            </a:r>
            <a:r>
              <a:rPr b="0" i="1" lang="hr-HR" sz="2400" spc="-1" strike="noStrike">
                <a:solidFill>
                  <a:srgbClr val="000000"/>
                </a:solidFill>
                <a:latin typeface="Arial"/>
              </a:rPr>
              <a:t>(npr. “Možeš se ići igrati nakon što završiš zadać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opustite djetetu da ponekad samo donosi odluke</a:t>
            </a:r>
            <a:endParaRPr b="0" lang="en-US" sz="3600" spc="-1" strike="noStrike">
              <a:solidFill>
                <a:srgbClr val="000000"/>
              </a:solidFill>
              <a:latin typeface="Arial"/>
            </a:endParaRPr>
          </a:p>
        </p:txBody>
      </p:sp>
      <p:sp>
        <p:nvSpPr>
          <p:cNvPr id="82"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83" name="Rectangle 6"/>
          <p:cNvSpPr/>
          <p:nvPr/>
        </p:nvSpPr>
        <p:spPr>
          <a:xfrm>
            <a:off x="900000" y="1735200"/>
            <a:ext cx="770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ko pritom ono donese odluku za koju smatrate da nije primjerena </a:t>
            </a:r>
            <a:r>
              <a:rPr b="0" i="1" lang="hr-HR" sz="2400" spc="-1" strike="noStrike">
                <a:solidFill>
                  <a:srgbClr val="000000"/>
                </a:solidFill>
                <a:latin typeface="Georgia"/>
              </a:rPr>
              <a:t>(npr. “Ostajat ću svaku večer do 10 sati vani.”)</a:t>
            </a:r>
            <a:r>
              <a:rPr b="1" lang="hr-HR" sz="2400" spc="-1" strike="noStrike">
                <a:solidFill>
                  <a:srgbClr val="000000"/>
                </a:solidFill>
                <a:latin typeface="Georgia"/>
              </a:rPr>
              <a:t>, možete tražiti da preispita svoju odluku i njezine posljedice </a:t>
            </a:r>
            <a:r>
              <a:rPr b="0" i="1" lang="hr-HR" sz="2400" spc="-1" strike="noStrike">
                <a:solidFill>
                  <a:srgbClr val="000000"/>
                </a:solidFill>
                <a:latin typeface="Georgia"/>
              </a:rPr>
              <a:t>(npr. “Što bi učinio kada bi bio na mom mjest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Budete li se prema djetetu ponašali kao prema odgovornoj osobi, njegova će odgovornost stalno rasti. Dijete se ne može naučiti odgovornom ponašanju ako stalno radi ono što mu drugi kažu.</a:t>
            </a:r>
            <a:r>
              <a:rPr b="0" lang="hr-HR" sz="2400" spc="-1" strike="noStrike">
                <a:solidFill>
                  <a:srgbClr val="000000"/>
                </a:solidFill>
                <a:latin typeface="Georg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6048360" cy="2050920"/>
          </a:xfrm>
          <a:prstGeom prst="rect">
            <a:avLst/>
          </a:prstGeom>
          <a:solidFill>
            <a:srgbClr val="ff6d7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Učite dijete da poštuje autoritet</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86"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5"/>
          <p:cNvSpPr/>
          <p:nvPr/>
        </p:nvSpPr>
        <p:spPr>
          <a:xfrm>
            <a:off x="539640" y="2492280"/>
            <a:ext cx="7201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kažite djetetu kakve učinke ima njegovo ponašanje na njega i dru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mozite mu naučiti da svađe ne pomažu i da se zbog njih ljudi osjećaju loš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Ne želim se svađati s tobom, nakon toga se loše osjećam.”)</a:t>
            </a:r>
            <a:endParaRPr b="0" lang="en-US" sz="2800" spc="-1" strike="noStrike">
              <a:solidFill>
                <a:srgbClr val="000000"/>
              </a:solidFill>
              <a:latin typeface="Arial"/>
            </a:endParaRPr>
          </a:p>
        </p:txBody>
      </p:sp>
      <p:pic>
        <p:nvPicPr>
          <p:cNvPr id="88" name="Picture 6" descr="svadja adolescenta"/>
          <p:cNvPicPr/>
          <p:nvPr/>
        </p:nvPicPr>
        <p:blipFill>
          <a:blip r:embed="rId1"/>
          <a:stretch/>
        </p:blipFill>
        <p:spPr>
          <a:xfrm rot="1746600">
            <a:off x="6372000" y="691920"/>
            <a:ext cx="2520720" cy="16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dobar primjer svomu djetetu</a:t>
            </a:r>
            <a:endParaRPr b="0" lang="en-US" sz="3600" spc="-1" strike="noStrike">
              <a:solidFill>
                <a:srgbClr val="000000"/>
              </a:solidFill>
              <a:latin typeface="Arial"/>
            </a:endParaRPr>
          </a:p>
        </p:txBody>
      </p:sp>
      <p:sp>
        <p:nvSpPr>
          <p:cNvPr id="90"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91"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1258920" y="1989000"/>
            <a:ext cx="6769080" cy="3506040"/>
          </a:xfrm>
          <a:prstGeom prst="rect">
            <a:avLst/>
          </a:prstGeom>
          <a:noFill/>
          <a:ln w="38160">
            <a:solidFill>
              <a:srgbClr val="ff6d74"/>
            </a:solidFill>
            <a:prstDash val="sys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jetite se da djeca najviše uče oponašanjem odrasli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to, dok učite djecu da ne lažu, kradu ili psuju, budite sigurni da i sami to ne čin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jasni u svojim zahtjevima</a:t>
            </a:r>
            <a:endParaRPr b="0" lang="en-US" sz="3600" spc="-1" strike="noStrike">
              <a:solidFill>
                <a:srgbClr val="000000"/>
              </a:solidFill>
              <a:latin typeface="Arial"/>
            </a:endParaRPr>
          </a:p>
        </p:txBody>
      </p:sp>
      <p:sp>
        <p:nvSpPr>
          <p:cNvPr id="94"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95"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395280" y="1628640"/>
            <a:ext cx="8353440" cy="4786560"/>
          </a:xfrm>
          <a:prstGeom prst="rect">
            <a:avLst/>
          </a:prstGeom>
          <a:noFill/>
          <a:ln w="28440">
            <a:solidFill>
              <a:srgbClr val="ff6d74"/>
            </a:solidFill>
            <a:prstDash val="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pr. djetetu je puno lakše razumjeti ako mu kažete: </a:t>
            </a:r>
            <a:r>
              <a:rPr b="0" i="1" lang="hr-HR" sz="2800" spc="-1" strike="noStrike">
                <a:solidFill>
                  <a:srgbClr val="000000"/>
                </a:solidFill>
                <a:latin typeface="Georg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              “</a:t>
            </a:r>
            <a:r>
              <a:rPr b="0" i="1" lang="hr-HR" sz="2800" spc="-1" strike="noStrike">
                <a:solidFill>
                  <a:srgbClr val="000000"/>
                </a:solidFill>
                <a:latin typeface="Georgia"/>
              </a:rPr>
              <a:t>Molim te stavi čašu na sredinu stol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neg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                        “</a:t>
            </a:r>
            <a:r>
              <a:rPr b="0" i="1" lang="hr-HR" sz="2800" spc="-1" strike="noStrike">
                <a:solidFill>
                  <a:srgbClr val="000000"/>
                </a:solidFill>
                <a:latin typeface="Georgia"/>
              </a:rPr>
              <a:t>Pazi na tu čašu mlijek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da se dogovarate s djetetom oko nekog pravila, tražite od njega da ponovi svojim riječima ono što od njega očekujete. Tako ćete biti sigurni da vas je razumj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684360" y="0"/>
            <a:ext cx="7250040" cy="6858000"/>
          </a:xfrm>
          <a:prstGeom prst="rect">
            <a:avLst/>
          </a:prstGeom>
          <a:ln w="0">
            <a:noFill/>
          </a:ln>
        </p:spPr>
      </p:pic>
      <p:sp>
        <p:nvSpPr>
          <p:cNvPr id="45" name="Rectangle 6"/>
          <p:cNvSpPr/>
          <p:nvPr/>
        </p:nvSpPr>
        <p:spPr>
          <a:xfrm>
            <a:off x="430200" y="5661000"/>
            <a:ext cx="8447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000" spc="-1" strike="noStrike">
                <a:solidFill>
                  <a:srgbClr val="000000"/>
                </a:solidFill>
                <a:latin typeface="Georgia"/>
              </a:rPr>
              <a:t>poučavanje disciplini</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ustrajni</a:t>
            </a:r>
            <a:endParaRPr b="0" lang="en-US" sz="3600" spc="-1" strike="noStrike">
              <a:solidFill>
                <a:srgbClr val="000000"/>
              </a:solidFill>
              <a:latin typeface="Arial"/>
            </a:endParaRPr>
          </a:p>
        </p:txBody>
      </p:sp>
      <p:sp>
        <p:nvSpPr>
          <p:cNvPr id="98"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99"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1116000" y="1773360"/>
            <a:ext cx="6840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atite pridržava li se dijete pravila koje ste dogovori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jetite se još jednom da postoje djeca koja teže prihvaćaju pravi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Ne postavljajte pravila na kojima i sami niste spremni ustrajat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    </a:t>
            </a:r>
            <a:r>
              <a:rPr b="0" i="1" lang="hr-HR" sz="2800" spc="-1" strike="noStrike">
                <a:solidFill>
                  <a:srgbClr val="000000"/>
                </a:solidFill>
                <a:latin typeface="Arial"/>
              </a:rPr>
              <a:t>(npr. “Svaku ćeš večer ići u krevet poslije crtić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Neka dijete unaprijed zna koje su posljedice njegova ponašanja</a:t>
            </a:r>
            <a:endParaRPr b="0" lang="en-US" sz="3600" spc="-1" strike="noStrike">
              <a:solidFill>
                <a:srgbClr val="000000"/>
              </a:solidFill>
              <a:latin typeface="Arial"/>
            </a:endParaRPr>
          </a:p>
        </p:txBody>
      </p:sp>
      <p:sp>
        <p:nvSpPr>
          <p:cNvPr id="102"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103"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0" y="1628640"/>
            <a:ext cx="9144000" cy="5214600"/>
          </a:xfrm>
          <a:prstGeom prst="rect">
            <a:avLst/>
          </a:prstGeom>
          <a:solidFill>
            <a:srgbClr val="ff6d7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	</a:t>
            </a:r>
            <a:r>
              <a:rPr b="1" i="1" lang="hr-HR" sz="2400" spc="-1" strike="noStrike">
                <a:solidFill>
                  <a:srgbClr val="000000"/>
                </a:solidFill>
                <a:latin typeface="Arial"/>
              </a:rPr>
              <a:t>npr.</a:t>
            </a:r>
            <a:r>
              <a:rPr b="0" i="1" lang="hr-HR" sz="2400" spc="-1" strike="noStrike">
                <a:solidFill>
                  <a:srgbClr val="000000"/>
                </a:solidFill>
                <a:latin typeface="Arial"/>
              </a:rPr>
              <a:t> “Budem li vozio bicikl po cesti, bit će mi zabranjeno da </a:t>
            </a:r>
            <a:r>
              <a:rPr b="0" i="1" lang="hr-HR" sz="2400" spc="-1" strike="noStrike">
                <a:solidFill>
                  <a:srgbClr val="000000"/>
                </a:solidFill>
                <a:latin typeface="Arial"/>
              </a:rPr>
              <a:t>	</a:t>
            </a:r>
            <a:r>
              <a:rPr b="0" i="1" lang="hr-HR" sz="2400" spc="-1" strike="noStrike">
                <a:solidFill>
                  <a:srgbClr val="000000"/>
                </a:solidFill>
                <a:latin typeface="Arial"/>
              </a:rPr>
              <a:t>ga voz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sljedice djetetova ponašanja mogu biti </a:t>
            </a:r>
            <a:r>
              <a:rPr b="1" lang="hr-HR" sz="2400" spc="-1" strike="noStrike" u="sng">
                <a:solidFill>
                  <a:srgbClr val="000000"/>
                </a:solidFill>
                <a:uFillTx/>
                <a:latin typeface="Arial"/>
              </a:rPr>
              <a:t>prirodne</a:t>
            </a:r>
            <a:r>
              <a:rPr b="1" i="1" lang="hr-HR" sz="2400" spc="-1" strike="noStrike">
                <a:solidFill>
                  <a:srgbClr val="000000"/>
                </a:solidFill>
                <a:latin typeface="Arial"/>
              </a:rPr>
              <a:t> </a:t>
            </a:r>
            <a:r>
              <a:rPr b="0" i="1" lang="hr-HR" sz="2400" spc="-1" strike="noStrike">
                <a:solidFill>
                  <a:srgbClr val="000000"/>
                </a:solidFill>
                <a:latin typeface="Arial"/>
              </a:rPr>
              <a:t> </a:t>
            </a:r>
            <a:r>
              <a:rPr b="0" i="1" lang="hr-HR" sz="2400" spc="-1" strike="noStrike">
                <a:solidFill>
                  <a:srgbClr val="000000"/>
                </a:solidFill>
                <a:latin typeface="Arial"/>
              </a:rPr>
              <a:t>	</a:t>
            </a:r>
            <a:r>
              <a:rPr b="0" i="1" lang="hr-HR" sz="2400" spc="-1" strike="noStrike">
                <a:solidFill>
                  <a:srgbClr val="000000"/>
                </a:solidFill>
                <a:latin typeface="Arial"/>
              </a:rPr>
              <a:t>(pokisnut će ako pada kiša a nije htjelo uzeti kišobran). </a:t>
            </a:r>
            <a:r>
              <a:rPr b="0" i="1" lang="hr-HR" sz="2400" spc="-1" strike="noStrike">
                <a:solidFill>
                  <a:srgbClr val="000000"/>
                </a:solidFill>
                <a:latin typeface="Arial"/>
              </a:rPr>
              <a:t>	</a:t>
            </a:r>
            <a:r>
              <a:rPr b="1" lang="hr-HR" sz="2400" spc="-1" strike="noStrike">
                <a:solidFill>
                  <a:srgbClr val="000000"/>
                </a:solidFill>
                <a:latin typeface="Arial"/>
              </a:rPr>
              <a:t>Ova vrsta posljedica posebno je korisna kod djece </a:t>
            </a:r>
            <a:r>
              <a:rPr b="1" lang="hr-HR" sz="2400" spc="-1" strike="noStrike">
                <a:solidFill>
                  <a:srgbClr val="000000"/>
                </a:solidFill>
                <a:latin typeface="Arial"/>
              </a:rPr>
              <a:t>	</a:t>
            </a:r>
            <a:r>
              <a:rPr b="1" lang="hr-HR" sz="2400" spc="-1" strike="noStrike">
                <a:solidFill>
                  <a:srgbClr val="000000"/>
                </a:solidFill>
                <a:latin typeface="Arial"/>
              </a:rPr>
              <a:t>starije od devet godina. Prirodne posljedice </a:t>
            </a:r>
            <a:r>
              <a:rPr b="1" lang="hr-HR" sz="2400" spc="-1" strike="noStrike">
                <a:solidFill>
                  <a:srgbClr val="000000"/>
                </a:solidFill>
                <a:latin typeface="Arial"/>
              </a:rPr>
              <a:t>	</a:t>
            </a:r>
            <a:r>
              <a:rPr b="1" lang="hr-HR" sz="2400" spc="-1" strike="noStrike">
                <a:solidFill>
                  <a:srgbClr val="000000"/>
                </a:solidFill>
                <a:latin typeface="Arial"/>
              </a:rPr>
              <a:t>omogućavaju djetetu da uči iz vlastita iskustva. Često </a:t>
            </a:r>
            <a:r>
              <a:rPr b="1" lang="hr-HR" sz="2400" spc="-1" strike="noStrike">
                <a:solidFill>
                  <a:srgbClr val="000000"/>
                </a:solidFill>
                <a:latin typeface="Arial"/>
              </a:rPr>
              <a:t>	</a:t>
            </a:r>
            <a:r>
              <a:rPr b="1" lang="hr-HR" sz="2400" spc="-1" strike="noStrike">
                <a:solidFill>
                  <a:srgbClr val="000000"/>
                </a:solidFill>
                <a:latin typeface="Arial"/>
              </a:rPr>
              <a:t>roditelji i drugi odrasli, iz pretjerane brige prema djeci, </a:t>
            </a:r>
            <a:r>
              <a:rPr b="1" lang="hr-HR" sz="2400" spc="-1" strike="noStrike">
                <a:solidFill>
                  <a:srgbClr val="000000"/>
                </a:solidFill>
                <a:latin typeface="Arial"/>
              </a:rPr>
              <a:t>	</a:t>
            </a:r>
            <a:r>
              <a:rPr b="1" lang="hr-HR" sz="2400" spc="-1" strike="noStrike">
                <a:solidFill>
                  <a:srgbClr val="000000"/>
                </a:solidFill>
                <a:latin typeface="Arial"/>
              </a:rPr>
              <a:t>onemogućuju učenje iz vlastita iskustva </a:t>
            </a:r>
            <a:r>
              <a:rPr b="0" i="1" lang="hr-HR" sz="2400" spc="-1" strike="noStrike">
                <a:solidFill>
                  <a:srgbClr val="000000"/>
                </a:solidFill>
                <a:latin typeface="Arial"/>
              </a:rPr>
              <a:t>(npr. kada </a:t>
            </a:r>
            <a:r>
              <a:rPr b="0" i="1" lang="hr-HR" sz="2400" spc="-1" strike="noStrike">
                <a:solidFill>
                  <a:srgbClr val="000000"/>
                </a:solidFill>
                <a:latin typeface="Arial"/>
              </a:rPr>
              <a:t>	</a:t>
            </a:r>
            <a:r>
              <a:rPr b="0" i="1" lang="hr-HR" sz="2400" spc="-1" strike="noStrike">
                <a:solidFill>
                  <a:srgbClr val="000000"/>
                </a:solidFill>
                <a:latin typeface="Arial"/>
              </a:rPr>
              <a:t>roditelji uporno ispričavaju djecu za nenapisane zadaće)</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Zbog takvog odnosa djeca nemaju priliku učiti se </a:t>
            </a:r>
            <a:r>
              <a:rPr b="1" lang="hr-HR" sz="2400" spc="-1" strike="noStrike">
                <a:solidFill>
                  <a:srgbClr val="000000"/>
                </a:solidFill>
                <a:latin typeface="Arial"/>
              </a:rPr>
              <a:t>	</a:t>
            </a:r>
            <a:r>
              <a:rPr b="1" lang="hr-HR" sz="2400" spc="-1" strike="noStrike">
                <a:solidFill>
                  <a:srgbClr val="000000"/>
                </a:solidFill>
                <a:latin typeface="Arial"/>
              </a:rPr>
              <a:t>odgovornom ponašan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484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Neka dijete unaprijed zna koje su posljedice njegova ponašanja</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07"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
          <p:cNvSpPr/>
          <p:nvPr/>
        </p:nvSpPr>
        <p:spPr>
          <a:xfrm rot="21016200">
            <a:off x="469440" y="1844280"/>
            <a:ext cx="7056360" cy="39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e možete i </a:t>
            </a:r>
            <a:r>
              <a:rPr b="1" lang="hr-HR" sz="2400" spc="-1" strike="noStrike" u="sng">
                <a:solidFill>
                  <a:srgbClr val="000000"/>
                </a:solidFill>
                <a:uFillTx/>
                <a:latin typeface="Georgia"/>
              </a:rPr>
              <a:t>sami kreirati</a:t>
            </a:r>
            <a:r>
              <a:rPr b="1" lang="hr-HR" sz="2400" spc="-1" strike="noStrike">
                <a:solidFill>
                  <a:srgbClr val="000000"/>
                </a:solidFill>
                <a:latin typeface="Georgia"/>
              </a:rPr>
              <a:t>. Važno je da su one logična posljedica djetetova ponašanj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Georgia"/>
              </a:rPr>
              <a:t>Npr.: “Danas si vozio bicikl bez kacige. Mogao si pasti i ozbiljno se ozlijediti i zato to ne smiješ činiti. Zbog toga ga nećeš voziti do nedjelj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Georgia"/>
              </a:rPr>
              <a:t>a ne: “Danas si vozio bicikl bez kacige i zato nema kompjutera!”)</a:t>
            </a:r>
            <a:endParaRPr b="0" lang="en-US" sz="2400" spc="-1" strike="noStrike">
              <a:solidFill>
                <a:srgbClr val="000000"/>
              </a:solidFill>
              <a:latin typeface="Arial"/>
            </a:endParaRPr>
          </a:p>
          <a:p>
            <a:pPr>
              <a:lnSpc>
                <a:spcPct val="9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6" descr=""/>
          <p:cNvPicPr/>
          <p:nvPr/>
        </p:nvPicPr>
        <p:blipFill>
          <a:blip r:embed="rId1"/>
          <a:stretch/>
        </p:blipFill>
        <p:spPr>
          <a:xfrm rot="996000">
            <a:off x="6732720" y="4724280"/>
            <a:ext cx="1697040" cy="178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0" y="0"/>
            <a:ext cx="745632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716000" y="1483920"/>
            <a:ext cx="4038840" cy="5031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fe000c"/>
                </a:solidFill>
                <a:latin typeface="Arial"/>
              </a:rPr>
              <a:t>Promjena ponašanja pozitivnim metodama (upute, aktivno uključivanje u odluke, pohvale, nagrade) najbolji je nač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e000c"/>
                </a:solidFill>
                <a:latin typeface="Arial"/>
              </a:rPr>
              <a:t>ipak...</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e000c"/>
                </a:solidFill>
                <a:latin typeface="Arial"/>
              </a:rPr>
              <a:t>	</a:t>
            </a:r>
            <a:r>
              <a:rPr b="1" lang="hr-HR" sz="2400" spc="-1" strike="noStrike">
                <a:solidFill>
                  <a:srgbClr val="fe000c"/>
                </a:solidFill>
                <a:latin typeface="Arial"/>
              </a:rPr>
              <a:t>to je proces koji zahtijeva vrijeme. Ponekad je ponašanje djeteta toliko ometajuće da ga treba mijenjati što prij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59920"/>
            <a:ext cx="8229600" cy="129564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Koja je razlika između kazne i učenja disciplini?</a:t>
            </a:r>
            <a:endParaRPr b="0" lang="en-US" sz="4000" spc="-1" strike="noStrike">
              <a:solidFill>
                <a:srgbClr val="000000"/>
              </a:solidFill>
              <a:latin typeface="Arial"/>
            </a:endParaRPr>
          </a:p>
        </p:txBody>
      </p:sp>
      <p:pic>
        <p:nvPicPr>
          <p:cNvPr id="114" name="Picture 3" descr=""/>
          <p:cNvPicPr/>
          <p:nvPr/>
        </p:nvPicPr>
        <p:blipFill>
          <a:blip r:embed="rId1"/>
          <a:stretch/>
        </p:blipFill>
        <p:spPr>
          <a:xfrm>
            <a:off x="611280" y="16286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Kazn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17"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6" descr=""/>
          <p:cNvPicPr/>
          <p:nvPr/>
        </p:nvPicPr>
        <p:blipFill>
          <a:blip r:embed="rId1"/>
          <a:stretch/>
        </p:blipFill>
        <p:spPr>
          <a:xfrm rot="996000">
            <a:off x="7020000" y="3645000"/>
            <a:ext cx="1697040" cy="1782720"/>
          </a:xfrm>
          <a:prstGeom prst="rect">
            <a:avLst/>
          </a:prstGeom>
          <a:ln w="0">
            <a:noFill/>
          </a:ln>
        </p:spPr>
      </p:pic>
      <p:sp>
        <p:nvSpPr>
          <p:cNvPr id="119" name="Rectangle 7"/>
          <p:cNvSpPr/>
          <p:nvPr/>
        </p:nvSpPr>
        <p:spPr>
          <a:xfrm>
            <a:off x="250920" y="1341360"/>
            <a:ext cx="7489800" cy="57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a za cilj da se ponašanje djeteta više nikada ne ponovi. Međutim, čak i ako se odmah nakon kazne prestane ponašati na način koji je neprimjeren, dijete je nakon kazne toliko preplavljeno negativnim emocijama da će se često početi ponašati još g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Koristi se zbog vjerovanja da je osjećaj straha dobar način da se nešto nauč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ko roditelj koristi uvijek isti oblik kažnjavanja, </a:t>
            </a:r>
            <a:r>
              <a:rPr b="0" i="1" lang="hr-HR" sz="2400" spc="-1" strike="noStrike">
                <a:solidFill>
                  <a:srgbClr val="000000"/>
                </a:solidFill>
                <a:latin typeface="Georgia"/>
              </a:rPr>
              <a:t>npr. pljusku</a:t>
            </a:r>
            <a:r>
              <a:rPr b="1" lang="hr-HR" sz="2400" spc="-1" strike="noStrike">
                <a:solidFill>
                  <a:srgbClr val="000000"/>
                </a:solidFill>
                <a:latin typeface="Georgia"/>
              </a:rPr>
              <a:t>, dijete ne uči ništa o stvarnim posljedicama svoga ponašanja </a:t>
            </a:r>
            <a:r>
              <a:rPr b="0" i="1" lang="hr-HR" sz="2400" spc="-1" strike="noStrike">
                <a:solidFill>
                  <a:srgbClr val="000000"/>
                </a:solidFill>
                <a:latin typeface="Georgia"/>
              </a:rPr>
              <a:t>(npr. da ako razbacuje hranu neće imati što jesti)</a:t>
            </a:r>
            <a:r>
              <a:rPr b="1" lang="hr-HR" sz="2400" spc="-1" strike="noStrike">
                <a:solidFill>
                  <a:srgbClr val="000000"/>
                </a:solidFill>
                <a:latin typeface="Georgia"/>
              </a:rPr>
              <a:t>.</a:t>
            </a:r>
            <a:endParaRPr b="0" lang="en-US" sz="2400" spc="-1" strike="noStrike">
              <a:solidFill>
                <a:srgbClr val="000000"/>
              </a:solidFill>
              <a:latin typeface="Arial"/>
            </a:endParaRPr>
          </a:p>
          <a:p>
            <a:pPr>
              <a:lnSpc>
                <a:spcPct val="9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Što kažnjavanje ima za posljedicu?</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22"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5" descr=""/>
          <p:cNvPicPr/>
          <p:nvPr/>
        </p:nvPicPr>
        <p:blipFill>
          <a:blip r:embed="rId1"/>
          <a:stretch/>
        </p:blipFill>
        <p:spPr>
          <a:xfrm rot="996000">
            <a:off x="7020000" y="3645000"/>
            <a:ext cx="1697040" cy="1782720"/>
          </a:xfrm>
          <a:prstGeom prst="rect">
            <a:avLst/>
          </a:prstGeom>
          <a:ln w="0">
            <a:noFill/>
          </a:ln>
        </p:spPr>
      </p:pic>
      <p:sp>
        <p:nvSpPr>
          <p:cNvPr id="124" name="Rectangle 7"/>
          <p:cNvSpPr/>
          <p:nvPr/>
        </p:nvSpPr>
        <p:spPr>
          <a:xfrm>
            <a:off x="539640" y="1341360"/>
            <a:ext cx="684072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Dijete nas se boji. Ako dijete nije unaprijed upozoreno da će biti kažnjeno ili ako ne razumije zašto je bilo kažnjeno, počet će izbjegavati bilo kakve aktivnosti iz straha da se kazna opet ne ponovi. </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Osjeća bijes i ljutnju prema nama (jer smo mu nanijeli fizičku ili psihičku bol). Ta ljutnja koju dijete osjeća može biti uzrok njegova agresivna ponašanja prema vršnjacima ili odraslima.</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Laže nam (da bi izbjeglo kaznu).</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Narušeno mu je samopoštovanje. Djeca koja su stalno kažnjavana, nemaju znanja o vlastitim vrijednostima i zato je njihovo samopoštovanje naruš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640" y="1341360"/>
            <a:ext cx="8229600" cy="3888000"/>
          </a:xfrm>
          <a:prstGeom prst="rect">
            <a:avLst/>
          </a:prstGeom>
          <a:solidFill>
            <a:srgbClr val="ff6d74"/>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ako kažnjavanje izaziva brzu promjenu nepoželjnog ponašanje, KORISTITE GA ŠTO JE RJEĐE MOGUĆE. Ta brza promjena u pravilu je i kratkotraj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Kažnjavanjem učimo dijete ŠTO NE SMIJ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ali ga ne učimo što TREBA i SMIJE činit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	</a:t>
            </a:r>
            <a:r>
              <a:rPr b="0" i="1" lang="hr-HR" sz="2400" spc="-1" strike="noStrike">
                <a:solidFill>
                  <a:srgbClr val="000000"/>
                </a:solidFill>
                <a:latin typeface="Arial"/>
              </a:rPr>
              <a:t>Npr. ako ste udarili dijete nakon što je pretrčalo cestu, ono je samo naučilo da cestu ne smije pretrčavati. Ono još uvijek ne zna kako da je sigurno prijeđ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ijete koje poučavamo disciplini razumjet će i prihvatiti:</a:t>
            </a:r>
            <a:endParaRPr b="0" lang="en-US" sz="3600" spc="-1" strike="noStrike">
              <a:solidFill>
                <a:srgbClr val="000000"/>
              </a:solidFill>
              <a:latin typeface="Arial"/>
            </a:endParaRPr>
          </a:p>
        </p:txBody>
      </p:sp>
      <p:sp>
        <p:nvSpPr>
          <p:cNvPr id="127" name="PlaceHolder 2"/>
          <p:cNvSpPr>
            <a:spLocks noGrp="1"/>
          </p:cNvSpPr>
          <p:nvPr>
            <p:ph/>
          </p:nvPr>
        </p:nvSpPr>
        <p:spPr>
          <a:xfrm>
            <a:off x="468360" y="155736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28"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
          <p:cNvPicPr/>
          <p:nvPr/>
        </p:nvPicPr>
        <p:blipFill>
          <a:blip r:embed="rId1"/>
          <a:stretch/>
        </p:blipFill>
        <p:spPr>
          <a:xfrm rot="907200">
            <a:off x="5435280" y="2565360"/>
            <a:ext cx="2743200" cy="2648160"/>
          </a:xfrm>
          <a:prstGeom prst="rect">
            <a:avLst/>
          </a:prstGeom>
          <a:ln w="0">
            <a:noFill/>
          </a:ln>
        </p:spPr>
      </p:pic>
      <p:sp>
        <p:nvSpPr>
          <p:cNvPr id="130" name="Rectangle 9"/>
          <p:cNvSpPr/>
          <p:nvPr/>
        </p:nvSpPr>
        <p:spPr>
          <a:xfrm>
            <a:off x="755640" y="1916280"/>
            <a:ext cx="4572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nakon svake aktivnosti   slijede posljedice (dobre ili loš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smo svi odgovorni za svoje ponašanj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svi imamo pravo i mogućnost izbor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postoje granice i da su one svima koris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Koje su primjerene posljedice djetetova pogrešnog ponašanja?</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33"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755640" y="1484280"/>
            <a:ext cx="7848720" cy="5066640"/>
          </a:xfrm>
          <a:prstGeom prst="rect">
            <a:avLst/>
          </a:prstGeom>
          <a:noFill/>
          <a:ln w="76320">
            <a:solidFill>
              <a:srgbClr val="ff6d74"/>
            </a:solidFill>
            <a:miter/>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ajte djetetu znak da je pretjeralo sa svojim ponašanjem </a:t>
            </a:r>
            <a:r>
              <a:rPr b="0" i="1" lang="hr-HR" sz="2400" spc="-1" strike="noStrike">
                <a:solidFill>
                  <a:srgbClr val="000000"/>
                </a:solidFill>
                <a:latin typeface="Georgia"/>
              </a:rPr>
              <a:t>(npr. strog pogled ili verbalno upozorenje)</a:t>
            </a:r>
            <a:r>
              <a:rPr b="1" lang="hr-HR" sz="2400" spc="-1" strike="noStrike">
                <a:solidFill>
                  <a:srgbClr val="000000"/>
                </a:solidFill>
                <a:latin typeface="Georgia"/>
              </a:rPr>
              <a:t>.</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om morate pokazati da poštujete dijete, ali i sebe. </a:t>
            </a:r>
            <a:r>
              <a:rPr b="0" i="1" lang="hr-HR" sz="2400" spc="-1" strike="noStrike">
                <a:solidFill>
                  <a:srgbClr val="000000"/>
                </a:solidFill>
                <a:latin typeface="Georgia"/>
              </a:rPr>
              <a:t>(“Preglasna si i ne mogu razgovarati telefonom. Molim te, idi u sobu!”)</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mora biti povezana s neprihvatljivim ponašanjem. </a:t>
            </a:r>
            <a:r>
              <a:rPr b="0" i="1" lang="hr-HR" sz="2400" spc="-1" strike="noStrike">
                <a:solidFill>
                  <a:srgbClr val="000000"/>
                </a:solidFill>
                <a:latin typeface="Georgia"/>
              </a:rPr>
              <a:t>(Npr. nakon što se dijete potuklo, puno je primjerenije da se mora ispričati za svoje ponašanje nego zabraniti gledanje filma.)</a:t>
            </a:r>
            <a:endParaRPr b="0" lang="en-US" sz="2400" spc="-1" strike="noStrike">
              <a:solidFill>
                <a:srgbClr val="000000"/>
              </a:solidFill>
              <a:latin typeface="Arial"/>
            </a:endParaRPr>
          </a:p>
          <a:p>
            <a:pPr>
              <a:lnSpc>
                <a:spcPct val="8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evedeno iz: Severe S. (2000): How to behave?</a:t>
            </a:r>
            <a:endParaRPr b="0" lang="en-US" sz="1400" spc="-1" strike="noStrike">
              <a:solidFill>
                <a:srgbClr val="000000"/>
              </a:solidFill>
              <a:latin typeface="Arial"/>
            </a:endParaRPr>
          </a:p>
        </p:txBody>
      </p:sp>
      <p:sp>
        <p:nvSpPr>
          <p:cNvPr id="47" name="Rectangle 4"/>
          <p:cNvSpPr/>
          <p:nvPr/>
        </p:nvSpPr>
        <p:spPr>
          <a:xfrm>
            <a:off x="395280" y="549360"/>
            <a:ext cx="5832360" cy="5639760"/>
          </a:xfrm>
          <a:prstGeom prst="rect">
            <a:avLst/>
          </a:prstGeom>
          <a:solidFill>
            <a:srgbClr val="ff6d7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discipliniraš svoju djec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uno vičem na nji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Djeluje li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e baš. Smire se na nekoliko minu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on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Opet se potuk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što onda napravi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ljutim se i svakoga od njih ošamari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Smire li se t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 neko vrijeme.”</a:t>
            </a:r>
            <a:endParaRPr b="0" lang="en-US" sz="2800" spc="-1" strike="noStrike">
              <a:solidFill>
                <a:srgbClr val="000000"/>
              </a:solidFill>
              <a:latin typeface="Arial"/>
            </a:endParaRPr>
          </a:p>
        </p:txBody>
      </p:sp>
      <p:pic>
        <p:nvPicPr>
          <p:cNvPr id="48" name="Picture 5" descr=""/>
          <p:cNvPicPr/>
          <p:nvPr/>
        </p:nvPicPr>
        <p:blipFill>
          <a:blip r:embed="rId1"/>
          <a:stretch/>
        </p:blipFill>
        <p:spPr>
          <a:xfrm rot="733800">
            <a:off x="5940000" y="3499920"/>
            <a:ext cx="2952720" cy="300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68360" y="476280"/>
            <a:ext cx="8229600" cy="5865840"/>
          </a:xfrm>
          <a:prstGeom prst="rect">
            <a:avLst/>
          </a:prstGeom>
          <a:noFill/>
          <a:ln w="57240">
            <a:solidFill>
              <a:srgbClr val="ff6d74"/>
            </a:solidFill>
            <a:miter/>
          </a:ln>
        </p:spPr>
        <p:txBody>
          <a:bodyPr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 poistovjećujte dijete i njegovo ponašanje. </a:t>
            </a:r>
            <a:r>
              <a:rPr b="0" i="1" lang="hr-HR" sz="2400" spc="-1" strike="noStrike">
                <a:solidFill>
                  <a:srgbClr val="000000"/>
                </a:solidFill>
                <a:latin typeface="Georgia"/>
              </a:rPr>
              <a:t>(Umjesto: “Neuredna si,” puno je bolje reći: ”Nisi pospremila sobu. Učini to danas ili...”)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mora uslijediti ubrzo nakon djetetova lošeg ponašanja. U suprotnom, neće povezati posljedicu i ponašanje koje treba ispraviti.</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ne smije biti preintenzivna s obzirom na nepoželjno ponašanje </a:t>
            </a:r>
            <a:r>
              <a:rPr b="0" i="1" lang="hr-HR" sz="2400" spc="-1" strike="noStrike">
                <a:solidFill>
                  <a:srgbClr val="000000"/>
                </a:solidFill>
                <a:latin typeface="Georgia"/>
              </a:rPr>
              <a:t>(npr. zabrana izlazaka cijeli mjesec za 15 minuta kašnjenja - dovoljan je 1 dan)</a:t>
            </a:r>
            <a:r>
              <a:rPr b="1" lang="hr-HR" sz="2400" spc="-1" strike="noStrike">
                <a:solidFill>
                  <a:srgbClr val="000000"/>
                </a:solidFill>
                <a:latin typeface="Georgia"/>
              </a:rPr>
              <a:t>.</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Kada ste jednom odredili posljedicu, i sami u njoj morate ustrajati. Stoga, ne određujte posljedice koje sami ne možete provesti. </a:t>
            </a:r>
            <a:r>
              <a:rPr b="0" i="1" lang="hr-HR" sz="2400" spc="-1" strike="noStrike">
                <a:solidFill>
                  <a:srgbClr val="000000"/>
                </a:solidFill>
                <a:latin typeface="Georgia"/>
              </a:rPr>
              <a:t>(“Svaki ću te dan dovoziti i odvoziti iz škol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evedeno iz:Severe S. (2000). How to behave?</a:t>
            </a:r>
            <a:endParaRPr b="0" lang="en-US" sz="1400" spc="-1" strike="noStrike">
              <a:solidFill>
                <a:srgbClr val="000000"/>
              </a:solidFill>
              <a:latin typeface="Arial"/>
            </a:endParaRPr>
          </a:p>
        </p:txBody>
      </p:sp>
      <p:sp>
        <p:nvSpPr>
          <p:cNvPr id="138" name="PlaceHolder 1"/>
          <p:cNvSpPr>
            <a:spLocks noGrp="1"/>
          </p:cNvSpPr>
          <p:nvPr>
            <p:ph/>
          </p:nvPr>
        </p:nvSpPr>
        <p:spPr>
          <a:xfrm>
            <a:off x="457200" y="476280"/>
            <a:ext cx="8229600" cy="5649840"/>
          </a:xfrm>
          <a:prstGeom prst="rect">
            <a:avLst/>
          </a:prstGeom>
          <a:solidFill>
            <a:srgbClr val="ff6d74"/>
          </a:solidFill>
          <a:ln w="0">
            <a:noFill/>
          </a:ln>
        </p:spPr>
        <p:txBody>
          <a:bodyPr anchor="t">
            <a:normAutofit fontScale="99000"/>
          </a:bodyPr>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kažnjavate svoju djecu?”</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Vičem.”</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oni reagiraju na to?”</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e reagiraju. Obično me ignoriraju.”</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onda?”</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ljutim se. Ponekad opet vičem.”</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restanu li?”</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Možda na kratko.”</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što onda pokušate?”</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onekad ih ošamarim.”</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oliko ih često ošamarite?”</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Oko osam do deset puta dnev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Izbjegavajte fizičko kažnjavanje djeteta</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41"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
          <p:cNvPicPr/>
          <p:nvPr/>
        </p:nvPicPr>
        <p:blipFill>
          <a:blip r:embed="rId1"/>
          <a:stretch/>
        </p:blipFill>
        <p:spPr>
          <a:xfrm rot="996000">
            <a:off x="7020000" y="3645000"/>
            <a:ext cx="1697040" cy="1782720"/>
          </a:xfrm>
          <a:prstGeom prst="rect">
            <a:avLst/>
          </a:prstGeom>
          <a:ln w="0">
            <a:noFill/>
          </a:ln>
        </p:spPr>
      </p:pic>
      <p:sp>
        <p:nvSpPr>
          <p:cNvPr id="143" name="Rectangle 7"/>
          <p:cNvSpPr/>
          <p:nvPr/>
        </p:nvSpPr>
        <p:spPr>
          <a:xfrm>
            <a:off x="755640" y="1413000"/>
            <a:ext cx="748836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ono izaziva mržnju, najrazorniju emociju koju čovjek poznaje.  Kazna može razoriti odnos koji imate s djetet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negativno utječe na njegovo samopoštovanj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ga fizičkim kažnjavanjem učimo da je fizičko nasilje prihvatljivo ako smo jači. Time ga možemo potaknuti da postane nasilni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rugi oblici discipliniranja djeteta više će utjecati na promjenu djetetova ponašanja </a:t>
            </a:r>
            <a:r>
              <a:rPr b="0" i="1" lang="hr-HR" sz="2400" spc="-1" strike="noStrike">
                <a:solidFill>
                  <a:srgbClr val="000000"/>
                </a:solidFill>
                <a:latin typeface="Arial"/>
              </a:rPr>
              <a:t>(npr. “hlađenje” djeteta u sobi, skraćeno igranje na računalu i sl.) </a:t>
            </a:r>
            <a:r>
              <a:rPr b="1" lang="hr-H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ustrajni</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46"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5" descr=""/>
          <p:cNvPicPr/>
          <p:nvPr/>
        </p:nvPicPr>
        <p:blipFill>
          <a:blip r:embed="rId1"/>
          <a:stretch/>
        </p:blipFill>
        <p:spPr>
          <a:xfrm rot="996000">
            <a:off x="7020000" y="3645000"/>
            <a:ext cx="1697040" cy="1782720"/>
          </a:xfrm>
          <a:prstGeom prst="rect">
            <a:avLst/>
          </a:prstGeom>
          <a:ln w="0">
            <a:noFill/>
          </a:ln>
        </p:spPr>
      </p:pic>
      <p:sp>
        <p:nvSpPr>
          <p:cNvPr id="148" name="Rectangle 6"/>
          <p:cNvSpPr/>
          <p:nvPr/>
        </p:nvSpPr>
        <p:spPr>
          <a:xfrm>
            <a:off x="250920" y="1341360"/>
            <a:ext cx="748980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468360" y="1700280"/>
            <a:ext cx="6173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Želite li kod djeteta promijeniti neko njegovo ponašanje, važno je da budete ustraj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 početku će ono možda misliti da niste ozbiljni u svojoj namjeri. Zato morate dokazati da mislite ozbiljno i da nećete popustit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vaki put kada se dijete ponaša na neželjeni način, jasno mu recite da to nećete tolerir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I na kraju...</a:t>
            </a:r>
            <a:endParaRPr b="0" lang="en-US" sz="4000" spc="-1" strike="noStrike">
              <a:solidFill>
                <a:srgbClr val="000000"/>
              </a:solidFill>
              <a:latin typeface="Arial"/>
            </a:endParaRPr>
          </a:p>
        </p:txBody>
      </p:sp>
      <p:sp>
        <p:nvSpPr>
          <p:cNvPr id="151" name="PlaceHolder 2"/>
          <p:cNvSpPr>
            <a:spLocks noGrp="1"/>
          </p:cNvSpPr>
          <p:nvPr>
            <p:ph/>
          </p:nvPr>
        </p:nvSpPr>
        <p:spPr>
          <a:xfrm>
            <a:off x="468360" y="1484280"/>
            <a:ext cx="8229600" cy="4857840"/>
          </a:xfrm>
          <a:prstGeom prst="rect">
            <a:avLst/>
          </a:prstGeom>
          <a:noFill/>
          <a:ln w="57240">
            <a:solidFill>
              <a:srgbClr val="ff6d74"/>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Djeca koja znaju gdje su granice njihova ponašanja, osjećaju se sretnije i sigurnije</a:t>
            </a:r>
            <a:r>
              <a:rPr b="1" lang="hr-HR" sz="2800" spc="-1" strike="noStrike">
                <a:solidFill>
                  <a:srgbClr val="000000"/>
                </a:solidFill>
                <a:latin typeface="Georgia"/>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Lakše izlaze na kraj s mnogim problemima u odnosima s vršnjacima i odraslima, i kod kuće i u škol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Učeći djecu disciplini pomažemo im da postanu odgovorne i samopouzdane oso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417680"/>
          </a:xfrm>
          <a:prstGeom prst="rect">
            <a:avLst/>
          </a:prstGeom>
          <a:solidFill>
            <a:srgbClr val="ff6d7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Literatura</a:t>
            </a:r>
            <a:endParaRPr b="0" lang="en-US" sz="4400" spc="-1" strike="noStrike">
              <a:solidFill>
                <a:srgbClr val="000000"/>
              </a:solidFill>
              <a:latin typeface="Arial"/>
            </a:endParaRPr>
          </a:p>
        </p:txBody>
      </p:sp>
      <p:pic>
        <p:nvPicPr>
          <p:cNvPr id="153" name="Picture 5" descr="animleser"/>
          <p:cNvPicPr/>
          <p:nvPr/>
        </p:nvPicPr>
        <p:blipFill>
          <a:blip r:embed="rId1">
            <a:grayscl/>
          </a:blip>
          <a:stretch/>
        </p:blipFill>
        <p:spPr>
          <a:xfrm>
            <a:off x="0" y="0"/>
            <a:ext cx="853920" cy="1413000"/>
          </a:xfrm>
          <a:prstGeom prst="rect">
            <a:avLst/>
          </a:prstGeom>
          <a:ln w="0">
            <a:noFill/>
          </a:ln>
        </p:spPr>
      </p:pic>
      <p:sp>
        <p:nvSpPr>
          <p:cNvPr id="154" name="Rectangle 7"/>
          <p:cNvSpPr/>
          <p:nvPr/>
        </p:nvSpPr>
        <p:spPr>
          <a:xfrm>
            <a:off x="539640" y="1916280"/>
            <a:ext cx="648036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inkmeyer, D. Sr., Mcay G. D., Dinkmeyer, D. Jr.: </a:t>
            </a:r>
            <a:r>
              <a:rPr b="0" i="1" lang="hr-HR" sz="2000" spc="-1" strike="noStrike">
                <a:solidFill>
                  <a:srgbClr val="000000"/>
                </a:solidFill>
                <a:latin typeface="Arial"/>
              </a:rPr>
              <a:t>The parents Handbook</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Fields, V. M. , Boesser, C. (1994.). </a:t>
            </a:r>
            <a:r>
              <a:rPr b="0" i="1" lang="hr-HR" sz="2000" spc="-1" strike="noStrike">
                <a:solidFill>
                  <a:srgbClr val="000000"/>
                </a:solidFill>
                <a:latin typeface="Arial"/>
              </a:rPr>
              <a:t>Constructive Guidence and Discipline</a:t>
            </a:r>
            <a:r>
              <a:rPr b="0" lang="hr-HR" sz="2000" spc="-1" strike="noStrike">
                <a:solidFill>
                  <a:srgbClr val="000000"/>
                </a:solidFill>
                <a:latin typeface="Arial"/>
              </a:rPr>
              <a:t>. New York: Macmillan Publishing Compan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evere, S.(2000.).</a:t>
            </a:r>
            <a:r>
              <a:rPr b="0" i="1" lang="hr-HR" sz="2000" spc="-1" strike="noStrike">
                <a:solidFill>
                  <a:srgbClr val="000000"/>
                </a:solidFill>
                <a:latin typeface="Arial"/>
              </a:rPr>
              <a:t>How To Behave</a:t>
            </a:r>
            <a:r>
              <a:rPr b="0" lang="hr-HR" sz="2000" spc="-1" strike="noStrike">
                <a:solidFill>
                  <a:srgbClr val="000000"/>
                </a:solidFill>
                <a:latin typeface="Arial"/>
              </a:rPr>
              <a:t>. London: Vermil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2"/>
              </a:rPr>
              <a:t>http://www.elainegibson.net/parenting/discipline.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3"/>
              </a:rPr>
              <a:t>http://www.crisiscounseling.co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4"/>
              </a:rPr>
              <a:t>www.kidshealth.or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5"/>
              </a:rPr>
              <a:t>www.bbc.co.uk/paren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4176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Preporučujemo:</a:t>
            </a:r>
            <a:endParaRPr b="0" lang="en-US" sz="4400" spc="-1" strike="noStrike">
              <a:solidFill>
                <a:srgbClr val="000000"/>
              </a:solidFill>
              <a:latin typeface="Arial"/>
            </a:endParaRPr>
          </a:p>
        </p:txBody>
      </p:sp>
      <p:pic>
        <p:nvPicPr>
          <p:cNvPr id="156" name="Picture 3" descr="animleser"/>
          <p:cNvPicPr/>
          <p:nvPr/>
        </p:nvPicPr>
        <p:blipFill>
          <a:blip r:embed="rId1">
            <a:grayscl/>
          </a:blip>
          <a:stretch/>
        </p:blipFill>
        <p:spPr>
          <a:xfrm>
            <a:off x="0" y="0"/>
            <a:ext cx="853920" cy="1413000"/>
          </a:xfrm>
          <a:prstGeom prst="rect">
            <a:avLst/>
          </a:prstGeom>
          <a:ln w="0">
            <a:noFill/>
          </a:ln>
        </p:spPr>
      </p:pic>
      <p:sp>
        <p:nvSpPr>
          <p:cNvPr id="157" name="Rectangle 4"/>
          <p:cNvSpPr/>
          <p:nvPr/>
        </p:nvSpPr>
        <p:spPr>
          <a:xfrm>
            <a:off x="539640" y="1916280"/>
            <a:ext cx="64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Longo, I.: </a:t>
            </a:r>
            <a:r>
              <a:rPr b="0" i="1" lang="hr-HR" sz="2800" spc="-1" strike="noStrike">
                <a:solidFill>
                  <a:srgbClr val="000000"/>
                </a:solidFill>
                <a:latin typeface="Georgia"/>
              </a:rPr>
              <a:t>Roditeljstvo se može uči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Good, P.: </a:t>
            </a:r>
            <a:r>
              <a:rPr b="0" i="1" lang="hr-HR" sz="2800" spc="-1" strike="noStrike">
                <a:solidFill>
                  <a:srgbClr val="000000"/>
                </a:solidFill>
                <a:latin typeface="Georgia"/>
              </a:rPr>
              <a:t>U potrazi za sreć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33000"/>
            <a:ext cx="8229600" cy="5792760"/>
          </a:xfrm>
          <a:prstGeom prst="rect">
            <a:avLst/>
          </a:prstGeom>
          <a:noFill/>
          <a:ln w="76320">
            <a:solidFill>
              <a:srgbClr val="ff6d74"/>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333399"/>
                </a:solidFill>
                <a:latin typeface="Georgia"/>
              </a:rPr>
              <a:t>	</a:t>
            </a:r>
            <a:r>
              <a:rPr b="1" i="1" lang="hr-HR" sz="3200" spc="-1" strike="noStrike">
                <a:solidFill>
                  <a:srgbClr val="000000"/>
                </a:solidFill>
                <a:latin typeface="Georgia"/>
              </a:rPr>
              <a:t>Odgajanje djece da postanu osobe koje će dobro iskoristiti svoje potencijale, postati sretni i produktivni ljudi, koji će dobro misliti o sebi i drugima, traži svakodnevni napor, borbu roditelja i učitelja oko donošenja različitih odluk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00"/>
                </a:solidFill>
                <a:latin typeface="Georgia"/>
              </a:rPr>
              <a:t>	</a:t>
            </a:r>
            <a:r>
              <a:rPr b="1" i="1" lang="hr-HR" sz="3200" spc="-1" strike="noStrike">
                <a:solidFill>
                  <a:srgbClr val="000000"/>
                </a:solidFill>
                <a:latin typeface="Georgia"/>
              </a:rPr>
              <a:t>To je srž disciplin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395280" y="549000"/>
            <a:ext cx="8229600" cy="5792760"/>
          </a:xfrm>
          <a:prstGeom prst="rect">
            <a:avLst/>
          </a:prstGeom>
          <a:solidFill>
            <a:srgbClr val="ff6d74">
              <a:alpha val="32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Georgia"/>
              </a:rPr>
              <a:t>	</a:t>
            </a:r>
            <a:r>
              <a:rPr b="0" lang="hr-HR" sz="3200" spc="-1" strike="noStrike">
                <a:solidFill>
                  <a:srgbClr val="000000"/>
                </a:solidFill>
                <a:latin typeface="Georgia"/>
              </a:rPr>
              <a:t>Roditelji se jako razlikuju po tome kako svoju djecu pokušavaju naučiti različitim karakternim osobinama, samodisciplini i moralnom ponašanj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Georgia"/>
              </a:rPr>
              <a:t>	</a:t>
            </a:r>
            <a:r>
              <a:rPr b="0" lang="hr-HR" sz="3200" spc="-1" strike="noStrike">
                <a:solidFill>
                  <a:srgbClr val="000000"/>
                </a:solidFill>
                <a:latin typeface="Georgia"/>
              </a:rPr>
              <a:t>Cilj poučavanja djece disciplini jest razvoj samokontrole i produktivnog sudjelovanja u životu zajednice (npr. u grupama vršnjaka, u razredu, u igri)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4176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Disciplinirano je dijete...</a:t>
            </a:r>
            <a:endParaRPr b="0" lang="en-US" sz="4000" spc="-1" strike="noStrike">
              <a:solidFill>
                <a:srgbClr val="000000"/>
              </a:solidFill>
              <a:latin typeface="Arial"/>
            </a:endParaRPr>
          </a:p>
        </p:txBody>
      </p:sp>
      <p:pic>
        <p:nvPicPr>
          <p:cNvPr id="54" name="Picture 4" descr=""/>
          <p:cNvPicPr/>
          <p:nvPr/>
        </p:nvPicPr>
        <p:blipFill>
          <a:blip r:embed="rId1"/>
          <a:stretch/>
        </p:blipFill>
        <p:spPr>
          <a:xfrm rot="20847000">
            <a:off x="899640" y="1988640"/>
            <a:ext cx="2724120" cy="3419640"/>
          </a:xfrm>
          <a:prstGeom prst="rect">
            <a:avLst/>
          </a:prstGeom>
          <a:ln w="0">
            <a:noFill/>
          </a:ln>
        </p:spPr>
      </p:pic>
      <p:sp>
        <p:nvSpPr>
          <p:cNvPr id="55" name="Rectangle 5"/>
          <p:cNvSpPr/>
          <p:nvPr/>
        </p:nvSpPr>
        <p:spPr>
          <a:xfrm>
            <a:off x="3995640" y="19890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odgovo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ktiv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surađu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zna samostalno odlučiv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poštuje članove obitelji, svoje prijatelje i druge lj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d74"/>
                </a:solidFill>
                <a:latin typeface="Georgia"/>
              </a:rPr>
              <a:t>Nije li želja svakoga roditelja da ima takvo dij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Razvoj samokontrole</a:t>
            </a:r>
            <a:endParaRPr b="0" lang="en-US" sz="3600" spc="-1" strike="noStrike">
              <a:solidFill>
                <a:srgbClr val="000000"/>
              </a:solidFill>
              <a:latin typeface="Arial"/>
            </a:endParaRPr>
          </a:p>
        </p:txBody>
      </p:sp>
      <p:sp>
        <p:nvSpPr>
          <p:cNvPr id="57" name="PlaceHolder 2"/>
          <p:cNvSpPr>
            <a:spLocks noGrp="1"/>
          </p:cNvSpPr>
          <p:nvPr>
            <p:ph/>
          </p:nvPr>
        </p:nvSpPr>
        <p:spPr>
          <a:xfrm>
            <a:off x="395280" y="1341360"/>
            <a:ext cx="8229600" cy="518328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Poučavajući djecu samokontroli, pomažemo im da sebe afirmiraju na pozitivan način.</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Učenje samokontrole dovodi do:</a:t>
            </a:r>
            <a:endParaRPr b="0" lang="en-US" sz="28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kapaciteta da se upravljanja sobom,</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sposobnosti predviđanja posljedica svog ponašanj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sposobnosti planiranja i izvršavanja planiranog,</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boljeg rješavanja sukob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veće spremnosti da se odustane od trenutačnog zadovoljstv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radi zadovoljenja nekog višeg i udaljenijeg cilj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veće spremnosti da se pri rješavanju problema ispitaju različite alternative i donese odluka.</a:t>
            </a:r>
            <a:endParaRPr b="0" lang="en-US" sz="2200" spc="-1" strike="noStrike">
              <a:solidFill>
                <a:srgbClr val="000000"/>
              </a:solidFill>
              <a:latin typeface="Arial"/>
            </a:endParaRPr>
          </a:p>
          <a:p>
            <a:pPr marL="332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roduktivno sudjelovanje u životu zajednice (obitelji, grupe vršnjaka za igru, razreda i dr.)</a:t>
            </a:r>
            <a:endParaRPr b="0" lang="en-US" sz="2800" spc="-1" strike="noStrike">
              <a:solidFill>
                <a:srgbClr val="000000"/>
              </a:solidFill>
              <a:latin typeface="Arial"/>
            </a:endParaRPr>
          </a:p>
        </p:txBody>
      </p:sp>
      <p:sp>
        <p:nvSpPr>
          <p:cNvPr id="59" name="PlaceHolder 2"/>
          <p:cNvSpPr>
            <a:spLocks noGrp="1"/>
          </p:cNvSpPr>
          <p:nvPr>
            <p:ph/>
          </p:nvPr>
        </p:nvSpPr>
        <p:spPr>
          <a:xfrm>
            <a:off x="395280" y="1341360"/>
            <a:ext cx="8229600" cy="518328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400" spc="-1" strike="noStrike">
                <a:solidFill>
                  <a:srgbClr val="000000"/>
                </a:solidFill>
                <a:latin typeface="Georgia"/>
              </a:rPr>
              <a:t>Djecu moramo poučavati kako brinuti o drugima i kako primati brigu drugih. To činimo ako ih potičemo da:</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lušaju druge i odgovaraju im na relevantan način,</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pokazuju brigu za osjećaje i mišljenje drugih,</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bolje razumiju tuđe osjećaje pokušavajući se uživjeti u njih (empatija),</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pokazuju prijateljsko ponašanje,</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urađuju,</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rješavaju sukobe bez ponašanja koje može nekog povrijediti,</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e u grupi izmjenjuju u različitim ulogama bez durenja, svađanja ili odustajanja,</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dijele s drugima svoja razmišljanja, prostor, stvari, pažnju.</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rot="20952000">
            <a:off x="250920" y="1125000"/>
            <a:ext cx="8229600" cy="1143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BernhardMod BT"/>
              </a:rPr>
              <a:t>Kako poučavati djecu disciplini?</a:t>
            </a:r>
            <a:endParaRPr b="0" lang="en-US" sz="4400" spc="-1" strike="noStrike">
              <a:solidFill>
                <a:srgbClr val="000000"/>
              </a:solidFill>
              <a:latin typeface="Arial"/>
            </a:endParaRPr>
          </a:p>
        </p:txBody>
      </p:sp>
      <p:pic>
        <p:nvPicPr>
          <p:cNvPr id="61" name="Picture 4" descr=""/>
          <p:cNvPicPr/>
          <p:nvPr/>
        </p:nvPicPr>
        <p:blipFill>
          <a:blip r:embed="rId1"/>
          <a:stretch/>
        </p:blipFill>
        <p:spPr>
          <a:xfrm rot="21138600">
            <a:off x="3634920" y="2565360"/>
            <a:ext cx="3618000" cy="37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9:16:44Z</dcterms:created>
  <dc:creator>sanja</dc:creator>
  <dc:description/>
  <dc:language>en-US</dc:language>
  <cp:lastModifiedBy>Kreso Stojic</cp:lastModifiedBy>
  <dcterms:modified xsi:type="dcterms:W3CDTF">2009-05-15T19:59:06Z</dcterms:modified>
  <cp:revision>23</cp:revision>
  <dc:subject/>
  <dc:title>Slide 1</dc:title>
</cp:coreProperties>
</file>