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903C-B5E3-4A1E-B984-42A86E64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A46E-2C6E-43C7-8988-38E0AF30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6BD8-2C4C-4F6E-AB7E-49F150A3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0314-8186-420C-91C0-E7165193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2C20-B268-4E72-A266-DF914BC8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76E6-F0D4-4BF1-9331-36AAF453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9DBC-CB95-4633-B158-EE772202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EC21-E3A2-4B79-A525-FB52FD98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4D37-EA0F-4956-8F0A-40DC3B7C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8211-7AB6-41F7-9735-D0D848B1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1FAF-8240-4686-B746-6B60388B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039D-9357-4101-A7F9-F0521A5E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CE6D-1EA5-4702-8EE0-F31A629A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B205-78CA-463A-BCC2-81988FCB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1D15-D4EF-4316-B6E5-305122C3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F71F-B3F8-47CF-8161-8B41B7D8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67B3-2ED0-431A-81E2-A7B22CF4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A33F-B02F-46D1-B007-2A79B8C8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F890-DDBF-4942-875D-06B33D61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10A5-9BAF-4E4F-9E70-AC4DE99F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44FC-36C3-4B46-8DC5-1012A65B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4400-AF1D-4953-BF0D-F6C86135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B4F1-6D4D-473B-A74E-D28E2D32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9CC2-8BF9-4421-87B4-37A1108D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8DEF-07ED-4504-B490-522D3815840D}" type="slidenum">
              <a:rPr b="0" lang="hr-HR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3EBC-C240-4CA9-B60A-09D94C033924}" type="slidenum">
              <a:rPr b="0" lang="hr-HR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400" spc="-1" strike="noStrike">
                <a:solidFill>
                  <a:srgbClr val="b9efee"/>
                </a:solidFill>
                <a:latin typeface="Garamond"/>
              </a:rPr>
              <a:t>Pomozite djetetu da lakše uči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 načina kako roditelj može pomoći djetetu u učenj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236000" y="4797360"/>
            <a:ext cx="618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Pokažite iskreni interes prema onome što dije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č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 Imajte pozitivan stav prema sposobnosti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jeteta, vjerujte u njegov uspjeh i tru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Organizirajte mjesto u stanu koje služi samo z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čenje, provjerite da li je mjesto dobro osvijetljen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101080" y="2924280"/>
            <a:ext cx="58104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. U vrijeme kad dijete uči smanjite količinu buke u stanu, ugasite TV, ne dopustite da ga ometa glasna glazba, zvonjava telefona, ne dopustite ostalim članovima obitelji, susjedima ili prijateljima ulaženje u sobu gdje dijete uč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 Pomognite djetetu da adekvatno organizira vrijeme za učenje – teže zadatke neka obavi dok je odmorno, lakše neka ostavi za kra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6. Ako primjećujete da se dijete teško snalazi u gradivu pomozite mu da prepozna BITNO u tekstu, potičite ga da izvlači bilješke pored teksta, neka raznim bojama označi bitne činjenice u gradiv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7. Pomognite djetetu da zapiše pitanja o gradivu koja ga mogu voditi u učenju, na svako pitanje neka napiše jasan i koncizan odgovor. Ako dijete to želi možete ga ispitati pomoću tih pitan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8. Pokažite mu gdje može pronaći dodatne informacije – Internet, knjižnica i sl. mogu djetetu pomoći povezati sve dijelove gradiva u cjelinu i povezati naizgled nepovezane informac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9. Potaknite dijete da uzme pauzu nakon obavljenog zadatka, neka se nagradi kad izvrši dio obveza – npr. malom čokoladom ili voćem. Pazite da pauza ne bude duža od 10-15 minu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Kako bi se dijete moglo lakše ponovno koncentrirat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10. Ako primjećujete da vaše dijete ima poteškoća u koncentriranju, nemogućnosti zapamćivanja ili procesu učenja ili teško čita/piše vaša roditeljska obaveza je pronaći stručnjaka i obratiti mu se za pomoć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(Pripremila: Sonja P.H.prof.psiholog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9:32:43Z</dcterms:created>
  <dc:creator>Korisnik</dc:creator>
  <dc:description/>
  <dc:language>en-US</dc:language>
  <cp:lastModifiedBy>Krešo</cp:lastModifiedBy>
  <dcterms:modified xsi:type="dcterms:W3CDTF">2008-06-06T18:42:39Z</dcterms:modified>
  <cp:revision>4</cp:revision>
  <dc:subject/>
  <dc:title>Pomozite djetetu da lakše uči</dc:title>
</cp:coreProperties>
</file>