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104-6C2E-4A21-B98B-96851C2A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C19-AAF9-4E5A-B3D1-FD03F95E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53F-EF2D-4CA3-AFC2-E94E0EE6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840-BA31-4516-ACCE-053E5BC9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F99-E38F-4787-9818-10EC1B4A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A0B-14B5-4E4C-B092-64D43CAD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853-D51D-4882-A045-A52F7132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C60-E229-47B1-AD20-7B98636F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737-EE42-4F98-9B14-CC967340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4B6-307E-4470-BA09-7C80CEF9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445-99E0-4CC8-A508-57AC9892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384-BA59-46B5-9302-7CCDBB13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94D4-DFC7-4D06-81F6-C7AEC26F47BF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Arial"/>
              </a:rPr>
              <a:t>Ploh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6320" y="1143000"/>
            <a:ext cx="4114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loha je oblik koji ima samo širinu i duži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oslovno: svjetlosna mrlja ili sjena.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lobodnije: treća dimenzija je nenaglaše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D:\predavanja\Ploha mala\baterije.jpg"/>
          <p:cNvPicPr/>
          <p:nvPr/>
        </p:nvPicPr>
        <p:blipFill>
          <a:blip r:embed="rId1"/>
          <a:stretch/>
        </p:blipFill>
        <p:spPr>
          <a:xfrm>
            <a:off x="4267080" y="12600"/>
            <a:ext cx="45468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191120" y="152280"/>
            <a:ext cx="464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likovni i kompozicijski elementi kao poticaj,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itam geometrijskih likov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itam geometrijskih likov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olaž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azred: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D:\predavanja\Ploha mala\rezanje geometrije.jpg"/>
          <p:cNvPicPr/>
          <p:nvPr/>
        </p:nvPicPr>
        <p:blipFill>
          <a:blip r:embed="rId1"/>
          <a:stretch/>
        </p:blipFill>
        <p:spPr>
          <a:xfrm>
            <a:off x="190440" y="0"/>
            <a:ext cx="2857680" cy="6845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D:\predavanja\Ploha mala\rezanje razred.jpg"/>
          <p:cNvPicPr/>
          <p:nvPr/>
        </p:nvPicPr>
        <p:blipFill>
          <a:blip r:embed="rId2"/>
          <a:stretch/>
        </p:blipFill>
        <p:spPr>
          <a:xfrm>
            <a:off x="4267080" y="2362320"/>
            <a:ext cx="3081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8"/>
          <p:cNvSpPr/>
          <p:nvPr/>
        </p:nvSpPr>
        <p:spPr>
          <a:xfrm>
            <a:off x="6629400" y="4648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ictor Vasarely: Folk-lor, 197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9" descr="D:\predavanja\Ploha mala\Victor Vasarely. Folk Lor. 1973.jpg"/>
          <p:cNvPicPr/>
          <p:nvPr/>
        </p:nvPicPr>
        <p:blipFill>
          <a:blip r:embed="rId1"/>
          <a:stretch/>
        </p:blipFill>
        <p:spPr>
          <a:xfrm>
            <a:off x="5334120" y="380880"/>
            <a:ext cx="3479760" cy="419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D:\predavanja\Ploha mala\1 razred. geometrija 3.jpg"/>
          <p:cNvPicPr/>
          <p:nvPr/>
        </p:nvPicPr>
        <p:blipFill>
          <a:blip r:embed="rId2"/>
          <a:stretch/>
        </p:blipFill>
        <p:spPr>
          <a:xfrm>
            <a:off x="317520" y="0"/>
            <a:ext cx="2730600" cy="2184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D:\predavanja\Ploha mala\1 razred. geometrija 4.jpg"/>
          <p:cNvPicPr/>
          <p:nvPr/>
        </p:nvPicPr>
        <p:blipFill>
          <a:blip r:embed="rId3"/>
          <a:stretch/>
        </p:blipFill>
        <p:spPr>
          <a:xfrm>
            <a:off x="355680" y="4699080"/>
            <a:ext cx="2692440" cy="215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D:\predavanja\Ploha mala\1 razred. geometrija 1.jpg"/>
          <p:cNvPicPr/>
          <p:nvPr/>
        </p:nvPicPr>
        <p:blipFill>
          <a:blip r:embed="rId4"/>
          <a:stretch/>
        </p:blipFill>
        <p:spPr>
          <a:xfrm>
            <a:off x="228600" y="2298600"/>
            <a:ext cx="28195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4920" y="1143000"/>
            <a:ext cx="65530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lohe još mogu bi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</a:rPr>
              <a:t>Samostaln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plohe - načinjene geometrijskim i slobodnim likovima, i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</a:rPr>
              <a:t>Funkcionaln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</a:rPr>
              <a:t>nesamostaln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plohe -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</a:rPr>
              <a:t>oplošj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koja zatvaraju neki volumen. U arhitekturi su to fasade i unutarnje stijene, a u kiparstvu vanjski i unutarnji dijelovi kipa gdje se susreću volumen i pros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04920" y="3124080"/>
            <a:ext cx="45720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loha i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. granicu, obris ili konturu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. boju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3. teksturu (preuzima od površine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eutralizacija se događa u ogledalu i stakl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D:\predavanja\Ploha i povrsina\Walter Gropius. Zgrada Bauhausa, 1925.jpg"/>
          <p:cNvPicPr/>
          <p:nvPr/>
        </p:nvPicPr>
        <p:blipFill>
          <a:blip r:embed="rId1"/>
          <a:stretch/>
        </p:blipFill>
        <p:spPr>
          <a:xfrm>
            <a:off x="4952880" y="2635200"/>
            <a:ext cx="39052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D:\predavanja\Ploha mala\ogledala.jpg"/>
          <p:cNvPicPr/>
          <p:nvPr/>
        </p:nvPicPr>
        <p:blipFill>
          <a:blip r:embed="rId1"/>
          <a:stretch/>
        </p:blipFill>
        <p:spPr>
          <a:xfrm>
            <a:off x="2197080" y="6480"/>
            <a:ext cx="474984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predavanja\Ploha i povrsina\kazaliste sjena 1.JPG"/>
          <p:cNvPicPr/>
          <p:nvPr/>
        </p:nvPicPr>
        <p:blipFill>
          <a:blip r:embed="rId1"/>
          <a:stretch/>
        </p:blipFill>
        <p:spPr>
          <a:xfrm>
            <a:off x="304920" y="1220760"/>
            <a:ext cx="4038480" cy="3048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049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azalište sj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8" descr="D:\predavanja\Ploha mala\kazaliste sjena 2.jpg"/>
          <p:cNvPicPr/>
          <p:nvPr/>
        </p:nvPicPr>
        <p:blipFill>
          <a:blip r:embed="rId2"/>
          <a:stretch/>
        </p:blipFill>
        <p:spPr>
          <a:xfrm>
            <a:off x="5791320" y="1219320"/>
            <a:ext cx="2971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D:\predavanja\Ploha i povrsina\Rodcenko.jpg"/>
          <p:cNvPicPr/>
          <p:nvPr/>
        </p:nvPicPr>
        <p:blipFill>
          <a:blip r:embed="rId1"/>
          <a:stretch/>
        </p:blipFill>
        <p:spPr>
          <a:xfrm>
            <a:off x="4237200" y="0"/>
            <a:ext cx="452592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1981080" y="60199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leksandar Rodčenko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Ul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095880" y="60199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nry Cartier-Bresson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Rim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5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D:\predavanja\Ploha mala\Henri Cartier Bresson.Rim.1959.jpg"/>
          <p:cNvPicPr/>
          <p:nvPr/>
        </p:nvPicPr>
        <p:blipFill>
          <a:blip r:embed="rId1"/>
          <a:stretch/>
        </p:blipFill>
        <p:spPr>
          <a:xfrm>
            <a:off x="1155600" y="0"/>
            <a:ext cx="46357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5791320" y="601992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nry Cartier-Bresson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Rim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D:\predavanja\Ploha mala\Henri Cartier Bresson.Rome.1965.jpg"/>
          <p:cNvPicPr/>
          <p:nvPr/>
        </p:nvPicPr>
        <p:blipFill>
          <a:blip r:embed="rId1"/>
          <a:stretch/>
        </p:blipFill>
        <p:spPr>
          <a:xfrm>
            <a:off x="990720" y="1020600"/>
            <a:ext cx="716256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1143000"/>
            <a:ext cx="41148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blici ili likovi kojima se služimo na plohi mogu bit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</a:rPr>
              <a:t>geometrijsk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oblici: kvadrat, pravokutnik, trokut, krug, elipsa itd.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</a:rPr>
              <a:t>slobodn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</a:rPr>
              <a:t>organsk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oblici, koji se slobodno razvijaju, bez uočljivog pravila geometrizacije, imaju element slučajnosti u svojoj građ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80880" y="60199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atsukawa Shunsho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Glumac Ichikawa Danjuro V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78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D:\predavanja\Ploha mala\Katsukawa Shunsho. Glumac Ichikawa Danjuro V.1782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629400" y="58672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ictor Vasarely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Orion Noi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7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D:\predavanja\Ploha mala\Victor Vasarely. Orion.Noir.1970.jpg"/>
          <p:cNvPicPr/>
          <p:nvPr/>
        </p:nvPicPr>
        <p:blipFill>
          <a:blip r:embed="rId1"/>
          <a:stretch/>
        </p:blipFill>
        <p:spPr>
          <a:xfrm>
            <a:off x="236520" y="228600"/>
            <a:ext cx="6087960" cy="6477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D:\predavanja\Ploha mala\Victor Vasarely. Orion.Noir.1970 2.jpg"/>
          <p:cNvPicPr/>
          <p:nvPr/>
        </p:nvPicPr>
        <p:blipFill>
          <a:blip r:embed="rId2"/>
          <a:stretch/>
        </p:blipFill>
        <p:spPr>
          <a:xfrm>
            <a:off x="6477120" y="1727280"/>
            <a:ext cx="2539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5257800" y="632448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Joan Mi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Osobe na crvenoj zemlji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3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D:\predavanja\Ploha mala\Joan Miro. Osobe na crvenoj zemlji. 1938.jpg"/>
          <p:cNvPicPr/>
          <p:nvPr/>
        </p:nvPicPr>
        <p:blipFill>
          <a:blip r:embed="rId1"/>
          <a:stretch/>
        </p:blipFill>
        <p:spPr>
          <a:xfrm>
            <a:off x="838080" y="639720"/>
            <a:ext cx="739152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04920" y="58672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Vincent van Gogh: </a:t>
            </a:r>
            <a:br>
              <a:rPr sz="1200"/>
            </a:br>
            <a:r>
              <a:rPr b="0" i="1" lang="hr-HR" sz="1200" spc="-1" strike="noStrike">
                <a:solidFill>
                  <a:srgbClr val="ffffff"/>
                </a:solidFill>
                <a:latin typeface="Arial"/>
              </a:rPr>
              <a:t>Portret Pere Tangyja</a:t>
            </a: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, 188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D:\predavanja\Ploha mala\Vincent.van.Gogh.Portret Pere Tangyja.1888.jpg"/>
          <p:cNvPicPr/>
          <p:nvPr/>
        </p:nvPicPr>
        <p:blipFill>
          <a:blip r:embed="rId1"/>
          <a:stretch/>
        </p:blipFill>
        <p:spPr>
          <a:xfrm>
            <a:off x="2914560" y="0"/>
            <a:ext cx="531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43000" y="5164200"/>
            <a:ext cx="25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Prikaz privid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volum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onska model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D:\predavanja\Ploha i povrsina\matisse.JPG"/>
          <p:cNvPicPr/>
          <p:nvPr/>
        </p:nvPicPr>
        <p:blipFill>
          <a:blip r:embed="rId1"/>
          <a:stretch/>
        </p:blipFill>
        <p:spPr>
          <a:xfrm>
            <a:off x="3973680" y="380880"/>
            <a:ext cx="4941720" cy="4119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886200" y="51814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Plošni prika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800000"/>
                </a:solidFill>
                <a:latin typeface="Arial"/>
              </a:rPr>
              <a:t>Lokalna boj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nema tonske modela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828800" y="45720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Carravagio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Narci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7.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477120" y="457200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nri Matisse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Crvena sob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9" descr="D:\predavanja\Ploha mala\narcis.jpg"/>
          <p:cNvPicPr/>
          <p:nvPr/>
        </p:nvPicPr>
        <p:blipFill>
          <a:blip r:embed="rId2"/>
          <a:stretch/>
        </p:blipFill>
        <p:spPr>
          <a:xfrm>
            <a:off x="209520" y="380880"/>
            <a:ext cx="337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0T15:09:51Z</dcterms:created>
  <dc:creator>Miro</dc:creator>
  <dc:description/>
  <dc:language>en-US</dc:language>
  <cp:lastModifiedBy>Kreso Stojic</cp:lastModifiedBy>
  <dcterms:modified xsi:type="dcterms:W3CDTF">2009-05-15T20:29:50Z</dcterms:modified>
  <cp:revision>179</cp:revision>
  <dc:subject/>
  <dc:title>Boja</dc:title>
</cp:coreProperties>
</file>