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7634-2A87-4AF9-8CBB-4034E506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0CB-5B08-4D51-A8F7-D035549A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DFA-49E0-47F3-B0F0-98AB7982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4F9-53D1-4721-B1D2-EF8C46DB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3475-07A9-4D99-A0E6-DAF0B09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B78F-06D6-4B82-AADD-9C5C50A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5CB9-45F1-4B51-A085-73B2B60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D38-E035-4C6D-8191-099C43FC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3E8-5435-4343-BBA9-A8987D94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71E-B150-4923-87E6-22DF6C3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4536-BB74-47A7-9ABE-DB63FAFB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09F-62A9-466B-8164-6DF6CE07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98D-9826-45DA-9D94-47EE6EB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AFE9-848E-4E00-8FEA-B61F25A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248F-118E-4488-A690-34D2EF68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4D3-415F-49D9-BF74-50D8B9AB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4FC8-B2ED-4F1D-BD91-7FA1BAEB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17B-E94C-4033-BAF6-2DBB292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438-AAB0-4D04-BB1C-57711004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36F-AA82-42BD-9007-BCC0B895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059-E29E-42D6-8878-BA2BC0A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C5B-70A0-4D5A-9112-49995CA5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7C5-CD47-4D09-B67C-DAD0FAD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2CC-9F30-4223-8AF3-30B7324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E4E-C084-4625-A960-60334416C2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287-DFD1-4EEE-938A-4B341ED5E94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Sunčana Škrinjarić</a:t>
            </a: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 </a:t>
            </a:r>
            <a:br>
              <a:rPr sz="3200"/>
            </a:b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PLESNA HALJINA ŽUTOG MASLAČKA</a:t>
            </a:r>
            <a:endParaRPr b="0" lang="en-US" sz="32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Verdana"/>
              </a:rPr>
              <a:t>Izbor fotografija: S. I. Unger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Verdana"/>
              </a:rPr>
              <a:t>04/2008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60948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došli su uvijek zaposleni mravi, krijesnice umorne od noćnog rada, leptiri, bumbari i pčele, cvrčci i uholaže, pa ćak i jedan smrdljivi martin. Ali nitko nije znao pomoći malom maslačku koji je isplakao svoje suze i na kraju zaspao od tuge. Sanjao je o plesnoj svečanosti, o najljepšoj haljini i sjetnoj slavujevoj pjesmi, pa je makar u snu bio zadovoljan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24560" y="838080"/>
            <a:ext cx="285732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3880" y="609480"/>
            <a:ext cx="38102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o, u jarku na povišenom mjestu medu šibljem i otpacima stanovao je neki stari, vrlo ružni pauk koji nikada u životu nije bio dobar. Bio je krvnik jadnih mušica, koje su se zalijetale u njegovu golemu mrežu, bio je zloban i pakostan, a živio je kao pustinjak. Zato ga nitko nije pozivao na sastanke i svečano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15080" y="2514600"/>
            <a:ext cx="241452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609480"/>
            <a:ext cx="6553440" cy="38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li te noći, koja je bila lijepa i jasna jer je mjesec pokazao čitavo svoje okruglo debelo lice, stari pauk osjetio se nesretnim i osamljenim. Osjetio je da mu se približava smrt, a on nikada nije nikoga volio, nikada nije nikome donio radosti i darovao srece, nego samo tugu i suze. On pogleda maslačkov cvijet i reče samome sebi:-Izatkat ću mu haljinu nježnu i prozračnu poput najfinije paučine, providnu i laganu od najdivnije prede, kakvu nema niti jedan cvijeta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Učinit ću nekome radost i bit će mi lakše umrijeti, jer teško je ostaviti svijet kad saznaš da te nitko nije vol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47242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3880" y="609480"/>
            <a:ext cx="65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stari se pauk dade na posao. Radio je neumorno čitavu noć, a ujutro je haljina bila gotova. I on je pokloni malo maslačku koji je od čuda i prevelike sreće rasklopio svoje žute cvjetov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2544840"/>
            <a:ext cx="464832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3730680"/>
            <a:ext cx="693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maslačak odjene haljinu nježnu poput daha izatkanu tajnom vještinom starog pauka koji umre od sreće i ponosa, jer cvijetak je bio prekrasan i svatko mu se morao diviti. I u svojoj prozračnoj, paučinastoj haljinici maslačak ode na ples. Svi su se divili njegovoj haljini, najljepšoj i najčudesnijoj u koju je stari pauk utkao svu ljubav svog oporog srca koja je bila skrivena na d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1972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95280" y="990720"/>
            <a:ext cx="4114800" cy="4489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aslačak je plesao sa svima i bio je sretan. Glazba je te noći bila krasna, životinje su se umirile slušajući slavujevu pjesmu, pa i posve mala djeca u kolijevkama prestala su plakati. Maslačak je bio sretan i radosta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ozivao je leptire i razgovarao s bumbarima. On je kao i jasmin i perunika hvatao blijede mjesečeve zrake koje su se prosipale na prostranu poljanu i na cvijeće prekrasno u ovoj nezaboravnoj noć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4228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3880" y="609480"/>
            <a:ext cx="655344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utradan bilo je sve isto kao i obično, a maslačak je još sanjao o velikoj sreći protekle noći. Neki nestašni dječak puhnuo je u njegovu prozračnu plesnu haljinicu i ona se raspršila daleko po putovima. Ali od onda svake godine uoči cvjetnog plesa maslačci oblače svoje divne paučinaste haljinice i odlaz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828960" cy="28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609480"/>
            <a:ext cx="6553440" cy="21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dućeg proljeća na toj poljani niklo je desetak novih malih maslaćaka i svi su oni također otišli na veliki cvjetni ples. Tako se ova priča ponavlja iz godine u godin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609480"/>
            <a:ext cx="65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Svake godine cvijeće priređuje svoj veliki, raskošni ples do zore. Tada zvijezde sjaju jače nego obično, a mali lampioni - krijesnice pale svoje svjetiljke po grmovima. S dalekih samotnih proplanaka dopire do plesne dvorane slavujeva pjesma, miševi su članovi zabavnog orkestra, a vjeverica - veliki bubnjar. To se događa svake godine u isto vrijeme samo mi ljudi teško saznajemo točnu noć i mjesto plesa, jer cvijeće je tajanstveno…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2666880" y="3940200"/>
            <a:ext cx="419112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60948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nate i sami, da nikada ne govori… Ipak, štošta se može saznati od leptira i brbljavih bubamara, tih velikih prijatelja cvijeća. I oni odlaze na te godišnje plesove i svojim krilima kao lepezama rashlađuju umorne plesač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77880" y="3276720"/>
            <a:ext cx="1590840" cy="245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52680" y="3048120"/>
            <a:ext cx="4800600" cy="30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va je priča ispričana malenom, svjetlokosom dječaku koji je volio cvijeće i životinje. Nije trgao cvjetne latice po nasadima parkova i nije vukao za rep svoju sirotu, ostarjelu mačku. Bio je dobar, a životinje i cviječe vole djecu i povjeravaju im o svome životu više nego ostali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3880" y="609480"/>
            <a:ext cx="693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Čitavu godinu cvijeće se priprema za taj ples. Kroje se šarene haljine, nježni ukrasi i čudnovate kape, leptiri donose na svojim ledima uzorke iz dalekih krajeva. Ruža - taj divan cvijet - odijeva nježno, šareno ruho i posipava latice opojnim mirisom. Plavooke potočnice odijevaju modre haljinice sa zelenim kišnim kabanicama. Ljubičica skromno nosi svoju jednostavnu, ali otmjenu odjeću, visibaba dolazi odjevena u bijelo kao vila ili mlade nevje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384804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21560" y="3848040"/>
            <a:ext cx="1584360" cy="2133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38480" y="3884760"/>
            <a:ext cx="236232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609480"/>
            <a:ext cx="65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Vitki zumbuli plešu sa stidljivim orhidejama, mirisni jorgovan sa žarkim tulipanima, blijedi lopoč sa sredine jezera doziva svoju ljubimicu - hladnu i čudesnu peruniku. Vi poznajete, sve to cvijeće; visibabe i ljubičice brali ste u šumama, ruže se kupuju kao dar za rodenđan, jorgovani su možda mirisali u vašim staklenim vazama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303200" cy="1743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944720" y="3505320"/>
            <a:ext cx="133200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733920" y="349560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609480"/>
            <a:ext cx="381024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li postoji cvijet koji se ne prodaje po trgovinama, ne bere na proljetnim šumskim šetnjama, on ne miriše lijepo, a vrtlari ga ne vole. Ljudi gaze po njemu: - To je maslačak, obični dosadni drač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a ipak, na velikom godišnjem plesu imao je maslačak najljepšu haljinu, nitko pa ni ruža nije bila tako lijepa, kao skromni cvijet iz seoskog jark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44800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3807000"/>
            <a:ext cx="65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o se dogodilo jedne godine, ne znam koje, jer u životu cvijeta sve se ponavlja. Ono ne broji svoje godine kao mi ljudi, u njih prolazi vrijeme brže nego u našim kalendarima. Krojile su se haljine za veliku plesnu svečanost, svaki cvijetak je bio radostan, sunce je sjalo, nebo je bilo modro i ravno kao velika staklena ploč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19520" y="855720"/>
            <a:ext cx="403848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60948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 u seoskom jarku plakao je bijelim suzama maslačak u svojoj ružnoj izgaženoj suknji u kojoj nikako nije mogao poći na ples. Ali nikoga nije bilo tko bi mu mogao pomoći samo je jedna bubamara čula njegovo jecanje i upitala ga: - Zašto plačeš? Svi se raduju, a ti si tužan. Reci, možda te mogu savjetov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758880"/>
            <a:ext cx="342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aslačak je odgovorio: - Haljina mi je izgažena, ne mirišem kao ruža ili jorgovan, nemam plavu boju potočnice ni ponosno držanje zumbula. A sutra je ples. Neću da budem najružniji. Bubamara se zamislila. Ona je mudra i stara, svuda putuje i svakoga poznaje, ali nije znala pomoći malom maslačku. Samo je rekla: - Sazvat će sve kukce i pitati ih za savjet. Sigurno će ti netko od njih pomoć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99200" y="1371600"/>
            <a:ext cx="3387600" cy="45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0:20:22Z</dcterms:created>
  <dc:creator>KONCAR-EASN</dc:creator>
  <dc:description/>
  <dc:language>en-US</dc:language>
  <cp:lastModifiedBy>Krešo</cp:lastModifiedBy>
  <dcterms:modified xsi:type="dcterms:W3CDTF">2008-05-23T15:13:58Z</dcterms:modified>
  <cp:revision>12</cp:revision>
  <dc:subject/>
  <dc:title>PLESNA HALJINA ŽUTOG MASLAČKA</dc:title>
</cp:coreProperties>
</file>