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8B5-F425-42CF-B8E3-778E21ED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25D-0A08-4129-946A-B3400835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518-B6FE-4D0E-8EAA-CEB26588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8CE-997E-4084-AB74-9404135B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E1B-61D5-4F56-A4EC-3B2C0D66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A48-EF8B-4EB3-BD3A-125692B0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B39-9D14-4C18-87C2-64F3C802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313-75AA-4377-B2C5-DF7DD8DB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CBE-9617-4781-AA00-FA97A7F3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826-AB22-4EC8-8718-3DD2B64B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5C5-AE18-4421-8F9D-4F7F012D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FAC-CBB4-413C-BD10-4E2392E0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B84A-805A-4C13-B3B1-FAAF8ED0AC53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korakpokorak.hr/roditelji1.ht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Znak 542"/>
          <p:cNvPicPr/>
          <p:nvPr/>
        </p:nvPicPr>
        <p:blipFill>
          <a:blip r:embed="rId1"/>
          <a:stretch/>
        </p:blipFill>
        <p:spPr>
          <a:xfrm>
            <a:off x="2556000" y="907920"/>
            <a:ext cx="384156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73440"/>
          </a:xfrm>
          <a:prstGeom prst="rect">
            <a:avLst/>
          </a:prstGeom>
          <a:noFill/>
          <a:ln w="76320">
            <a:solidFill>
              <a:srgbClr val="3b80a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Opseg (koliko stvari možemo zahvatiti pažnjom) i zadržavanje pažnje (koliko dugo se može biti koncentriran na neki sadržaj) se povećava s dobi, te su mlađa djeca “rastresenija” od star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Sposobnost zadržavanja pažnje na nekom cilju dijelom je urođena, a dijelom se na njezin razvoj može utjecati. Neka djeca se moraju stalno naprezati da bi ostala koncentrirana, drugoj je to zamjetno lakš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91520" cy="4525920"/>
          </a:xfrm>
          <a:prstGeom prst="rect">
            <a:avLst/>
          </a:prstGeom>
          <a:solidFill>
            <a:srgbClr val="3b80ae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Djeca različite dobi mogu se fokusirati različitu količinu vremena. Istraživanja pokazuju da se većina djece može fokusirati za broj minuta koji je jednak broju njihovih godina plus 2 (Jensen, 1995). Tako se 6-godišnjak fokusira oko 8 minuta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To se ne odnosi na takve aktivnosti kao što je gledanje televizij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Kako djelovati na razvoj pažnj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Znak Orange 021"/>
          <p:cNvPicPr/>
          <p:nvPr/>
        </p:nvPicPr>
        <p:blipFill>
          <a:blip r:embed="rId1"/>
          <a:stretch/>
        </p:blipFill>
        <p:spPr>
          <a:xfrm>
            <a:off x="2411280" y="2276640"/>
            <a:ext cx="352908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218440" cy="5688000"/>
          </a:xfrm>
          <a:prstGeom prst="rect">
            <a:avLst/>
          </a:prstGeom>
          <a:solidFill>
            <a:srgbClr val="3b80ae">
              <a:alpha val="68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eorgia"/>
              </a:rPr>
              <a:t>Na koncentraciju se može izravno utjecati okolinom. Dijete koje treba punu koncentraciju – npr. za učenje – treba biti dobro ispavano i ne treba imati u blizini ništa što odvlači pažnju. Koncentraciju uništavaju buka, glasna glazba ili buka televizora u pozadini, ali i loši odnosi u obitelji, svađe i loš emocionalni odnos prema djete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eorgia"/>
              </a:rPr>
              <a:t>Koncentracija se može i postupno povećavati – u domu punom ljubavi sa sigurnom vezom između djeteta i roditelja. Takvi uvjeti omogućuju da se djeca već od rane dobi mogu intenzivno i ustrajno igrati. Neka se djeca već i s godinu dana mogu posvetiti 10 minuta samo jednoj stvari, dok drugoj to uspijeva tek s 4 ili 5 godi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977080"/>
          </a:xfrm>
          <a:prstGeom prst="rect">
            <a:avLst/>
          </a:prstGeom>
          <a:solidFill>
            <a:srgbClr val="3b80ae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jeca trebaju od roditelja vrijeme i posvećivanje – što im roditelji više pružaju, to će bolje protjecati njihov cjelokupni razvoj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Za razvoj pažnje bitna je i uloga odraslih u dječjim aktivnostima – oni trebaju upućivati dijete u ono što je bitno i jačati dijete odobravanjem i radošću kad nešto uspije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Velika je važnost igre -  kroz nju dijete uči slijeđenje pravila. Roditelji trebaju na svaki način poticati koncentriranu igru – ako je moguće, pustiti dijete da se igra do kraja kada je zadubljeno u igru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jeca vole predvidivu okolinu. Tako sutra ne bi smjela vrijediti druga pravila nego što su to danas! Informacije i poticaji koje roditelji daju djeci, trebaju biti u što većoj mjeri jasni i jednoznačni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vakako je važno i navikavanje na urednost: pravovremeno lijeganje i ustajanje, redovito pranje zuba, spremanje obuće, pospremanje igračaka i školskog pribora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vrecice3"/>
          <p:cNvPicPr/>
          <p:nvPr/>
        </p:nvPicPr>
        <p:blipFill>
          <a:blip r:embed="rId1">
            <a:grayscl/>
            <a:lum bright="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Neke igre i aktivnosti koje mogu pomoći u razvoju pažnje kod dj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Brojne su aktivnosti kojima možete od najranije dobi poticati koncentraciju djeteta – na primjer: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3b80ae">
              <a:alpha val="63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crtavanje različitih predložaka - prvo jednostavnijih, a kasnije i  složenijih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ojanje u bojank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nalaženje skrivenih likova i traženje razlika na sličnim slikama, vježba usporedi dvije (ili više slika) - što je promijenjeno, izostavljeno ili doda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lagalice - domino s brojevima ili slikama, loto, puzzle, prema predlošku izrezati i sastaviti slik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ježbe razvrstavanja: kocke, lego kockice i drugo razvrstati, pomaganje u razvrstavanju posuđa kod kuće, razvrstavanje novčića po vrijednosti,  kuglica po boji i veličini, pravljenje ogrlica po određenom redoslijedu, skupljanje kamenčić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ličica, markica itd., igre kartama - kvartet, “Crni Petar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b80ae">
              <a:alpha val="65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isaoni zadaci - “Kod dolaska podsjeti me na …”, “Što sve moraš pripremiti ako želiš napisati pismo?”, “Postavi stol za … osoba. Što ti je sve za to potrebno?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Vježbe kombinacije - umetanje riječi, rješavanje križaljki, dopunjavanje riječi, pogađanje životinja, cvijeća, i dr. prema djelomičnim opisima  npr. “Što je to - ima četiri noge, krzno, spretno se penje po drveću?”… Igre : šah, ml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gre razvrstavanja po nekim kriterijima - “Napiši sve životinje koje imaju krila”, “Poznaješ li životinje koje imaju više od četiri noge” itd. Igre: država - grad - rijeka i 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Zadaci opažanja - promatrati tijek neke radnje ili događaja - dovršavanje rečenice usmeno ili pismeno (promatrati policajca na raskrižju i sl., dati djetetu da jednu minutu promatra sliku i poslije pitati npr.” Koliko je na slici bilo osoba, prozora, životinja...”)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Kako djelovati na razvoj pažnje od početka školovan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3b80ae">
              <a:alpha val="63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tvaranjem dobrih navika - navikavanjem djece da pripremaju i spremaju svoj školski pribor i radno mj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avikavanjem da uče i pišu zadaće uvijek na istom mjestu - već samo sjedanje na mjesto na kojem je dijete naviklo učiti pridonosi stvaranju psihološke spremnosti za r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tvaranjem dnevne rutine - dijete treba učiti uvijek u otprilike isto doba dana (nakon ručka, nakon odmora, i sl.) - time se olakšava koncentracija na uče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Ako je potrebno, pomozite djetetu da napravi plan za učenje i pisanje domaće zada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Upućujte djeteta u dobre navike i metode učenja – podcrtavanje bitnoga, ponavljanje, samostalno prepriča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otičite ga da uči pomalo i češ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ohvalite djetetov trud i</a:t>
            </a:r>
            <a:r>
              <a:rPr b="0" lang="hr-HR" sz="2400" spc="-1" strike="noStrike">
                <a:solidFill>
                  <a:srgbClr val="00cc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apred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Pažnja 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3859200" cy="544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995640" y="1406520"/>
            <a:ext cx="51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Pažnja je potrebna da bi se uspjelo u škol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Svaki učenik može ponekad imati manjak pažnje (slabu koncentraciju), </a:t>
            </a:r>
            <a:r>
              <a:rPr b="0" i="1" lang="hr-HR" sz="2200" spc="-1" strike="noStrike">
                <a:solidFill>
                  <a:srgbClr val="000000"/>
                </a:solidFill>
                <a:latin typeface="Georgia"/>
              </a:rPr>
              <a:t>npr. uslijed obiteljskih problema, neprospavane noći, emocionalnih problema, </a:t>
            </a:r>
            <a:r>
              <a:rPr b="0" i="1" lang="hr-HR" sz="2200" spc="-1" strike="noStrike">
                <a:solidFill>
                  <a:srgbClr val="000000"/>
                </a:solidFill>
                <a:latin typeface="Georgia"/>
              </a:rPr>
              <a:t>neprimjerenih odgojnih postupaka, zlostavljanja, školskog neuspjeha, straha od ispitivanja, umora, dosade </a:t>
            </a:r>
            <a:r>
              <a:rPr b="0" i="1" lang="hr-HR" sz="2200" spc="-1" strike="noStrike">
                <a:solidFill>
                  <a:srgbClr val="000000"/>
                </a:solidFill>
                <a:latin typeface="Georgia"/>
              </a:rPr>
              <a:t>itd.</a:t>
            </a: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Manjak pažnje je dosta čest i najčešći je razlog zbog kojeg djeca normalnih intelektualnih sposobnosti imaju poteškoće u učen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76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Georgia"/>
              </a:rPr>
              <a:t>pažnja i učenj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Kako u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itelj mo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e privla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iti i usmjeravati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pa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nju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3b80ae">
              <a:alpha val="63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gl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anjem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je 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i pozivanjem da se obrati p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ja na n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jenjanjem 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e gla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stikulacijom, kretanjem, mim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im izr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r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njem slika, predme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r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njem uvodne p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za neki sad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vl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jem napisanog ili uporabom kreda u boji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932360" cy="6858000"/>
          </a:xfrm>
          <a:prstGeom prst="rect">
            <a:avLst/>
          </a:prstGeom>
          <a:solidFill>
            <a:srgbClr val="3b80ae">
              <a:alpha val="63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Neobi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nim i neo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kivanim sadr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jima - npr. u nastavi zemljopisa uvesti glazbu, ispri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ti anegdotu i sl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objašnjavanjem svrhe i koristi od 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ja gradiva,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uporabom i mijenjanjem razli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itih aktivnosti - crtanja, pisanja, tr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ja podataka, podvl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ja itd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uvo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đ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jem tjelesnih aktivnosti, razgibavanja, kr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ć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ih vje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bi kada p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nja po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inje popušt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zadaca1"/>
          <p:cNvPicPr/>
          <p:nvPr/>
        </p:nvPicPr>
        <p:blipFill>
          <a:blip r:embed="rId1">
            <a:grayscl/>
          </a:blip>
          <a:stretch/>
        </p:blipFill>
        <p:spPr>
          <a:xfrm rot="1097400">
            <a:off x="5579640" y="1557360"/>
            <a:ext cx="3006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hr-HR" sz="2600" spc="-1" strike="noStrike">
                <a:solidFill>
                  <a:srgbClr val="000000"/>
                </a:solidFill>
                <a:latin typeface="Georgia"/>
              </a:rPr>
              <a:t>Kako se u školi može smanjiti školski neuspjeh djece s manjkom pažnje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14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omentare treba ograničiti na postupke, a ne osobnost (ne: </a:t>
            </a:r>
            <a:r>
              <a:rPr b="0" i="1" lang="hr-HR" sz="2400" spc="-1" strike="noStrike">
                <a:solidFill>
                  <a:srgbClr val="000000"/>
                </a:solidFill>
                <a:latin typeface="Georgia"/>
              </a:rPr>
              <a:t>ti si neodgojen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, već: </a:t>
            </a:r>
            <a:r>
              <a:rPr b="0" i="1" lang="hr-HR" sz="2400" spc="-1" strike="noStrike">
                <a:solidFill>
                  <a:srgbClr val="000000"/>
                </a:solidFill>
                <a:latin typeface="Georgia"/>
              </a:rPr>
              <a:t>ne smiješ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..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ati djetetu zaduženja koja će mu omogućiti kretan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mjestiti dijete u prvu klupu, po mogućnosti uz mirnu djec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referirati usmeno ispitivanje, manji broj pitanja ili produljiti vrijeme rješavanja zadataka (bolje manji broj pitanja zbog problema u održavanju pažnj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rovjeriti je li dijete razumjelo pitan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e insistirati na pisanju, dati neki drugi zadat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hr-HR" sz="2600" spc="-1" strike="noStrike">
                <a:solidFill>
                  <a:srgbClr val="000000"/>
                </a:solidFill>
                <a:latin typeface="Georgia"/>
              </a:rPr>
              <a:t>Kako se u školi može smanjiti školski neuspjeh djece s manjkom pažnje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Učitelj treba up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ć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ivati dijete u dobre navike i metode 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oticati djecu da 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 pomalo i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š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ć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, te tako organizirati i ponavljanja gradi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omog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ć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vati djeci s poteško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ć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ma manje i spontane odmo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hvaliti povremeno i kad to dijete doista zasluž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individualizirati ocjenjivanje u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ni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uložiti svjestan napor da se uoče i djetetove pozitivne osobine (primjećujemo ono što je loš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roditeljima davati informacije na neoptužujući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11080" cy="1341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250920" y="1700280"/>
            <a:ext cx="86421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korakpokorak.hr/roditelji1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http://public.srce.hr/hud/Tekstovi/hiperaktivnos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http://www.adhd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http://www.zappelphilipp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http://www.eltern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http://www.ads-hyperaktivitaet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Kocijan Hercigonja, D., Buljan Flander, G, Vučković, D(1999)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Hiperaktivno dijete, uznemireni roditelji i odgajatelji.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Jastrebarsko: Naklada S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ediatric Advisor 2003_2 Dealing with Attention-Deficit-Hyperactivity Disorder (ADHD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) http://www.med.umich.edu/1libr/pa/pa_battentn_hhg.htm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Pospiš, M. (1997)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Neurološki pristup školskom neuspjehu.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Varaždinske Toplice: Tonim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Pregrad, J. (1994)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Smanjena koncentracija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. Miharija, Ž.; Leko Kolbah, A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Pomozimo djeci stradaloj u ratu.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Zagreb: Ministarstvo kulture i prosvjete, Zavod za školstvo, Ured UNICEF-a u Zagreb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Prvčić, I, Rister, M.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Deficit pažnje / hiperaktivni poremećaj.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www.public.srce.h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Vasta, R.; Haith, M. M.; Miller, S. A. (1998)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Dječja psihologija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, Zagreb: Naklada S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Vlašić – Cicvarić, I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“Juri poput motora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”. Narodni list. 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Živković, Ž. i Brajković, S.(2000). </a:t>
            </a:r>
            <a:r>
              <a:rPr b="0" i="1" lang="hr-HR" sz="1600" spc="-1" strike="noStrike">
                <a:solidFill>
                  <a:srgbClr val="000000"/>
                </a:solidFill>
                <a:latin typeface="Georgia"/>
              </a:rPr>
              <a:t>Spajalica.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Đakovo: Tem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Georgia"/>
              </a:rPr>
              <a:t>Preporučujem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1108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50920" y="1700280"/>
            <a:ext cx="86421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http://public.srce.hr/hud/Tekstovi/hiperaktivnost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http://www.korakpokorak.hr/roditelji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Kocijan Hercigonja, D., Buljan Flander, G, Vučković, D(1999). </a:t>
            </a:r>
            <a:r>
              <a:rPr b="0" i="1" lang="hr-HR" sz="1800" spc="-1" strike="noStrike">
                <a:solidFill>
                  <a:srgbClr val="000000"/>
                </a:solidFill>
                <a:latin typeface="Georgia"/>
              </a:rPr>
              <a:t>Hiperaktivno dijete, uznemireni roditelji i odgajatelji.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Jastrebarsko: Naklada S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Prvčić, I, Rister, M. </a:t>
            </a:r>
            <a:r>
              <a:rPr b="0" i="1" lang="hr-HR" sz="1800" spc="-1" strike="noStrike">
                <a:solidFill>
                  <a:srgbClr val="000000"/>
                </a:solidFill>
                <a:latin typeface="Georgia"/>
              </a:rPr>
              <a:t>Deficit pažnje / hiperaktivni poremećaj.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www.public.srce.h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5220000" cy="518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418000"/>
            <a:ext cx="9144000" cy="144000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Georgia"/>
              </a:rPr>
              <a:t>Što je pažnj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040360"/>
          </a:xfrm>
          <a:prstGeom prst="rect">
            <a:avLst/>
          </a:prstGeom>
          <a:noFill/>
          <a:ln w="76320">
            <a:solidFill>
              <a:srgbClr val="3b80ae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Pažnja je usmjerenost mentalne aktivnosti na određene podraž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Često se koristi i izraz “koncentracija” – koncentriranje naše svijesti jest srž paž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76320">
            <a:solidFill>
              <a:srgbClr val="3b80a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ujemo usmjeravanje i zadržavanje pažnje. Da bismo pratili neki događaj, trebamo se moći usmjeriti na njega, na ono što je bitno povezano s njim (a ne izgubiti se u mnogim nebitnim istovremenim događajima) i zadržati pažnju na njemu. Tako školsko dijete treba biti u stanju izdvojiti npr. ono što učiteljica govori i usmjeriti se na to, a ne na npr. drugu djecu, ono što mu je netko prije toga rekao, na zvukove izvan učionice... Također tu pažnju treba održati usmjerenu, a ne uskoro početi misliti na igračku koju je ponijelo, na sjećanja na film koje je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je gledalo i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e znatne razlike u mogućnosti upravljanja pažnj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76320">
            <a:solidFill>
              <a:srgbClr val="3b80ae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vi imamo iskustvo sa skretanjem pažnje – događa nam se na primjer da na poslu mislimo o obvezama kod kuće, da «odsutni» vozimo auto ili da pročitamo nekoliko stranica knjige i utvrdimo da ne znamo što smo čitali jer smo razmišljali o nečemu drugome. Pažnja ima središnju ulogu u tome koje će podatke naš um dobiti, a koje neće. Tako je i kod djece – pažnja i budnost utječu na njihovo opažanje svij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Pažnja u najranijem djetinjst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3b80ae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Čak i novorođenčad obraća pažnju na lagane zvukove i umjereno jake svjetlosne podražaje – prestanu raditi ono što su do tada radila, tijelo se umiri, a otkucaji srca se uspore. Ako su promjene u okolini jake ili nagle, događa se suprotno – novorođenče se uznemiri, zatvori oči, otkucaji srca se ubrzavaju. To su najraniji oblici djetetove pozitivne i negativne paž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 oko 3. mjeseca pa do oko godinu dana starosti pažnju djece privlače stvari koje su nove i iznenađujuće. Na primjer, ako im se pokaže pravilno i iskrivljeno ljudsko lice izrađeno od gline, duže će promatrati iskrivljeno. Nakon toga pažnju djeteta privlače događaji koji ih potiču na stvaranje pretpostavki o svijetu koji ih okružuje. Na primjer, ako majka ima povez na licu, to će privući pažnju i dijete će pokušati procijeniti što se dogodi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b80a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Georgia"/>
              </a:rPr>
              <a:t>Razvoj paž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4100400" cy="5661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995640" y="1557360"/>
            <a:ext cx="48243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eorgia"/>
              </a:rPr>
              <a:t>I sasvim mala djeca se međusobno razlikuju po pažnji i te razlike mogu biti stabilne tijekom vremena. Tako je u jednom istraživanju utvrđeno da djeca koja u dobi od pet mjeseci duže održavaju pažnju na vidnim podražajima, i u uzrastu od tri i pol godine duže zadržavaju pažnju kad se igraj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76320">
            <a:solidFill>
              <a:srgbClr val="3b80a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 odrastanjem dolazi do promjena u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pravljanju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pažnjom. Kod male djece pažnju privlače promjene u okolini, a što su djeca starija, to je već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i samoregulacija pažnje. To znači da s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ažnj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upravlja prema ciljevima i namjerama djet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boljšava s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kontrol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pažnje – povećava se trajanje, a smanjuje lakoća odvraćanja – na primjer događaji u kući sve manje odvraćaju pažnju kod gledanja televiz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većava s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ilagodljivost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žnje – mlađa djeca se usredotočuju na više nevažnih aspekata zadatka koji trebaju napravi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ijenja s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laniranost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žnje – ako dijete koje je mlađe treba usporediti dvije slike, promatrat će ih bez plana – starije dijete će uspoređivati jednu po jednu pojedinost na slic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jeca postaju sve uspješnija u prilagođavanju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ja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žnje – tako mlađi čitači imaju istu brzinu čitanja bez obzira na težinu teksta, a uvježbani čitači mijenjaju brzinu čitanja prema težini tek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21:07:43Z</dcterms:created>
  <dc:creator>sanja</dc:creator>
  <dc:description/>
  <dc:language>en-US</dc:language>
  <cp:lastModifiedBy>Kreso Stojic</cp:lastModifiedBy>
  <dcterms:modified xsi:type="dcterms:W3CDTF">2009-05-15T19:53:04Z</dcterms:modified>
  <cp:revision>27</cp:revision>
  <dc:subject/>
  <dc:title>Slide 1</dc:title>
</cp:coreProperties>
</file>