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icochet.wav" ContentType="audio/x-wav"/>
  <Override PartName="/ppt/media/image1.wmf" ContentType="image/x-wmf"/>
  <Override PartName="/ppt/media/carbrak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1B0-9D68-429C-8C80-1B882948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661-63EB-4825-BA1A-F63959C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006-9609-447D-B4A4-8FC29FF4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D50-0DF9-4428-A1DC-C163A260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D9D0-D1D0-4BC1-842C-B9D74E50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D81-337F-4A50-AB81-F9DA1215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1620-F5AA-400B-BD28-4D3BEAD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18E-984E-4D28-B8F6-C789F805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17AA-7704-4469-9A1F-270342E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A12-CA96-4A3B-99DA-E44F2C6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2AFB-7915-4C7D-A0C0-4E642DC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7FE-74D5-4A5B-BE7D-7DFDBCA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3F2-2039-4ED2-9A7F-590982AD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4A72-34F7-4426-B780-844D320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E6A6-E228-47FD-AE71-E341A8C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542-5083-4975-B4BF-95F7A75C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85B-E58C-43FA-A580-947D3F94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E00-FF1E-4B3F-AE07-EFD1AC0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EA1-9A95-4596-B450-7977DC27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A29-257D-478B-AC7A-70BD880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528-18F1-4E40-8616-ABEC02C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352-FC93-4294-BD21-CA82EB5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310-8F4D-4ED2-B537-E5DB261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992-CAD7-44DF-B03C-C47D525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7DD6-370A-4335-AF75-ADEA211B9A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2449-CAD9-4305-9EC4-E0C4BBDDC4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Izrada Power Point prezentacij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c98"/>
                </a:solidFill>
                <a:latin typeface="Arial"/>
              </a:rPr>
              <a:t>Smjernice za izbjegavanje učestalih pogrešaka pri izradi slajdo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Boje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 boju fonta koja je kontrastna s pozadin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: plavi font na bijeloj pozad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boju koja prati logiku struk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: svjetlo plavi naslov i tamnoplavi tek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boju da biste nešto naglasi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Ali samo </a:t>
            </a:r>
            <a:r>
              <a:rPr b="0" lang="hr-HR" sz="2400" spc="-1" strike="noStrike">
                <a:solidFill>
                  <a:srgbClr val="009999"/>
                </a:solidFill>
                <a:latin typeface="Arial"/>
              </a:rPr>
              <a:t>povreme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Boje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Korištenje boje fonta koja nije u kontrastu s pozadinom je teško za čitanj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štenje boje za dekoraciju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dvraća pažnju</a:t>
            </a:r>
            <a:r>
              <a:rPr b="0" lang="hr-HR" sz="28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sme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99"/>
                </a:solidFill>
                <a:latin typeface="Arial"/>
              </a:rPr>
              <a:t>Korištenje različite boje za različite točke je nepotreb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rištenje različite boje za sporednu točku je također nepotreb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ozadina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jednostavne pozad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svijetle pozad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istu pozadinu kroz cijelu prezentacij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ozadina –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Ne koristite pozadine na kojima je teško čitati tek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99"/>
                </a:solidFill>
                <a:latin typeface="Arial"/>
              </a:rPr>
              <a:t>Ne mijenjajte pozadine tijekom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pe07677_"/>
          <p:cNvPicPr/>
          <p:nvPr/>
        </p:nvPicPr>
        <p:blipFill>
          <a:blip r:embed="rId1"/>
          <a:stretch/>
        </p:blipFill>
        <p:spPr>
          <a:xfrm>
            <a:off x="3124080" y="3886200"/>
            <a:ext cx="24735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grafove, ne samo tablice i riječ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datci u grafovima su jednostavniji za shvatiti nego brojčani pod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akše je vizualizirati trendove u formi graf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vijek stavljajte naslove na graf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1763640" y="3141720"/>
          <a:ext cx="4724640" cy="76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41720"/>
                    <a:ext cx="47246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914400" y="2362320"/>
          <a:ext cx="39243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9243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826920" y="2349360"/>
          <a:ext cx="8066160" cy="439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349360"/>
                    <a:ext cx="80661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Graf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762120" y="2492280"/>
          <a:ext cx="8076960" cy="41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92280"/>
                    <a:ext cx="80769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ravopis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565000"/>
            <a:ext cx="80010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ovjerite prezentaciju tražeć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opisne pogreš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navljanje riječ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ramatičke grešk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amolite nekoga da vam pregleda prezentaciju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Zaključak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glasite zaključ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ublika će vjerojatno zapamtiti vaše zadnje riječ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stakn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amo glavne točke prezent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dložite buduća istraži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regled smjernic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666520"/>
            <a:ext cx="3924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truktura slajdo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onto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B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zad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rafo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op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ključ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0680" y="2666520"/>
            <a:ext cx="3924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Pitanja?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nekad prezentaciju možete završiti i s jednostavnim pitanjem ili slajdom za pit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e može započeti rasprav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maže da se izbjegne oštri prekid izlag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aje “nešto za gledanje” tijekom perioda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Kratki sadržaj</a:t>
            </a: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 početku prezentacije napravite kratki pregled sadržaja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. prethodni slaj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atite predstavljen poredak do kraja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amo glavne točke na pregled sadrža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pr. koristi naslove slajdova kao glavne toč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– dobr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1-2 slajdova po minuti prezen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išite u formi natuknica, ne u čitavim rečenic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ključi 4-5 točke po slaj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bjegavajte “rječitost”: koristite samo ključne riječi i fra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- loš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vaj slajd sadrži previše riječi za slajd. Nije napisan u formi natuknica, što ga čini teškim za čitanje i prezentiranje svake točke. Iako ovaj slajd nema složeniji sadržaj od prethodnog, ovdje sve izgleda previše komplicirano. Ukratko, vaša publika će potrošiti više vremena u čitanju ovog odlomka nego slušajući v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– dobr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prikazujte previše informacija istovremen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moći će publici da se koncentriraju na ono što govo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riječiti će publiku da čita unaprij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ublika će ostati fokusirana na ono o čemu govo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Struktura slajdova - loša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koristiti animacije koje previše odvraćaju pozor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pretjerujte s animacij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Budite konzistentni s animacijom koju korist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25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25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Fontovi - dobro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najmanje font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različite veličine fontova za glavne i sporedne natuk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vo je font 24, glavna natuknica je u veličini 28, a naslov u 3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ristite standardne fontove kao što su</a:t>
            </a: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imes New Roman ili A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9c98"/>
                </a:solidFill>
                <a:latin typeface="Arial"/>
              </a:rPr>
              <a:t>Fontovi - loš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Ako koristite premali font vaša publika neće moći čitati što ste napisal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BJEGAVAJTE VELIKA SLOVA, TEŠKO SE ČITAJ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Impact"/>
              </a:rPr>
              <a:t>Ne koristite komplicirani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3:34:17Z</dcterms:created>
  <dc:creator>Marko</dc:creator>
  <dc:description/>
  <dc:language>en-US</dc:language>
  <cp:lastModifiedBy>Stojic</cp:lastModifiedBy>
  <dcterms:modified xsi:type="dcterms:W3CDTF">2008-10-27T15:23:13Z</dcterms:modified>
  <cp:revision>41</cp:revision>
  <dc:subject/>
  <dc:title>Prezentacije</dc:title>
</cp:coreProperties>
</file>