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EC38-5345-40F2-B798-F647D858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E681-E476-456C-A163-5A652A07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5338-6294-4DCC-8DBC-4CCB302E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EF3B-3E5C-4945-8AC3-E960F86F6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7CAE-2CAE-4463-B6B0-55997810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27A3-AA11-408C-B60A-B2B071F3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7786-202D-404A-8EDE-59AA57FE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B48B-08E6-493A-B81E-23AABDA5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120B-E345-4A8A-B4FE-C3B96087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D6F6-D245-4D05-B47A-330A7DB9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25BC-83C1-4234-8E4F-49FE18D4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3C7D-9D1C-49CD-A6EA-CF33553B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664E-1A90-464E-8827-45717F3E22A4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medicina.hr/" TargetMode="External"/><Relationship Id="rId2" Type="http://schemas.openxmlformats.org/officeDocument/2006/relationships/hyperlink" Target="http://www.udruga-hinkofreund.hr/" TargetMode="External"/><Relationship Id="rId3" Type="http://schemas.openxmlformats.org/officeDocument/2006/relationships/hyperlink" Target="http://www.idw.de/" TargetMode="External"/><Relationship Id="rId4" Type="http://schemas.openxmlformats.org/officeDocument/2006/relationships/hyperlink" Target="http://www.stottern.info/" TargetMode="External"/><Relationship Id="rId5" Type="http://schemas.openxmlformats.org/officeDocument/2006/relationships/hyperlink" Target="http://www.stottern-und-schule.de/" TargetMode="External"/><Relationship Id="rId6" Type="http://schemas.openxmlformats.org/officeDocument/2006/relationships/hyperlink" Target="http://www.sprachheilpaedagogik.de/" TargetMode="External"/><Relationship Id="rId7" Type="http://schemas.openxmlformats.org/officeDocument/2006/relationships/hyperlink" Target="http://www.erf.hr/" TargetMode="External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Znak 506"/>
          <p:cNvPicPr/>
          <p:nvPr/>
        </p:nvPicPr>
        <p:blipFill>
          <a:blip r:embed="rId1"/>
          <a:stretch/>
        </p:blipFill>
        <p:spPr>
          <a:xfrm>
            <a:off x="2556000" y="549360"/>
            <a:ext cx="40827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6653160" y="3870360"/>
            <a:ext cx="2490840" cy="2987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Stav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Osoba koja muca može razviti negativne stavove prema samome seb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Npr.: Nisam sposoban govoriti kao drugi, stoga ni ne vrijedim kao drug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Drukčiji s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Svijet je neprijateljsko mje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Ni drugi ne vrijede, jer nemaju razumijevanja za takve kao 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b8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Mucanje se može javiti u svim životnim dobama, ali se najčešće javlja između druge i pete godine u doba razvoja govora. Javlja se kod oko 2,4 % djece. Triput je češće kod dječaka nego kod djevojčica, učestalije je kod blizanaca i kod ljevorukih osob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Većina djece (oko 70%) uz pomoć male ili čak nikakve terapije prevlada mucan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Manje od 1% odraslih mu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Razv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Puno djece ima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razdoblje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 u razvoju kada govor nije teč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n,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no 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to je je normalan dio sazrijevanja. Smatra se da je do oko 5% (5 od 100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 riječi koje se ne izgovaraju tečno uobičajena pojava u ovom razdoblju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Govor djeteta može biti još otežaniji 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kod uzbuđenja, stresa i kod dugačkih rečen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U govoru se u ovom razdoblju pojavljuju mnogi dodaci (</a:t>
            </a: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am, ahm, eee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 i sl.), ponavljaju se riječi ili dijelovi rečen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Tretman muc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Logopedska pomoć može spriječiti da razvojno mucanje ne prijeđe u doživot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Zbog toga je preporučljivo napraviti procjenu govora kod djece koja imaju teškoće </a:t>
            </a:r>
            <a:r>
              <a:rPr b="0" lang="hr-HR" sz="3200" spc="-1" strike="noStrike">
                <a:solidFill>
                  <a:srgbClr val="68101f"/>
                </a:solidFill>
                <a:latin typeface="Georgia"/>
              </a:rPr>
              <a:t>duže od šest mjeseci</a:t>
            </a: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te kod onih koja mucaju, a to je praćeno različitim oblicima </a:t>
            </a:r>
            <a:r>
              <a:rPr b="0" lang="hr-HR" sz="3200" spc="-1" strike="noStrike">
                <a:solidFill>
                  <a:srgbClr val="68101f"/>
                </a:solidFill>
                <a:latin typeface="Georgia"/>
              </a:rPr>
              <a:t>neobičnog ponašanja ili tiko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Tretman muc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95280" y="2009880"/>
            <a:ext cx="8137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Nadalje, preporučuje se savjetovati se s logopedom 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ako se pojavljuje </a:t>
            </a:r>
            <a:r>
              <a:rPr b="1" lang="de-DE" sz="2800" spc="-1" strike="noStrike">
                <a:solidFill>
                  <a:srgbClr val="68101f"/>
                </a:solidFill>
                <a:latin typeface="Georgia"/>
              </a:rPr>
              <a:t>veći udio ponavljanj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ako se javlja </a:t>
            </a:r>
            <a:r>
              <a:rPr b="1" lang="de-DE" sz="2800" spc="-1" strike="noStrike">
                <a:solidFill>
                  <a:srgbClr val="68101f"/>
                </a:solidFill>
                <a:latin typeface="Georgia"/>
              </a:rPr>
              <a:t>ponavljanje pojedinih glasova ili slogova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mmmmmammmmma, mamamama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ako se </a:t>
            </a:r>
            <a:r>
              <a:rPr b="1" lang="de-DE" sz="2800" spc="-1" strike="noStrike">
                <a:solidFill>
                  <a:srgbClr val="68101f"/>
                </a:solidFill>
                <a:latin typeface="Georgia"/>
              </a:rPr>
              <a:t>pojedini glasovi jako produžuju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maaaaaaama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ako se javlja </a:t>
            </a:r>
            <a:r>
              <a:rPr b="1" lang="de-DE" sz="2800" spc="-1" strike="noStrike">
                <a:solidFill>
                  <a:srgbClr val="68101f"/>
                </a:solidFill>
                <a:latin typeface="Georgia"/>
              </a:rPr>
              <a:t>veći broj ponavljanja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dododododobiti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crayawn"/>
          <p:cNvPicPr/>
          <p:nvPr/>
        </p:nvPicPr>
        <p:blipFill>
          <a:blip r:embed="rId1"/>
          <a:stretch/>
        </p:blipFill>
        <p:spPr>
          <a:xfrm>
            <a:off x="7885080" y="1773360"/>
            <a:ext cx="8589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Tretman muc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Logopeda treba svakako potražiti 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ako se </a:t>
            </a:r>
            <a:r>
              <a:rPr b="1" lang="de-DE" sz="2800" spc="-1" strike="noStrike">
                <a:solidFill>
                  <a:srgbClr val="68101f"/>
                </a:solidFill>
                <a:latin typeface="Georgia"/>
              </a:rPr>
              <a:t>poteškoće pojačavaju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ako je </a:t>
            </a:r>
            <a:r>
              <a:rPr b="1" lang="de-DE" sz="2800" spc="-1" strike="noStrike">
                <a:solidFill>
                  <a:srgbClr val="68101f"/>
                </a:solidFill>
                <a:latin typeface="Georgia"/>
              </a:rPr>
              <a:t>disanje očito nekontrolirano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te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ako dijete postane </a:t>
            </a:r>
            <a:r>
              <a:rPr b="1" lang="de-DE" sz="2800" spc="-1" strike="noStrike">
                <a:solidFill>
                  <a:srgbClr val="68101f"/>
                </a:solidFill>
                <a:latin typeface="Georgia"/>
              </a:rPr>
              <a:t>svjesno da ima probleme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 s govorom.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Preporučuje se s tretmanom početi što </a:t>
            </a:r>
            <a:r>
              <a:rPr b="1" lang="hr-HR" sz="2800" spc="-1" strike="noStrike">
                <a:solidFill>
                  <a:srgbClr val="68101f"/>
                </a:solidFill>
                <a:latin typeface="Georgia"/>
              </a:rPr>
              <a:t>ranije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jer se kod mlađe djece brže prevlada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Tretman muc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50920" y="2284560"/>
            <a:ext cx="8281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Procjenjuje se da postoji oko 250 različitih metoda za tretman mucan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Zbog mnogostrukosti uzroka mucanja i poteškoća koje ga prate, primjenjuju se često programi koji su mnogostruki – npr. vježba se ritmičnost govora, disanje, uvode se psihoterapijski postupci i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Tretman muc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684360" y="2009880"/>
            <a:ext cx="720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Najčešće se koriste sljedeći postup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Vježbe disanj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Tehnike  govor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Vježbe govornog  ritm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Metode «non avoidence»  - kod ovog pristupa nastoji se popraviti situacija osobe koja muca na taj način da ona prihvaća svoje mucanj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Različite tehnike opuštanja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shell"/>
          <p:cNvPicPr/>
          <p:nvPr/>
        </p:nvPicPr>
        <p:blipFill>
          <a:blip r:embed="rId1"/>
          <a:stretch/>
        </p:blipFill>
        <p:spPr>
          <a:xfrm>
            <a:off x="6958080" y="2565360"/>
            <a:ext cx="14745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Tretman muc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179280" y="1592280"/>
            <a:ext cx="896472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POLIKLINIKE SUV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AVJETOVALIŠTE REHABILITACIJSKOG CENTR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DUKACIJSKO-REHABILITACIJSKOG FAKULTETA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, Kušlanova 59a, Zagr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DRUGA HINKO FREUND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Klaićeva 16, Zagr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Fonijatrijski centar Klinike za bolesti uha, nosa i grla, Referentni centar za fonijatriju Ministarstva zdravstva RH, Zagr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Opća bolnica Varaždin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Skup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79280" y="159228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395280" y="1844640"/>
            <a:ext cx="842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U svijetu, a sada i kod nas osobe koje mucaju nastoje prevladati različite poteškoće te postići dobru informiranost o ovom problemu tako da se priključuju skupinama za samopomoć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crayawn"/>
          <p:cNvPicPr/>
          <p:nvPr/>
        </p:nvPicPr>
        <p:blipFill>
          <a:blip r:embed="rId1"/>
          <a:stretch/>
        </p:blipFill>
        <p:spPr>
          <a:xfrm rot="1474800">
            <a:off x="3708000" y="4221000"/>
            <a:ext cx="162396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000" y="537336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Georgia"/>
              </a:rPr>
              <a:t>mucanj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Preporuke za roditel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79280" y="159228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95280" y="1989000"/>
            <a:ext cx="8748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Da biste pomogli svom djetetu koje muca, trebate mu, kao prvo, osigurati opuštenu kućnu atmosfer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Prihvatite djetetovo mucanje kao njegov način govora i ne stavljajte djetetu do znanja kako mislite da je mucanje pogrešno ili da je loša navi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Nemojte kritizirati djetetov gov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Preporuke za roditel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79280" y="159228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198900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611280" y="1484280"/>
            <a:ext cx="8532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Dobre govorne navike roditelja mogu pomoći djetetu koje muca. Govorite što polaganije, mirnije, jednostavnije i ritmični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Ako nemate puno vremena, odredite termin kada dijete može s vama neometano razgovar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U razgovoru s djetetom postavljajte š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jednostavnija i preciznija pitanja, ne postavljajte odjednom niz pita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Preporuke za roditel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179280" y="159228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0" y="198900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468360" y="1916280"/>
            <a:ext cx="8353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Ne tražite od djeteta da uloži veći trud kako bi izbjeglo mucanje ili da ponavlja riječ dok je tečno ne izgovo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Ne govorite mu da uspori s govorom, ili da razmisli što će reći prije no što počne govori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Ne predlažite mu drugi način govora za koji mislite da će mu olakšati govoren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Preporuke za roditel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79280" y="159228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0" y="198900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84360" y="1989000"/>
            <a:ext cx="770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Gledajte dijete u oči dok govori, pokažite interes za sadržaj, a ne za način gov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Pozorno slušajte dok dijete govor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pričekajte da izgovori riječ do kra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Ne dopunjavajte djetetove riječi ili misli, ne govorite umjesto njega kad nastupi poteškoća u govo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Preporuke za roditel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79280" y="159228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198900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684360" y="2060640"/>
            <a:ext cx="7632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Ne nagrađujte dijete za tečan govor i ne kažnjavajte ga zbog muca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Prema djetetu njegujte strpljiv, prijateljski i obazriv od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Ako dijete započne tu temu, potrebno je otvoreno razgovarati s njim o mucanj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crayawn"/>
          <p:cNvPicPr/>
          <p:nvPr/>
        </p:nvPicPr>
        <p:blipFill>
          <a:blip r:embed="rId1"/>
          <a:stretch/>
        </p:blipFill>
        <p:spPr>
          <a:xfrm>
            <a:off x="7236000" y="2781360"/>
            <a:ext cx="150156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Preporuke za roditel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79280" y="159228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0" y="198900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468360" y="1557360"/>
            <a:ext cx="8496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Dijete može postići tečan govor vježb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8101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8101f"/>
                </a:solidFill>
                <a:latin typeface="Georgia"/>
              </a:rPr>
              <a:t>Neka priča priče, recitira stihove i čita naglas u situacijama kad nema napetosti. Ne prekidajte ga i ne ispravljajte g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8101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8101f"/>
                </a:solidFill>
                <a:latin typeface="Georgia"/>
              </a:rPr>
              <a:t>Ohrabrite dijete da govori u obiteljskom okruženju kad nema napetosti, za stolom, za vrijeme ručka ili tijekom razgovora o njegovim dnevnim aktivnosti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8101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8101f"/>
                </a:solidFill>
                <a:latin typeface="Georgia"/>
              </a:rPr>
              <a:t>Polaganim i ritmičnim govorom mu pričajte ili čitajte priče, dodajući im malo dramatičnos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8101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8101f"/>
                </a:solidFill>
                <a:latin typeface="Georgia"/>
              </a:rPr>
              <a:t>Onih dana kada nema puno govornih blokada, dijete treba stimulirati da govori što je više moguć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8101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8101f"/>
                </a:solidFill>
                <a:latin typeface="Georgia"/>
              </a:rPr>
              <a:t>Onih dana kada dijete ima velikih poteškoća u govoru, ne zahtijevajte od njega da puno govo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Preporuke za roditel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79280" y="159228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250920" y="1989000"/>
            <a:ext cx="871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Ako dijete zadirkuju zbog mucanja, poučite ga da to primi mirno govoreći: “</a:t>
            </a:r>
            <a:r>
              <a:rPr b="1" lang="hr-HR" sz="2800" spc="-1" strike="noStrike">
                <a:solidFill>
                  <a:srgbClr val="68101f"/>
                </a:solidFill>
                <a:latin typeface="Georgia"/>
              </a:rPr>
              <a:t>Dobro, i ja ponekad imam problema s izgovorom neke riječi. Svatko to ima. Ali ja se neću brinuti oko toga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.” Većina zadirkivanja prestaje kada se suoče s takvim stav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10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79280" y="159228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68360" y="1916280"/>
            <a:ext cx="8064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Georgia"/>
              </a:rPr>
              <a:t>Uzroci mucanja do sada nisu u potpunosti poznati, ali je sigurno da se radi o inače potpuno normalnim ljudima sa svim pozitivnim i negativnim osobinama koje imaju i drugi lju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U šk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9280" y="159228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684360" y="1916280"/>
            <a:ext cx="7559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Neka školska djeca koja mucaju, nastoje prevladati mucanje, što može ovu teškoću još više učvrstiti. Druga se povlače te pretežno šute u školi. Pri tome postaju bolno svjesna razlike između znanja koje posjeduju i mogućnosti da ga pokaž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Izrugivanje i strah od izrugivanja pridonose povlačenju i izolaciji ove dje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crayawn"/>
          <p:cNvPicPr/>
          <p:nvPr/>
        </p:nvPicPr>
        <p:blipFill>
          <a:blip r:embed="rId1"/>
          <a:stretch/>
        </p:blipFill>
        <p:spPr>
          <a:xfrm>
            <a:off x="7524720" y="2997360"/>
            <a:ext cx="1440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U šk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79280" y="159228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684360" y="1916280"/>
            <a:ext cx="755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539640" y="2276640"/>
            <a:ext cx="813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Problem za učitelje može biti donijeti pravu odluku kako pristupiti učeniku koji muca – kako mu dati priliku da pokaže znanje, kako ga ne preopteretiti, je li bolje obraćati mu se ili pustiti ga na miru… Svakako je dobro otvoreno razgovarati o tome s roditeljima i učenik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crayawn"/>
          <p:cNvPicPr/>
          <p:nvPr/>
        </p:nvPicPr>
        <p:blipFill>
          <a:blip r:embed="rId1"/>
          <a:stretch/>
        </p:blipFill>
        <p:spPr>
          <a:xfrm rot="19715400">
            <a:off x="4498920" y="5121360"/>
            <a:ext cx="176688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10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539640" y="465120"/>
            <a:ext cx="8136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eorgia"/>
              </a:rPr>
              <a:t>Mucanje je poremećaj govora u kojem je govor prekinut čestim ponavljanjem ili produljivanjem govornih zvukova, slogova ili riječi, ili osoba ne može početi govoriti riječ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1" lang="hr-HR" sz="2400" spc="-1" strike="noStrike">
                <a:solidFill>
                  <a:srgbClr val="ffffff"/>
                </a:solidFill>
                <a:latin typeface="Georgia"/>
              </a:rPr>
              <a:t>Prekid u govoru može pratiti učestalo treptanje očiju, drhtanje usana i/ili čeljusti ili drugi neobični oblici ponašanja koje osoba koja muca radi dok pokušava govori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1" lang="hr-HR" sz="2400" spc="-1" strike="noStrike">
                <a:solidFill>
                  <a:srgbClr val="ffffff"/>
                </a:solidFill>
                <a:latin typeface="Georgia"/>
              </a:rPr>
              <a:t>Mucanje također često prate ubrzan puls, crvenilo, znojenje, širenje zjenica, povećana napetost mišića usana, jezika ili 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U šk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79280" y="159228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84360" y="1916280"/>
            <a:ext cx="755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95280" y="1557360"/>
            <a:ext cx="835344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Učitelj treba nastojati da njegovo govorno ponašanje u razredu bude korektno – na neverbalnom planu to je mirno i ujednačeno držanje, kontakt očima sa sugovornikom, ne govoriti brzo, paziti na artikulaci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Njegovati aktivno slušanje – puštati sugovornika da govori do kraja bez prekidanja, znakovima očima, kimanjem glave i verbalno davati znak da slušamo (</a:t>
            </a:r>
            <a:r>
              <a:rPr b="0" i="1" lang="hr-HR" sz="2400" spc="-1" strike="noStrike">
                <a:solidFill>
                  <a:srgbClr val="000000"/>
                </a:solidFill>
                <a:latin typeface="Georgia"/>
              </a:rPr>
              <a:t>da, aha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), ponoviti ukratko ono što je rečeno te tako provjeriti jesmo li smo dobro razumje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Kod vježbi čitanja u razrednoj nastavi može se vježbati i čitanjem u skupinama ili u paru (unisono)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U šk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79280" y="159228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684360" y="1916280"/>
            <a:ext cx="755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611280" y="1484280"/>
            <a:ext cx="8137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Dobro je upitati dijete što mu više odgovara – prozivanje kod odgovaranja ili samostalno javljanje, odgovaranje s mjesta ili drugdje u učionici, stojeći ili sjedeći. Ako to i ne pomaže kod mucanja, može smanjiti strahove djeteta jer ono u određenoj mjeri kontrolira situacij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Uvođenje neverbalnog izražavanja – likovnog, pantomimom, plesom, igrom, ritmičkim vježbama, itd. dovodi do opuštanja i smanjuje značaj stalnog verbalnog izražavanja u nastav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U šk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79280" y="159228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684360" y="1916280"/>
            <a:ext cx="755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95280" y="1773360"/>
            <a:ext cx="8209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Izbjegavajte dobrohotne savjete kao što su : «Promisli prije nego što nešto kažeš.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«Udahni prije nego što počneš govoriti.»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«Malo se opusti,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«Počni mirno još jednom.» i s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Kad bi takvi savjeti pomagali, mucanje ne bi bilo takav problem. Time samo pojačavate pozornost koju drugi obraćaju na osobu koja mu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Izbjegavajte iznenadna proziva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Izbjegavajte igre riječima kod kojih treba brzo smisliti ili reći odgov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U šk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79280" y="159228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684360" y="1916280"/>
            <a:ext cx="755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755640" y="1428840"/>
            <a:ext cx="7848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Ne pokušavajte pomoći tako da dovršavate riječi ili rečenice. To pomaže u danom trenutku, ali ne dugoroč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Pokušajte se normalno ponašati i ne budite nestrpljiv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Ne okrećite se na drugu stranu, zadržite kontakt očima i ne radite još neke stvari usp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Ne govorite pred drugima o problemu mucanja. Ako želite o tome razgovarati, učinite to nasa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Ljudi koji mucaju imaju bolje i teže dane – uzmite to u obz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U šk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79280" y="159228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684360" y="1916280"/>
            <a:ext cx="755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539640" y="1628640"/>
            <a:ext cx="7993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Razgovarajte s djetetom i roditeljima i pokažite da prihvaćate dijete sa svim poteškoćama i darovitostima kao i druge učen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Pružajte u razredu prilike svima da pokažu različite darovitosti i znanja – likovne, društvene, glazbene i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Ako se javi izrugivanje – ono se kod djece često javlja kod svega što je drukčije – može se u razredu razgovarati ili u različitim radionicama obraditi tema “Različitosti među ljudima” ili slične u kojima se može vidjeti i da se druga djeca u razredu razlikuju u mnogim osobinama. Svakako reagirajte odmah i pokažite da taj postupak ne smatrate ispravn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U šk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79280" y="159228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684360" y="1916280"/>
            <a:ext cx="755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539640" y="2147760"/>
            <a:ext cx="770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Ako  je dijete uključeno u tretman govora, pohvalite nasamo njegov novi način gov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U to vrijeme dogovorite s djetetom njegovo nastupanje pred razredom prema tome kako ostvaruje napredak u govo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Informirajte roditelje o mogućim poteškoćama i poboljšanjima kod upotrebe novog načina gov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ffff"/>
                </a:solidFill>
                <a:latin typeface="Georgia"/>
              </a:rPr>
              <a:t>Poznate osobe koje su muc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 rot="621600">
            <a:off x="468360" y="1700280"/>
            <a:ext cx="1928880" cy="21859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"/>
          <p:cNvSpPr/>
          <p:nvPr/>
        </p:nvSpPr>
        <p:spPr>
          <a:xfrm>
            <a:off x="179280" y="159228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"/>
          <p:cNvPicPr/>
          <p:nvPr/>
        </p:nvPicPr>
        <p:blipFill>
          <a:blip r:embed="rId2"/>
          <a:stretch/>
        </p:blipFill>
        <p:spPr>
          <a:xfrm rot="21199800">
            <a:off x="394920" y="429228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9"/>
          <p:cNvSpPr/>
          <p:nvPr/>
        </p:nvSpPr>
        <p:spPr>
          <a:xfrm>
            <a:off x="2843280" y="1989000"/>
            <a:ext cx="583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Najčešće spominjani primjer je slavni antički govornik Demosten – njegovi biografi tvrde da je svoje govorne poteškoće otklanjao tako da je govore vježbao vičući ili držeći šljunak u ust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I među suvremenicima ima puno onih koji su postali uspješni u javnom životu nakon što su prevladali mucanje -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Winston Churchill, 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Charles Darwin,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rilyn Monroe, James Earl Jones, Bruce Willis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Jimmy Stewart 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i mnogi drug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79280" y="159228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324000" y="1052640"/>
            <a:ext cx="8820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alić-Jušić, I. (2001), ŠTO UČINITI S MUCANJEM - Cjelovit pristup govoru i psihi, Ostvarenje, Leke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icrosoft Encarta Encyclopedia Standard 200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ottern oder unflüssige Sprache? - Unterscheidung ist bei Kindern leicht, Ärztezeitung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edicina.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udruga-hinkofreund.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idw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stottern.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stottern-und-schule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sprachheilpaedagogik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erf.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8101f"/>
                </a:solidFill>
                <a:latin typeface="Arial"/>
              </a:rPr>
              <a:t>www.udruga-hinkofreund.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8101f"/>
                </a:solidFill>
                <a:latin typeface="Arial"/>
              </a:rPr>
              <a:t>www.mzt.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8101f"/>
                </a:solidFill>
                <a:latin typeface="Arial"/>
              </a:rPr>
              <a:t>www.medicina.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8101f"/>
                </a:solidFill>
                <a:latin typeface="Arial"/>
              </a:rPr>
              <a:t>www.orl.mef.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8101f"/>
                </a:solidFill>
                <a:latin typeface="Arial"/>
              </a:rPr>
              <a:t>www.casafuturatech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8101f"/>
                </a:solidFill>
                <a:latin typeface="Arial"/>
              </a:rPr>
              <a:t>www.stottern.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8101f"/>
                </a:solidFill>
                <a:latin typeface="Arial"/>
              </a:rPr>
              <a:t>www.stottern-und-schule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8101f"/>
                </a:solidFill>
                <a:latin typeface="Arial"/>
              </a:rPr>
              <a:t>www.sprachheilpaedagogik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8101f"/>
                </a:solidFill>
                <a:latin typeface="Arial"/>
              </a:rPr>
              <a:t>www.news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animleser"/>
          <p:cNvPicPr/>
          <p:nvPr/>
        </p:nvPicPr>
        <p:blipFill>
          <a:blip r:embed="rId8">
            <a:grayscl/>
          </a:blip>
          <a:stretch/>
        </p:blipFill>
        <p:spPr>
          <a:xfrm>
            <a:off x="0" y="0"/>
            <a:ext cx="5936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Preporučuj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179280" y="159228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684360" y="2009880"/>
            <a:ext cx="7488000" cy="3751560"/>
          </a:xfrm>
          <a:prstGeom prst="rect">
            <a:avLst/>
          </a:prstGeom>
          <a:solidFill>
            <a:srgbClr val="68101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Čimbur, P. (2001.), </a:t>
            </a:r>
            <a:r>
              <a:rPr b="1" i="1" lang="hr-HR" sz="2400" spc="-1" strike="noStrike">
                <a:solidFill>
                  <a:srgbClr val="000000"/>
                </a:solidFill>
                <a:latin typeface="Georgia"/>
              </a:rPr>
              <a:t>Zbogom mucanje: kako sam svladao govornu manu</a:t>
            </a: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, Naklada Pavičić, Zagr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Galić-Jušić, I. (2001), </a:t>
            </a:r>
            <a:r>
              <a:rPr b="1" i="1" lang="hr-HR" sz="2400" spc="-1" strike="noStrike">
                <a:solidFill>
                  <a:srgbClr val="000000"/>
                </a:solidFill>
                <a:latin typeface="Georgia"/>
              </a:rPr>
              <a:t>ŠTO UČINITI S MUCANJEM - Cjelovit pristup govoru i psihi</a:t>
            </a: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, Ostvarenje, Leke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Georgia"/>
              </a:rPr>
              <a:t>Mucanje</a:t>
            </a: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www.medicina.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i="1" lang="hr-HR" sz="2400" spc="-1" strike="noStrike">
                <a:solidFill>
                  <a:srgbClr val="000000"/>
                </a:solidFill>
                <a:latin typeface="Georgia"/>
              </a:rPr>
              <a:t>I maheri mucaju, pa što ...”,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 www.vecernji-list.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Georgia"/>
              </a:rPr>
              <a:t>O mucanju…</a:t>
            </a: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www.udruga-hinkofreund.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6" descr="animleser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85392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 rot="20683200">
            <a:off x="5866920" y="2492280"/>
            <a:ext cx="2724120" cy="34196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468360" y="333360"/>
            <a:ext cx="8136000" cy="73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Mucanje se </a:t>
            </a: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pogoršava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 kod govora ispred više ljudi ili razgova na telefo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U nekim situacijama se </a:t>
            </a: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smanjuje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 mucanje, npr. kada osob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pjev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govori na sam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šapć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govori zajedno s drugim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kada ne može čuti vlastiti gl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kada govori sama sebi ili kućnim ljubimcim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moli s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govori i piše istodobn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govori spor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govori dubljim tonom glas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oponaša nečiji glas i gov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765000"/>
            <a:ext cx="7942320" cy="1641600"/>
          </a:xfrm>
          <a:prstGeom prst="rect">
            <a:avLst/>
          </a:prstGeom>
          <a:solidFill>
            <a:srgbClr val="68101f">
              <a:alpha val="53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Dugo se smatralo da su glavni uzročnici       problema pri izgovoru emocionalne prirode, kao što je npr. stre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3284280"/>
            <a:ext cx="7858080" cy="2841480"/>
          </a:xfrm>
          <a:prstGeom prst="rect">
            <a:avLst/>
          </a:prstGeom>
          <a:solidFill>
            <a:srgbClr val="68101f">
              <a:alpha val="53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Osobe koje mucaju mogu imati emocionalne probleme kao što je strah od upoznavanja nepoznatih ljudi ili od razgovora na telefon. Ovi problemi obično nastaju </a:t>
            </a:r>
            <a:r>
              <a:rPr b="1" lang="hr-HR" sz="2800" spc="-1" strike="noStrike">
                <a:solidFill>
                  <a:srgbClr val="ffffff"/>
                </a:solidFill>
                <a:latin typeface="Georgia"/>
              </a:rPr>
              <a:t>zbog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mucanja, a </a:t>
            </a:r>
            <a:r>
              <a:rPr b="1" lang="hr-HR" sz="2800" spc="-1" strike="noStrike">
                <a:solidFill>
                  <a:srgbClr val="ffffff"/>
                </a:solidFill>
                <a:latin typeface="Georgia"/>
              </a:rPr>
              <a:t>ne uzrokuju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mucan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10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Georgia"/>
              </a:rPr>
              <a:t>Stručnjaci danas misle da se kod mucanja radi o drukčijoj građi nekih dijelova mozga ili njihovoj slabijoj povezanosti. To su dijelovi mozga koji su povezani s jezikom i govor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hr-HR" sz="3200" spc="-1" strike="noStrike">
                <a:solidFill>
                  <a:srgbClr val="ffffff"/>
                </a:solidFill>
                <a:latin typeface="Georgia"/>
              </a:rPr>
              <a:t>Zbog takvih razlika u radu mozga kod osoba koje mucaju dolazi do povremenog nesklada u radu mišića koji se koriste kod gov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10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Georgia"/>
              </a:rPr>
              <a:t>S</a:t>
            </a:r>
            <a:r>
              <a:rPr b="1" lang="de-DE" sz="2800" spc="-1" strike="noStrike">
                <a:solidFill>
                  <a:srgbClr val="ffffff"/>
                </a:solidFill>
                <a:latin typeface="Georgia"/>
              </a:rPr>
              <a:t>tručnjaci </a:t>
            </a:r>
            <a:r>
              <a:rPr b="1" lang="hr-HR" sz="2800" spc="-1" strike="noStrike">
                <a:solidFill>
                  <a:srgbClr val="ffffff"/>
                </a:solidFill>
                <a:latin typeface="Georgia"/>
              </a:rPr>
              <a:t>se nadaju</a:t>
            </a:r>
            <a:r>
              <a:rPr b="1" lang="de-DE" sz="2800" spc="-1" strike="noStrike">
                <a:solidFill>
                  <a:srgbClr val="ffffff"/>
                </a:solidFill>
                <a:latin typeface="Georgia"/>
              </a:rPr>
              <a:t> da će se dalj</a:t>
            </a:r>
            <a:r>
              <a:rPr b="1" lang="hr-HR" sz="2800" spc="-1" strike="noStrike">
                <a:solidFill>
                  <a:srgbClr val="ffffff"/>
                </a:solidFill>
                <a:latin typeface="Georgia"/>
              </a:rPr>
              <a:t>nj</a:t>
            </a:r>
            <a:r>
              <a:rPr b="1" lang="de-DE" sz="2800" spc="-1" strike="noStrike">
                <a:solidFill>
                  <a:srgbClr val="ffffff"/>
                </a:solidFill>
                <a:latin typeface="Georgia"/>
              </a:rPr>
              <a:t>im istraživanjem utvrditi je li mucanje genetski uvjetovano</a:t>
            </a:r>
            <a:r>
              <a:rPr b="1" lang="hr-HR" sz="2800" spc="-1" strike="noStrike">
                <a:solidFill>
                  <a:srgbClr val="ffffff"/>
                </a:solidFill>
                <a:latin typeface="Georgia"/>
              </a:rPr>
              <a:t>. Primijećeno je, naime, da se mucanje</a:t>
            </a:r>
            <a:r>
              <a:rPr b="1" lang="de-DE" sz="2800" spc="-1" strike="noStrike">
                <a:solidFill>
                  <a:srgbClr val="ffffff"/>
                </a:solidFill>
                <a:latin typeface="Georgia"/>
              </a:rPr>
              <a:t> češće pojavlj</a:t>
            </a:r>
            <a:r>
              <a:rPr b="1" lang="hr-HR" sz="2800" spc="-1" strike="noStrike">
                <a:solidFill>
                  <a:srgbClr val="ffffff"/>
                </a:solidFill>
                <a:latin typeface="Georgia"/>
              </a:rPr>
              <a:t>u</a:t>
            </a:r>
            <a:r>
              <a:rPr b="1" lang="de-DE" sz="2800" spc="-1" strike="noStrike">
                <a:solidFill>
                  <a:srgbClr val="ffffff"/>
                </a:solidFill>
                <a:latin typeface="Georgia"/>
              </a:rPr>
              <a:t>je u nekim obiteljima</a:t>
            </a:r>
            <a:r>
              <a:rPr b="1" lang="hr-HR" sz="2800" spc="-1" strike="noStrike">
                <a:solidFill>
                  <a:srgbClr val="ffffff"/>
                </a:solidFill>
                <a:latin typeface="Georgia"/>
              </a:rPr>
              <a:t>. </a:t>
            </a:r>
            <a:r>
              <a:rPr b="1" lang="de-DE" sz="2800" spc="-1" strike="noStrike">
                <a:solidFill>
                  <a:srgbClr val="ffffff"/>
                </a:solidFill>
                <a:latin typeface="Georgia"/>
              </a:rPr>
              <a:t>U obitelji osobe koja muca također se često nalaze osobe s govornim i jezičkim teškoćama sasvim druge prirode. Znanstvenici govore o tzv. obiteljskom tipu jezičnih nedostata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ffffff"/>
                </a:solidFill>
                <a:latin typeface="Georgia"/>
              </a:rPr>
              <a:t>Moguće je također da mucanje nastaje zbog problema u učenju govora. Mnoga djeca privremeno mucaju </a:t>
            </a:r>
            <a:r>
              <a:rPr b="1" lang="de-DE" sz="2800" spc="-1" strike="noStrike">
                <a:solidFill>
                  <a:srgbClr val="ffffff"/>
                </a:solidFill>
                <a:latin typeface="Georgia"/>
              </a:rPr>
              <a:t>u vrijeme ranog učenja govor</a:t>
            </a:r>
            <a:r>
              <a:rPr b="1" lang="hr-HR" sz="2800" spc="-1" strike="noStrike">
                <a:solidFill>
                  <a:srgbClr val="ffffff"/>
                </a:solidFill>
                <a:latin typeface="Georgia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Problemi kod muc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6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ucanje se javlja u mnogim različitim situacijama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, može dugo trajati i postati navi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O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kolina smatra mucanje nenormalnim oblikom ponašanja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, a 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neke osobe iz okoline sklone su ruganju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R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uganje dovodi do negativne slike o samom sebi kod osobe koja muca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O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soba koja muca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osjeća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 strah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jer misli da neće uspjeti. S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trahovi uzrokuju tjelesnu napetost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. Z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bog strahova osoba pokušava izbjeći situacije koje ih uzrokuju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Tako 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mucanje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sve više 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utječe na način života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Emo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Osoba koja muca osjeća nelagodu i strah prije govor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Često osjeća sram poslije govora. Može se javiti i potisnuta ljutnja na sugovornika koji pokazuje nestrpljenje i nerazumijevan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Neugodni su i sugovornici koji imaju pretjerano zaštitnički stav u razgovoru – pomažu u izgovoru, dovršavaju rečenice i s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9T21:11:47Z</dcterms:created>
  <dc:creator>sanja</dc:creator>
  <dc:description/>
  <dc:language>en-US</dc:language>
  <cp:lastModifiedBy>Stojic</cp:lastModifiedBy>
  <dcterms:modified xsi:type="dcterms:W3CDTF">2009-05-20T06:46:34Z</dcterms:modified>
  <cp:revision>28</cp:revision>
  <dc:subject/>
  <dc:title>Slide 1</dc:title>
</cp:coreProperties>
</file>