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25.gif" ContentType="image/gif"/>
  <Override PartName="/ppt/media/image9.gif" ContentType="image/gif"/>
  <Override PartName="/ppt/media/image7.gif" ContentType="image/gif"/>
  <Override PartName="/ppt/media/image5.gif" ContentType="image/gif"/>
  <Override PartName="/ppt/media/image14.jpeg" ContentType="image/jpeg"/>
  <Override PartName="/ppt/media/image6.jpeg" ContentType="image/jpeg"/>
  <Override PartName="/ppt/media/image24.jpeg" ContentType="image/jpeg"/>
  <Override PartName="/ppt/media/image1.gif" ContentType="image/gif"/>
  <Override PartName="/ppt/media/image23.gif" ContentType="image/gif"/>
  <Override PartName="/ppt/media/image20.jpeg" ContentType="image/jpeg"/>
  <Override PartName="/ppt/media/image19.gif" ContentType="image/gif"/>
  <Override PartName="/ppt/media/image21.gif" ContentType="image/gif"/>
  <Override PartName="/ppt/media/image18.jpeg" ContentType="image/jpeg"/>
  <Override PartName="/ppt/media/image26.gif" ContentType="image/gif"/>
  <Override PartName="/ppt/media/image3.gif" ContentType="image/gif"/>
  <Override PartName="/ppt/media/image17.gif" ContentType="image/gif"/>
  <Override PartName="/ppt/media/image15.gif" ContentType="image/gif"/>
  <Override PartName="/ppt/media/image2.png" ContentType="image/png"/>
  <Override PartName="/ppt/media/image4.gif" ContentType="image/gif"/>
  <Override PartName="/ppt/media/image2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871-B0A9-43D0-83E5-10734830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A2A-6974-46F5-9FD3-87C95094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5EB-7CC7-4E87-A45A-61E316B5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487-A341-48A6-B00E-F668AD0A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FCC-5F6E-4620-B48D-1C2246DB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AAF-C65B-4E94-9348-467118A5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668-805A-47A1-890D-9B30D88C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CC6-38B0-43D5-8A38-6F5E2439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980-54DD-4822-93ED-75859D0B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E0B-B7A6-413D-B16D-C269E238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B65-5FFB-4803-AE18-EA45BBB2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CE6-E2E8-49C8-8706-6538FB3D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8B93-A6FB-4077-848C-52EEA143219E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2205000"/>
            <a:ext cx="331164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 Kozar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i 4.r.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./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20720" y="1773360"/>
            <a:ext cx="2500560" cy="352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43280" y="450864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iteljica: Mileva Grg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1878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539880" cy="2657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640" y="3865680"/>
            <a:ext cx="2664000" cy="2571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67640" y="69228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1484280"/>
            <a:ext cx="495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jubav je… kad si se   u nekog zaljubio a stidiš mu se to reć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 sam se u nekog zaljubio i… malo me je sram reći, a u tu sam osobu jako zaljublj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rdan S., 2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451640" y="476280"/>
            <a:ext cx="50508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540240" cy="26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88000" y="3933720"/>
            <a:ext cx="2070360" cy="2449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9080" y="112536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060640"/>
            <a:ext cx="540072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m jednog dečka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ojeg ne smijem izdat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´  ga volim,  al´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ne zna da ga vol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kolina M., 2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987640" y="620640"/>
            <a:ext cx="50472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324240" cy="2495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2795760" cy="2979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88360" y="155736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2637000"/>
            <a:ext cx="333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jubav je kada nekog voliš      i kada ti netko vjeru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anesa Š., 2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093080" y="692280"/>
            <a:ext cx="504720" cy="514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21080" y="1628640"/>
            <a:ext cx="316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35280" y="2692440"/>
            <a:ext cx="3024360" cy="2706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093080" y="5516640"/>
            <a:ext cx="504720" cy="514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524720" y="3645000"/>
            <a:ext cx="504720" cy="514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835280" y="476280"/>
            <a:ext cx="504720" cy="51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948360" y="1484280"/>
            <a:ext cx="505080" cy="514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1979640" y="3573360"/>
            <a:ext cx="504720" cy="514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1042920" y="5589720"/>
            <a:ext cx="504720" cy="51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4356000" y="5734080"/>
            <a:ext cx="505080" cy="514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4572000" y="333360"/>
            <a:ext cx="504720" cy="51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395280" y="2276640"/>
            <a:ext cx="504720" cy="514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84360" y="41497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1733400" cy="188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2381400" cy="2095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504720" cy="514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596360" y="4292640"/>
            <a:ext cx="504720" cy="51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319640" y="3171960"/>
            <a:ext cx="504720" cy="51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900000" y="549360"/>
            <a:ext cx="505080" cy="514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7740720" y="620640"/>
            <a:ext cx="504720" cy="51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995640" y="6093000"/>
            <a:ext cx="505080" cy="514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32360" y="333360"/>
            <a:ext cx="3540240" cy="2657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2247840" cy="2343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42920" y="198900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jubav 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kad ti netk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daruje ruž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ili nešto slič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eonardo S., 4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6360" y="98100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484360" y="5661000"/>
            <a:ext cx="50508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3960720"/>
            <a:ext cx="3311640" cy="2486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2381400" cy="2523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12360" y="76500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184464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1700280"/>
            <a:ext cx="529272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 netko nekom pokloni dušu svu, ili ljuba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 se neki prijatelji svaki dan viđaju i piju kav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 nekom oči svjetlucaju kao zvijezde sjajne, za drug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J., 4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596360" y="549360"/>
            <a:ext cx="50472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651640" y="414972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1905120" cy="236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6360" y="141300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2492280"/>
            <a:ext cx="4321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d ti netko čestita Valentinov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kad voliš svoju obitelj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ica S., 4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51280" y="692280"/>
            <a:ext cx="504720" cy="514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385272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1905120" cy="234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285440" y="112536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4720" y="2421000"/>
            <a:ext cx="4103640" cy="33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jubav je kad nekog voliš najviše na svijetu,            … ili kad tebe netko vol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drea K., 4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380360" y="836640"/>
            <a:ext cx="50472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24360" y="3789360"/>
            <a:ext cx="3179880" cy="2387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516720" y="1052640"/>
            <a:ext cx="1476360" cy="1857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6000" y="69228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413000"/>
            <a:ext cx="5256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nešto predivno u živo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kad te netko toliko voli da bi se odrekao sve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kad nekog stvarno voliš, kakav god b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kad te netko voli cijeli život i kad se nikad ne rastaj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ja M., 4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140360" y="404640"/>
            <a:ext cx="50472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3168720" cy="2379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9640" y="1627200"/>
            <a:ext cx="2087640" cy="2028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9080" y="33336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765000"/>
            <a:ext cx="53290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sve u živo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prijateljska i ljubavna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kad nekog jako voliš i pustiš ga svojoj prijateljici, jer mu želiš sreću i jer te on ne vo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kad nekog voli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kad oprosti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kad razgovaraš s Bog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na G., 4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556000" y="1197000"/>
            <a:ext cx="50472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219640" y="476280"/>
            <a:ext cx="3540240" cy="2657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67280" y="3789360"/>
            <a:ext cx="2293920" cy="275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720" y="112536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2060640"/>
            <a:ext cx="448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jubav je kad nekog voliš i oči ti svijetle u srcu, …i kad pjevaš iz sr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jubav je kad se sprijateljiš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B., 2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620640"/>
            <a:ext cx="50472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3:24:43Z</dcterms:created>
  <dc:creator>GRGA</dc:creator>
  <dc:description/>
  <dc:language>en-US</dc:language>
  <cp:lastModifiedBy>Krešo</cp:lastModifiedBy>
  <dcterms:modified xsi:type="dcterms:W3CDTF">2008-04-09T17:26:39Z</dcterms:modified>
  <cp:revision>19</cp:revision>
  <dc:subject/>
  <dc:title>Slajd 1</dc:title>
</cp:coreProperties>
</file>