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31E-90F6-4C2F-B356-07169215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EC3-15C2-42A0-8EB0-E194933B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9D8-F373-4D9B-8ADD-191BB487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D03-889D-4644-B5CA-DE064AC4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08C-6268-4C4E-B70B-000C3C50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915-D5EE-45E4-A403-8661A320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584-897A-4E84-937D-E751620B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426-AAC0-40A4-A7F0-84952EC4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EC7-9215-464E-8DBF-ABA99B72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E45-B483-4190-B07E-D1E8DA7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9A1-FC91-41F3-AC18-B1BD3F9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B3B-8D77-4DAF-81B6-D31BB82E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5B4F-D2A7-4754-A652-F673D57940A7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image" Target="../media/image12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4280" y="594324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ul Gaugui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Žuti Krist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8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:\Lkultura\Metodika mali\Analiza i kompozicija\Paul Gauguin. Zuti Krist. 1889.jpg"/>
          <p:cNvPicPr/>
          <p:nvPr/>
        </p:nvPicPr>
        <p:blipFill>
          <a:blip r:embed="rId1"/>
          <a:stretch/>
        </p:blipFill>
        <p:spPr>
          <a:xfrm>
            <a:off x="2514600" y="304920"/>
            <a:ext cx="4365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:\Lkultura\Metodika mali\Analiza i kompozicija\kompozicija.jpg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D:\Lkultura\Metodika mali\Analiza i kompozicija\Koordinate.jpg"/>
          <p:cNvPicPr/>
          <p:nvPr/>
        </p:nvPicPr>
        <p:blipFill>
          <a:blip r:embed="rId1"/>
          <a:stretch/>
        </p:blipFill>
        <p:spPr>
          <a:xfrm>
            <a:off x="2409840" y="644400"/>
            <a:ext cx="4324320" cy="556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D:\Lkultura\Metodika mali\Analiza i kompozicija\Koordinate2.gif"/>
          <p:cNvPicPr/>
          <p:nvPr/>
        </p:nvPicPr>
        <p:blipFill>
          <a:blip r:embed="rId2"/>
          <a:stretch/>
        </p:blipFill>
        <p:spPr>
          <a:xfrm>
            <a:off x="2362320" y="609480"/>
            <a:ext cx="4311360" cy="556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D:\Lkultura\Metodika mali\Analiza i kompozicija\Paul Gauguin. Zuti Krist5. 1889.jpg"/>
          <p:cNvPicPr/>
          <p:nvPr/>
        </p:nvPicPr>
        <p:blipFill>
          <a:blip r:embed="rId3"/>
          <a:stretch/>
        </p:blipFill>
        <p:spPr>
          <a:xfrm>
            <a:off x="2362320" y="609480"/>
            <a:ext cx="4309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09680" y="3049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akvi su odnosi boj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D:\Lkultura\Metodika mali\Analiza i kompozicija\Paul Gauguin. Zuti Krist. 1889.jpg"/>
          <p:cNvPicPr/>
          <p:nvPr/>
        </p:nvPicPr>
        <p:blipFill>
          <a:blip r:embed="rId1"/>
          <a:stretch/>
        </p:blipFill>
        <p:spPr>
          <a:xfrm>
            <a:off x="380880" y="974880"/>
            <a:ext cx="3787920" cy="489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:\Lkultura\Metodika mali\Analiza i kompozicija\Paul Gauguin. Zuti Krist6. 1889.jpg"/>
          <p:cNvPicPr/>
          <p:nvPr/>
        </p:nvPicPr>
        <p:blipFill>
          <a:blip r:embed="rId2"/>
          <a:stretch/>
        </p:blipFill>
        <p:spPr>
          <a:xfrm>
            <a:off x="4952880" y="990720"/>
            <a:ext cx="3776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D:\Lkultura\Metodika mali\Analiza i kompozicija\Mathias Grunewald. Raspece4.jpg"/>
          <p:cNvPicPr/>
          <p:nvPr/>
        </p:nvPicPr>
        <p:blipFill>
          <a:blip r:embed="rId1"/>
          <a:stretch/>
        </p:blipFill>
        <p:spPr>
          <a:xfrm>
            <a:off x="4876920" y="1434960"/>
            <a:ext cx="4038480" cy="3822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:\Lkultura\Metodika mali\Analiza i kompozicija\Mathias Grunewald. Raspece.jpg"/>
          <p:cNvPicPr/>
          <p:nvPr/>
        </p:nvPicPr>
        <p:blipFill>
          <a:blip r:embed="rId2"/>
          <a:stretch/>
        </p:blipFill>
        <p:spPr>
          <a:xfrm>
            <a:off x="228600" y="1425600"/>
            <a:ext cx="40496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2" descr="D:\Lkultura\Metodika mali\Analiza i kompozicija\Paul Gauguin. Zuti Krist. 1889.jpg"/>
          <p:cNvPicPr/>
          <p:nvPr/>
        </p:nvPicPr>
        <p:blipFill>
          <a:blip r:embed="rId1"/>
          <a:stretch/>
        </p:blipFill>
        <p:spPr>
          <a:xfrm>
            <a:off x="304920" y="685800"/>
            <a:ext cx="20653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8"/>
          <p:cNvGrpSpPr/>
          <p:nvPr/>
        </p:nvGrpSpPr>
        <p:grpSpPr>
          <a:xfrm>
            <a:off x="6400800" y="685800"/>
            <a:ext cx="2381400" cy="5562720"/>
            <a:chOff x="6400800" y="685800"/>
            <a:chExt cx="2381400" cy="5562720"/>
          </a:xfrm>
        </p:grpSpPr>
        <p:pic>
          <p:nvPicPr>
            <p:cNvPr id="78" name="Picture 16" descr="D:\Lkultura\Metodika mali\Analiza i kompozicija\Mathias Grunewald. Raspece4.jpg"/>
            <p:cNvPicPr/>
            <p:nvPr/>
          </p:nvPicPr>
          <p:blipFill>
            <a:blip r:embed="rId2"/>
            <a:stretch/>
          </p:blipFill>
          <p:spPr>
            <a:xfrm>
              <a:off x="6400800" y="3994200"/>
              <a:ext cx="2381400" cy="22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7" descr="D:\Lkultura\Metodika mali\Analiza i kompozicija\Paul Gauguin. Zuti Krist6. 1889.jpg"/>
            <p:cNvPicPr/>
            <p:nvPr/>
          </p:nvPicPr>
          <p:blipFill>
            <a:blip r:embed="rId3"/>
            <a:stretch/>
          </p:blipFill>
          <p:spPr>
            <a:xfrm>
              <a:off x="6400800" y="685800"/>
              <a:ext cx="2065320" cy="26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19" descr="D:\Lkultura\Metodika mali\Analiza i kompozicija\Mathias Grunewald. Raspece.jpg"/>
          <p:cNvPicPr/>
          <p:nvPr/>
        </p:nvPicPr>
        <p:blipFill>
          <a:blip r:embed="rId4"/>
          <a:stretch/>
        </p:blipFill>
        <p:spPr>
          <a:xfrm>
            <a:off x="228600" y="3940200"/>
            <a:ext cx="2438280" cy="23083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1"/>
          <p:cNvGrpSpPr/>
          <p:nvPr/>
        </p:nvGrpSpPr>
        <p:grpSpPr>
          <a:xfrm>
            <a:off x="3262320" y="685800"/>
            <a:ext cx="2452680" cy="5562720"/>
            <a:chOff x="3262320" y="685800"/>
            <a:chExt cx="2452680" cy="5562720"/>
          </a:xfrm>
        </p:grpSpPr>
        <p:pic>
          <p:nvPicPr>
            <p:cNvPr id="82" name="Picture 13" descr="D:\Lkultura\Metodika mali\Analiza i kompozicija\Mathias Grunewald. Raspece3.jpg"/>
            <p:cNvPicPr/>
            <p:nvPr/>
          </p:nvPicPr>
          <p:blipFill>
            <a:blip r:embed="rId5"/>
            <a:stretch/>
          </p:blipFill>
          <p:spPr>
            <a:xfrm>
              <a:off x="3276720" y="3948120"/>
              <a:ext cx="2438280" cy="23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0" descr="D:\Lkultura\Metodika mali\Analiza i kompozicija\Paul Gauguin. Zuti Krist3. 1889.jpg"/>
            <p:cNvPicPr/>
            <p:nvPr/>
          </p:nvPicPr>
          <p:blipFill>
            <a:blip r:embed="rId6"/>
            <a:stretch/>
          </p:blipFill>
          <p:spPr>
            <a:xfrm>
              <a:off x="3262320" y="685800"/>
              <a:ext cx="2071800" cy="26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315200" y="57913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et Mondrian: Kompozicija, 19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D:\Lkultura\Metodika mali\Analiza i kompozicija\Mondrian.jpg"/>
          <p:cNvPicPr/>
          <p:nvPr/>
        </p:nvPicPr>
        <p:blipFill>
          <a:blip r:embed="rId1"/>
          <a:stretch/>
        </p:blipFill>
        <p:spPr>
          <a:xfrm>
            <a:off x="1143000" y="404640"/>
            <a:ext cx="61167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D:\Lkultura\Metodika mali\Analiza i kompozicija\kompozicija8.jpg"/>
          <p:cNvPicPr/>
          <p:nvPr/>
        </p:nvPicPr>
        <p:blipFill>
          <a:blip r:embed="rId1"/>
          <a:stretch/>
        </p:blipFill>
        <p:spPr>
          <a:xfrm>
            <a:off x="228600" y="3505320"/>
            <a:ext cx="4343400" cy="29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D:\Lkultura\Metodika mali\Analiza i kompozicija\kompozicija2.jpg"/>
          <p:cNvPicPr/>
          <p:nvPr/>
        </p:nvPicPr>
        <p:blipFill>
          <a:blip r:embed="rId2"/>
          <a:stretch/>
        </p:blipFill>
        <p:spPr>
          <a:xfrm>
            <a:off x="228600" y="380880"/>
            <a:ext cx="4343400" cy="297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D:\Lkultura\Metodika mali\Analiza i kompozicija\kompozicija9.jpg"/>
          <p:cNvPicPr/>
          <p:nvPr/>
        </p:nvPicPr>
        <p:blipFill>
          <a:blip r:embed="rId3"/>
          <a:stretch/>
        </p:blipFill>
        <p:spPr>
          <a:xfrm>
            <a:off x="4800600" y="3505320"/>
            <a:ext cx="411480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D:\Lkultura\Metodika mali\Analiza i kompozicija\kompozicija5.jpg"/>
          <p:cNvPicPr/>
          <p:nvPr/>
        </p:nvPicPr>
        <p:blipFill>
          <a:blip r:embed="rId1"/>
          <a:stretch/>
        </p:blipFill>
        <p:spPr>
          <a:xfrm>
            <a:off x="328680" y="1066680"/>
            <a:ext cx="3100320" cy="381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:\Lkultura\Metodika mali\Analiza i kompozicija\kompoz4.jpg"/>
          <p:cNvPicPr/>
          <p:nvPr/>
        </p:nvPicPr>
        <p:blipFill>
          <a:blip r:embed="rId2"/>
          <a:stretch/>
        </p:blipFill>
        <p:spPr>
          <a:xfrm>
            <a:off x="4038480" y="3624120"/>
            <a:ext cx="434340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D:\Lkultura\Metodika mali\Analiza i kompozicija\kompoz3.jpg"/>
          <p:cNvPicPr/>
          <p:nvPr/>
        </p:nvPicPr>
        <p:blipFill>
          <a:blip r:embed="rId3"/>
          <a:stretch/>
        </p:blipFill>
        <p:spPr>
          <a:xfrm>
            <a:off x="4038480" y="457200"/>
            <a:ext cx="44960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predavanja\Analiza i kompozicija\Ivan Picelj.Kompozicija.jpg"/>
          <p:cNvPicPr/>
          <p:nvPr/>
        </p:nvPicPr>
        <p:blipFill>
          <a:blip r:embed="rId1"/>
          <a:stretch/>
        </p:blipFill>
        <p:spPr>
          <a:xfrm>
            <a:off x="1666800" y="380880"/>
            <a:ext cx="44658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248520" y="56689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van Picelj: Kompozicija,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05520" y="60195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thias G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ewald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aspeć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5.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D:\Lkultura\Metodika mali\Analiza i kompozicija\Mathias Grunewald. Raspece.jpg"/>
          <p:cNvPicPr/>
          <p:nvPr/>
        </p:nvPicPr>
        <p:blipFill>
          <a:blip r:embed="rId1"/>
          <a:stretch/>
        </p:blipFill>
        <p:spPr>
          <a:xfrm>
            <a:off x="1523880" y="155520"/>
            <a:ext cx="61167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520" y="6091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nal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1219320"/>
            <a:ext cx="76960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rč. </a:t>
            </a: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analy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– razrješujem, param, raščlanjuj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stavljanje nekog objekta na njegove najjednostavnije sastavne dijelove,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uprotno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sintez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analiza uočava i raščlanjuje likovno djelo na njegove sastavne elemente:</a:t>
            </a:r>
            <a:br>
              <a:rPr sz="1600"/>
            </a:b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slik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 boju, plohu, ton; </a:t>
            </a:r>
            <a:br>
              <a:rPr sz="1600"/>
            </a:b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crtež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 linije, točke; </a:t>
            </a:r>
            <a:br>
              <a:rPr sz="1600"/>
            </a:b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ki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 volumen, površinu, prostor; i na njihove međuodnose, na kompozicijske elemente (kontraste, ritam, ravnotežu, proporcije, i dr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ražimo sintaksu = vizualni jezik = sadrža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19920" y="601956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avenna,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Dobri pasti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biz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D:\Lkultura\Metodika mali\Analiza i kompozicija\Bizant. Dobri pastir. Ravenna.jpg"/>
          <p:cNvPicPr/>
          <p:nvPr/>
        </p:nvPicPr>
        <p:blipFill>
          <a:blip r:embed="rId1"/>
          <a:stretch/>
        </p:blipFill>
        <p:spPr>
          <a:xfrm>
            <a:off x="380880" y="720720"/>
            <a:ext cx="8458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4640" y="6171840"/>
            <a:ext cx="2514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ul Cezann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artaš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D:\Lkultura\Metodika mali\Analiza i kompozicija\Paul Cezanne. Kartasi.1892.jpg"/>
          <p:cNvPicPr/>
          <p:nvPr/>
        </p:nvPicPr>
        <p:blipFill>
          <a:blip r:embed="rId1"/>
          <a:stretch/>
        </p:blipFill>
        <p:spPr>
          <a:xfrm>
            <a:off x="1219320" y="488880"/>
            <a:ext cx="678168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0920" y="3049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minantni oblici i smjero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D:\Lkultura\Metodika mali\Analiza i kompozicija\Bizant. Dobri pastir. Ravenna3.jpg"/>
          <p:cNvPicPr/>
          <p:nvPr/>
        </p:nvPicPr>
        <p:blipFill>
          <a:blip r:embed="rId1"/>
          <a:stretch/>
        </p:blipFill>
        <p:spPr>
          <a:xfrm>
            <a:off x="228600" y="803160"/>
            <a:ext cx="4267080" cy="2625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D:\Lkultura\Metodika mali\Analiza i kompozicija\Bizant. Dobri pastir. Ravenna4.jpg"/>
          <p:cNvPicPr/>
          <p:nvPr/>
        </p:nvPicPr>
        <p:blipFill>
          <a:blip r:embed="rId2"/>
          <a:stretch/>
        </p:blipFill>
        <p:spPr>
          <a:xfrm>
            <a:off x="228600" y="3886200"/>
            <a:ext cx="4267080" cy="263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D:\Lkultura\Metodika mali\Analiza i kompozicija\Paul Cezanne. Kartasi4.1892.jpg"/>
          <p:cNvPicPr/>
          <p:nvPr/>
        </p:nvPicPr>
        <p:blipFill>
          <a:blip r:embed="rId3"/>
          <a:stretch/>
        </p:blipFill>
        <p:spPr>
          <a:xfrm>
            <a:off x="5181480" y="3886200"/>
            <a:ext cx="3581640" cy="286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D:\Lkultura\Metodika mali\Analiza i kompozicija\Paul Cezanne. Kartasi3.1892.jpg"/>
          <p:cNvPicPr/>
          <p:nvPr/>
        </p:nvPicPr>
        <p:blipFill>
          <a:blip r:embed="rId4"/>
          <a:stretch/>
        </p:blipFill>
        <p:spPr>
          <a:xfrm>
            <a:off x="5181480" y="762120"/>
            <a:ext cx="3602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D:\Lkultura\Metodika mali\Analiza i kompozicija\Paul Cezanne. Kartasi.1892.jpg"/>
          <p:cNvPicPr/>
          <p:nvPr/>
        </p:nvPicPr>
        <p:blipFill>
          <a:blip r:embed="rId1"/>
          <a:stretch/>
        </p:blipFill>
        <p:spPr>
          <a:xfrm>
            <a:off x="4943520" y="479520"/>
            <a:ext cx="3666960" cy="294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:\Lkultura\Metodika mali\Analiza i kompozicija\Bizant. Dobri pastir. Ravenna.jpg"/>
          <p:cNvPicPr/>
          <p:nvPr/>
        </p:nvPicPr>
        <p:blipFill>
          <a:blip r:embed="rId2"/>
          <a:stretch/>
        </p:blipFill>
        <p:spPr>
          <a:xfrm>
            <a:off x="304920" y="469800"/>
            <a:ext cx="4419360" cy="273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:\Lkultura\Metodika mali\Analiza i kompozicija\Bizant. Dobri pastir. Ravenna6.jpg"/>
          <p:cNvPicPr/>
          <p:nvPr/>
        </p:nvPicPr>
        <p:blipFill>
          <a:blip r:embed="rId3"/>
          <a:stretch/>
        </p:blipFill>
        <p:spPr>
          <a:xfrm>
            <a:off x="304920" y="4038480"/>
            <a:ext cx="441936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D:\Lkultura\Metodika mali\Analiza i kompozicija\Paul Cezanne. Kartasi6.1892.jpg"/>
          <p:cNvPicPr/>
          <p:nvPr/>
        </p:nvPicPr>
        <p:blipFill>
          <a:blip r:embed="rId4"/>
          <a:stretch/>
        </p:blipFill>
        <p:spPr>
          <a:xfrm>
            <a:off x="4952880" y="3533760"/>
            <a:ext cx="3657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360" y="609120"/>
            <a:ext cx="19432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ompozi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57600" y="1143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Gdje je što?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Kakvi su odnos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9" descr="D:\Lkultura\Metodika mali\Analiza i kompozicija\Paul Gauguin. Zuti Krist. 1889.jpg"/>
          <p:cNvPicPr/>
          <p:nvPr/>
        </p:nvPicPr>
        <p:blipFill>
          <a:blip r:embed="rId1"/>
          <a:stretch/>
        </p:blipFill>
        <p:spPr>
          <a:xfrm>
            <a:off x="1219320" y="2133720"/>
            <a:ext cx="2890800" cy="37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:\Lkultura\Metodika mali\Analiza i kompozicija\Paul Gauguin. Zuti Krist3. 1889.jpg"/>
          <p:cNvPicPr/>
          <p:nvPr/>
        </p:nvPicPr>
        <p:blipFill>
          <a:blip r:embed="rId2"/>
          <a:stretch/>
        </p:blipFill>
        <p:spPr>
          <a:xfrm>
            <a:off x="5029200" y="2133720"/>
            <a:ext cx="2900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3657600" y="6858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Gdje je što?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Kakvi su odnos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D:\Lkultura\Metodika mali\Analiza i kompozicija\Mathias Grunewald. Raspece3.jpg"/>
          <p:cNvPicPr/>
          <p:nvPr/>
        </p:nvPicPr>
        <p:blipFill>
          <a:blip r:embed="rId1"/>
          <a:stretch/>
        </p:blipFill>
        <p:spPr>
          <a:xfrm>
            <a:off x="4800600" y="1832040"/>
            <a:ext cx="4114800" cy="388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kultura\Metodika mali\Analiza i kompozicija\Mathias Grunewald. Raspece.jpg"/>
          <p:cNvPicPr/>
          <p:nvPr/>
        </p:nvPicPr>
        <p:blipFill>
          <a:blip r:embed="rId2"/>
          <a:stretch/>
        </p:blipFill>
        <p:spPr>
          <a:xfrm>
            <a:off x="228600" y="1822320"/>
            <a:ext cx="41148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5:30:32Z</dcterms:created>
  <dc:creator>Miro</dc:creator>
  <dc:description/>
  <dc:language>en-US</dc:language>
  <cp:lastModifiedBy>Kreso Stojic</cp:lastModifiedBy>
  <dcterms:modified xsi:type="dcterms:W3CDTF">2009-05-15T20:26:14Z</dcterms:modified>
  <cp:revision>56</cp:revision>
  <dc:subject/>
  <dc:title>Paul Gauguin: Žuti Krist, 1889.</dc:title>
</cp:coreProperties>
</file>