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615-4B4A-4351-8A41-322624BA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223-11A8-4C5F-94CF-49DE54DC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31B-8A19-4366-99F7-8E035F9C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360-782C-4208-B723-D6AA6D19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18CB-89E1-4083-B435-FC16A11E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3A2B-C897-4527-9FA3-B7F1F116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6CB4-7227-4EAB-A68A-4C15FEE5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B210-CD40-42E1-BB08-54E3F9C0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8708-1806-4ED6-8D69-BD1F9FF0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09A4-DA95-4138-BA2A-7C58BDD1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57E5-9AF0-454C-83E2-4CCD33AA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107-99A7-4556-9CC6-340C2B7D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FE01-0000-4A13-BD90-FBE81742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1B38-650D-4EC7-ABA1-5104AAC0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4E5E-FE05-4CD4-A844-D73194C9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CE7E-15FC-4B82-B495-B9125499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627D-5CFC-48BC-83F1-4C62D89D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75F2-01AB-4097-8351-038B5EB6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CB0A-ED87-42E4-946F-E9BF2BA5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981E-51FA-4F04-8BC1-3945BCF8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D9F3-5828-47F6-B09B-EAF18514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F4ECB-23B2-42CB-B1A9-BCC96105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17C-C555-4121-A498-0CDB9798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7BE2-42E0-4205-B6C4-3842CDAD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306E-F7A4-4D40-9EB5-FF681E14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3433-3672-46FF-9040-56B48A59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59E3-2857-4543-A1AE-21E0DC2A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7956-ADAE-4076-9858-4E784C84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9B265-AD3C-4D1A-91B8-16EF0099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210A-E694-4049-83D7-65198B62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D9C-0FAE-4054-9E2C-6B2E3935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97B-B6FF-45FC-81B3-BC33C80F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3F6-9A63-40EB-8602-BA3E3E09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3A5-B426-40FA-A9E0-9981056C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74D-F1A4-4080-9889-C4E5A6F2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01A-82F2-4FB5-B500-FEF13275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DFED-1934-472B-8F58-C429E00D690E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D5B6-6941-4190-A67A-18608ACA7DE6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C92C-A65C-423D-AEB2-54FCF56D2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fes.gov.uk/" TargetMode="External"/><Relationship Id="rId2" Type="http://schemas.openxmlformats.org/officeDocument/2006/relationships/hyperlink" Target="http://www.nea.org/parents" TargetMode="External"/><Relationship Id="rId3" Type="http://schemas.openxmlformats.org/officeDocument/2006/relationships/hyperlink" Target="http://www.cyfc.umn.edu/publications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196920"/>
            <a:ext cx="7772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Georgia"/>
              </a:rPr>
              <a:t>Kako pomoći djetetu u učenju i pisanju domaćih zadaća</a:t>
            </a:r>
            <a:endParaRPr b="0" lang="en-US" sz="48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32000" y="4005360"/>
            <a:ext cx="4176720" cy="28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8728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mozite djetetu da nauči kvalitetno organizirati učenje. Svaki dan s njim</a:t>
            </a:r>
            <a:r>
              <a:rPr b="1" lang="hr-HR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gledajte bilježnice kako biste dobili uvid što se radilo u školi. Zatim zajedno napravite plan za rješavanje domaće zadaće. Dijete koje sudjeluje u stvaranju svoga dnevnog rasporeda spremnije ga je i ostvariti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Danas ću: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Ručati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Napisati zadać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Učiti prirod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Pogledati film iz videotek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Ponoviti prirod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5800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Organiziranju vremena pomažu i tablice u koje dijete svaki dan upisuje “+” kada je obavilo svoje dnevne obaveze. Na taj način, nakon tjedan dana, dijete i roditelj imaju uvid u dnevnu rutinu djeteta te mogu zajedno osmišljavati bolju organizaciju vremena.</a:t>
            </a:r>
            <a:endParaRPr b="0" lang="en-US" sz="26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43000" y="2895480"/>
          <a:ext cx="7345440" cy="3729240"/>
        </p:xfrm>
        <a:graphic>
          <a:graphicData uri="http://schemas.openxmlformats.org/drawingml/2006/table">
            <a:tbl>
              <a:tblPr/>
              <a:tblGrid>
                <a:gridCol w="2314800"/>
                <a:gridCol w="1581120"/>
                <a:gridCol w="1365120"/>
                <a:gridCol w="2084400"/>
              </a:tblGrid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dać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itanje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atik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edjeljak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orak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ijed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tvrtak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ak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t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jelj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73240" y="476280"/>
            <a:ext cx="766584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čite svoje dijete kako učiti. Formula koja se pokazala uspješnom i koju primjenjuju najuspješniji ljudi diljem svijeta glasi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čitaj letimično (starija djeca mogu pročitati samo uvod ili sažetak teksta kako bi stekla uvid u osnovnu ideju gradiva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itaj (dijete postavlja pitanja o riječima ili cijelinama koje mu nisu jasne)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čitaj pažljiv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cijeni što je bitno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pričaj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novi naučen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73240" y="228600"/>
            <a:ext cx="76658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Nikad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nemojte umjesto djeteta pročitati lekciju, zapisati ili mu prepričati sažetak i dati mu da to nauči. Najdragocijeniji je dio procesa učenja rad na razumijevanju gradiva i odvajanje bitnoga od nebitnog. Ako dijete uči po sažecima koje ste Vi napravili, učit će mehanički, gradivo će brzo zaboravljati, a kada mu učitelj postavi pitanje na drugačiji način nego Vi, neće znati odgovoriti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mogućite djetetu da uči i izvan kuće i škole. Uputite ga u knjižnicu, na slobodne aktivnosti, likovne radionice i dr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hvalite svaki djetetov uspjeh, a pogotovo trud i</a:t>
            </a:r>
            <a:r>
              <a:rPr b="1" lang="hr-HR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predak. Važnije je da je dijete spremno uložiti napor da bi riješilo zadatak i da je napredovalo, nego kakvu je ocjenu dobilo. Ocjena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najviše ovisi o načinu učenj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, ali ovisi malo i o sreći, težini gradiva, kriteriju i raspoloženju učitelja i drugim čimbenicima nad kojima dijete nema kontrolu. Hoće li dijete izvršavati zadatke ili ne, i kako će to činiti, ovisi o njemu, a mi smo tu da ga potaknemo na to i da ga naučimo kako to treba činiti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73240" y="476280"/>
            <a:ext cx="7665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 zaboravite da djeca uče imitiranjem važnih ljudi, najčešće roditelja. Promatrajući roditelje i učitelje, dijete uči što cijeniti, kako se ponašati i što raditi. Zato, ako roditelji čitaju, igraju edukativne igre, raspravljaju o raznim idejama, dogovaraju se i sl. i vrednuju znanje i djeca će činiti ist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82964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100" spc="-1" strike="noStrike">
                <a:solidFill>
                  <a:srgbClr val="ff0000"/>
                </a:solidFill>
                <a:latin typeface="Arial"/>
              </a:rPr>
              <a:t>Nekoliko tehnika koje pomažu u učenju:</a:t>
            </a:r>
            <a:endParaRPr b="0" lang="en-US" sz="31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836640"/>
            <a:ext cx="7772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Podcrtavanje bitnih činjenica, ideja ili detalja (pomozite djetetu da uči razlikovati bitne od nebitnih činjenica te da one bitne posebno označava kako bi ih lakše pamtilo).</a:t>
            </a:r>
            <a:endParaRPr b="0" lang="en-US" sz="27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Sastavljanje pitanja (kada dijete nauči postavljati pitanja iz sadržaja koji uči i odgovarati na njih, učenje će postati zabavnije i aktivnije, a dijete će razlikovati bitno od nebitnoga).</a:t>
            </a:r>
            <a:endParaRPr b="0" lang="en-US" sz="27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Sažimanje (dijete prepisuje samo bitne dijelove iz teksta).</a:t>
            </a:r>
            <a:endParaRPr b="0" lang="en-US" sz="27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Vođenje bilježaka (dijete svojim riječima prepričava sadržaj koji uči i na taj način poboljšava njegovo razumijevanje).</a:t>
            </a:r>
            <a:endParaRPr b="0" lang="en-US" sz="27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9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98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Arial"/>
              </a:rPr>
              <a:t>Pomoć u pisanju domaćih zadaća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16080" y="3743280"/>
            <a:ext cx="4086360" cy="5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43000" y="152280"/>
            <a:ext cx="7772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isanje je domaćih zadaća, </a:t>
            </a:r>
            <a:r>
              <a:rPr b="1" lang="hr-HR" sz="2800" spc="-1" strike="noStrike">
                <a:solidFill>
                  <a:srgbClr val="ff5050"/>
                </a:solidFill>
                <a:latin typeface="Arial"/>
              </a:rPr>
              <a:t>čest uzrok neslaganju između djece i roditelja.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jeca tu aktivnost često ne vole i izbjegavaju je. Jako ih je važno, od početka školovanja, navikavati da je to njihova obveza i da je moraju redovito i kvalitetno izvršavati, pa i onda kada im se ne da. 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jetetu kojemu je to potrebno, svakako treba pomoći u pisanju domaćih zadaća, ali na način da mu se objasni ono što mu nije jasno, ukaže na pogreške i potakne ga  da ih samo ispravi.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Nikako nemojte umjesto njega rješavati zadatke, jer mu time šaljete poruku da to ono samo ne može i navikavate ga da netko drugi radi umjesto njeg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98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98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7324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ije nužno, a ni dobro, neprekidno sjediti uz dijete dok uči ili piše zadaću. Važno je da ono zna da ste mu na raspolaganju i da Vam se može obratiti za pomoć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mojte se nametati u onim zadacima u kojima to nije potrebno. Djetetu je ponekad potrebno samo pregledati zadaću kako biste mu pružili osjećaj sigurnosti da je dobro izvršilo svoje obvez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 zaboravite: kod djeteta treba razvijati stav da je ono odgovorno za izvršavanje svojih obveza, a Vi ste odgovorni da mu po potrebi u tomu i pomognete, ne i da to činite umjesto njeg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98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98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98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333000"/>
            <a:ext cx="7772400" cy="126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itanja koja roditelji obično postavljaju o učenju i pisanju domaćih zadaća: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rot="2663400">
            <a:off x="4787640" y="3762360"/>
            <a:ext cx="4157640" cy="550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590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ebam li pomagati djetetu u pisanju zadaće?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ebam li učiti s djetetom i do kojeg razreda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ašto moje dijete nema više zadaće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ašto moje dijete ima tako puno zadaće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eba li moje dijete učiti s prijateljima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9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228600"/>
            <a:ext cx="77724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Čemu služe domaće zadaće?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8789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Zadaća djetetu omogućava da ponovi i uvježba ono što je učilo u školi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se pripremi za sljedeći radni dan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detaljnije prouči sadržaj koji se obrađivao u školi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znanja iz različitih područja objedini u jednoj zadaći (npr. nekom sastavu ili projektu)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se nauči koristiti literaturom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se nauči samostalnosti u radu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stekne samodisciplinu i osjećaj odgovornosti.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Roditelji se kroz zadaću mogu upoznati sa školskim aktivnostima. Oni su svjesni većine ovih stvari.  Problem je što djeca nisu!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9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98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98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98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98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98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98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98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98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Koja je prava količina zadaće?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ličina zadaće treba ovisiti o djetetovoj dobi i sposobnostim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 1.-3. razreda: do 20 minuta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 4.-6. razreda: od 20 do 40 minuta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 7.-8. razreda: do 2 sata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mojte mu zadavati dodatne zadaće, dovoljno ih je zadala učiteljica ili učitelj. Ono mora imati vremena i za igru i zabav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9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98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98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898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98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98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A sada još nekoliko savjeta...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ako biste izbjegli nesporazume s djetetom, i zakašnjele reakcije na loše ocjene na početku školske godine, dobro je dogovoriti se s njim kada će se pisati domaća zadaća (po dolasku iz škole, nakon ručka, nakon odmora, nakon slobodnih aktivnosti i sl.). Budite uporni u provođenju svoga dogovor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trebno je da dijete piše domaću zadaću i uči uvijek u isto vrijeme u danu. Tako troši manje vremena na pripremu za učenje. To mu omogućava da uvijek ima dovoljno vremena za pisanje domaće zadaće, ali i za igru i zabav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9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98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98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17324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avjetujte svomu djetetu da prvo rješava zadaću koja je najteža i najobimnij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bavite djetetu blokić u kojemu će pisati svoje obveze za sljedeći dan. Tako se može riješiti problem zaboravnosti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 je biti u kontaktu s drugom djecom iz djetetova odjela i s njihovim roditeljima. Tako ćete moći povremeno provjeriti s drugima što dijete ima za zadać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gasite televizor i radio dok dijete piše zadać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A odmor?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 ZABORAVITE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a bi dijete uspješno učilo, treba se dobro osjećati. Gladno, umorno, žalosno i ljutito dijete pažnju usmjerava na “signale neugode” iz organizma i ne može se usmjeriti na učenj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ko je dijete žalosno ili ljuto (dobilo je slabu ocjenu, posvađalo se s prijateljem i sl.) najprije popričajte s njim o onomu što ga muči, dopustite mu barem pola sata da “izbaci” negativne emocije, a onda inzistirajte da se prihvati posl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9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98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98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98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17324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ada dođe iz škole, dijete se najprije treba odmoriti. Dok je u školi, ono sjedi nekoliko sati po 45 minuta. To je za njega napor i umara ga. Osim toga, u školi mora učiti i rješavati različite zadatke koji traže psihičko naprezanje. Mozak se umara dok radi, a djetetovo tijelo i onda kad mora duže vremena sjediti. Odmoran mozak brže razumije i pamti, a umorno tijelo ometa mozak u njegovom rad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 nakon određenog vremena koje je provelo u rješavanju zadaće i učenju, svakom je djetetu potreban odmor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98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98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rijeme maksimalnog rada ovisi o uzrastu i osobinama djeteta. Promatrajte ponašanje djeteta dok piše domaću zadaću ili uči. Kada se počne jače, nego obično, vrpoljiti  na stolici, okretati se na sve strane, zijevati, ljutiti se i griješiti, to je najbolji znak da treba napraviti pauzu, jer će u suprotnom učenje biti mučenj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 slučaju je psihičkog naprezanja, najbolji odmor onaj uz laganu fizičku aktivnost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98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98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5050"/>
                </a:solidFill>
                <a:latin typeface="Times New Roman"/>
              </a:rPr>
              <a:t>Literatura: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rajković, S. i Živković, Ž., (2002.), Ja to mogu, Nansen, Osijek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evere, S., (2000.), How to Behave London, Vermilo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www.dfes.gov.uk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www.nea.org/parent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www.cyfc.umn.edu/publicatio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5050"/>
                </a:solidFill>
                <a:latin typeface="Times New Roman"/>
              </a:rPr>
              <a:t>Preporučujemo: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Wood, D.,(1995.), Kako djeca misle i uče, Zagreb, Educ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lač, Hrupelj, Miljković i sur., (2000.), Lijepo je biti roditelj, Zagreb, Creativ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rdar, Rijavac, (1998.), Što učiniti kada dijete dobije lošu ocjenu?, Zagreb. IEP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00"/>
                </a:solidFill>
                <a:latin typeface="Arial"/>
              </a:rPr>
              <a:t>Pomoć u učenju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16080" y="3743280"/>
            <a:ext cx="4086360" cy="5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rostor za učenje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491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ručnjaci preporučuju da djeca uvijek uče i pišu zadaće na istom mjestu. Samo sjedenje na mjestu, na kojem je dijete naviklo učiti, stvara psihološku spremnost za rad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jesto za pisanje domaćih zadaća ne mora biti raskošno niti posebno uređeno. Ipak, postoje općenite preporuke o izgledu prostora za učenje i pisanje zadaća: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300720" y="1981080"/>
            <a:ext cx="24415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1938600" cy="7621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eka to bude dovoljno velika radna površina na koju će dopirati dovoljno svjetla. Svjetiljka neka bude smještena s lijeve strane kod dešnjaka odnosno, s desne kod ljevaka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vo mjesto ne treba biti samo prostor za pisanje zadaće, već i prostor na kojemu će Vaše dijete držati svoje knjige, pisaći pribor i druge potrepštine za školu (olovke, bojice, ljepilo, škare, spajalice, papiri)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 djecu mlađe dobi, prostor za pisanje zadaće i učenje može biti uređen i u prostoriji koju dijele i drugi ukućani, ali u tom slučaju djetetu, dok uči i radi, trebate osigurati mir i tišinu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16000" y="476280"/>
            <a:ext cx="74944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dealno je da se radni stol za nešto starije dijete nalazi u sobi djeteta jer se pisanjem zadaća i učenjem na odvojenom mjestu ono počinje osamostaljivati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 je da se na stolu nalazi kalendar kako bi dijete lakše moglo organizirati vrijeme koje mu stoji na raspolaganju za učenje pojedinih predmet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 zid možete staviti pločicu na koju će dijete lijepiti razne papiriće-podsjetnik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5050"/>
                </a:solidFill>
                <a:latin typeface="Arial"/>
              </a:rPr>
              <a:t>Pomoć  u učenju</a:t>
            </a:r>
            <a:endParaRPr b="0" lang="en-US" sz="48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16080" y="3743280"/>
            <a:ext cx="4086360" cy="5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0000" y="456840"/>
            <a:ext cx="7974000" cy="6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Nekoliko “formula” za uspješno učenje: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bjasnite djetetu što točno očekujete od njega što se tiče učenja. Neka Vaša očekivanja budu dovoljno visoka, ali realna s obzirom na djetetove sposobnosti (npr. “Očekujem od tebe da redovito pišeš domaću zadaću.”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bjasnite mu i zašto je to važno za njega i zašto je učenje korisno. Djeca, kao i odrasli ljudi, bolje i radije rade kada u tomu vide smisa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ao i kod pisanja domaće zadaće, i u učenju je potrebna dnevna rutina. Dakle, dijete treba učiti uvijek u odprilike isto doba dana (nakon ručka, nakon odmora, i sl.). Time učenje postaje navika koja omogućava i lakše pamćenje materijal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5:09:32Z</dcterms:created>
  <dc:creator>Sanja&amp;Željka</dc:creator>
  <dc:description/>
  <dc:language>en-US</dc:language>
  <cp:lastModifiedBy>Krešo</cp:lastModifiedBy>
  <dcterms:modified xsi:type="dcterms:W3CDTF">2008-06-06T18:27:44Z</dcterms:modified>
  <cp:revision>132</cp:revision>
  <dc:subject/>
  <dc:title>Pubertet i adolescencija</dc:title>
</cp:coreProperties>
</file>