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F3D35-6C47-4D6A-B9E3-9B2F53F15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F3EF1-1493-4973-BA89-F796D26D8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45FCC-076F-430F-AB1E-E35ABCC7C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418AD-8A42-4611-8EAF-5CD87D472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BCF87-3DBD-4AA9-9E5E-FB12F4B85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1CE25-A7CE-48B7-B092-196C5F35E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8DB24-9A08-48C7-AC22-2522BD6F9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4887-BDC2-45BB-A571-27698E3E1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1DE69-8302-4CE0-9608-F8E77C0E0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D3B2C-9D5D-4C4F-A1ED-210D60E59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3B020-96B5-499F-9AC6-5FF426195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11CFB-8DC8-48E8-8993-529CE7A91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62D4-3FE9-407A-814A-9070F83AECD1}"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zrada kviza u Power Point prezentacij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p:nvPr>
        </p:nvSpPr>
        <p:spPr>
          <a:xfrm>
            <a:off x="394920" y="4436640"/>
            <a:ext cx="2879640" cy="1513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utorica : Draženka Bajan , učiteljica RN, PŠ Hrastovac, OŠ Garešn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476280"/>
            <a:ext cx="8229600" cy="264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tim označimo gumb s netočnim odgovorom, kliknemo na njega desnom tipkom miša     Uređivanje hiperveze      Postavke akcije     Hiperveza do ali sada u strelici desno ne odaberemo sljedeći slajd jer u slučaju netočnog odgovora treba se otvoriti 4. slajd ,a ne sljedeći koji je 3. slajd . U strelici sa strane odaberemo Slajd i otvorit će se prozorčić sa svim popisanim slajdovima  . Mi odaberemo 4. slajd i klknemo  U redu .</a:t>
            </a:r>
            <a:endParaRPr b="0" lang="en-US" sz="2400" spc="-1" strike="noStrike">
              <a:solidFill>
                <a:srgbClr val="000000"/>
              </a:solidFill>
              <a:latin typeface="Arial"/>
            </a:endParaRPr>
          </a:p>
        </p:txBody>
      </p:sp>
      <p:pic>
        <p:nvPicPr>
          <p:cNvPr id="71" name="" descr=""/>
          <p:cNvPicPr/>
          <p:nvPr/>
        </p:nvPicPr>
        <p:blipFill>
          <a:blip r:embed="rId1"/>
          <a:stretch/>
        </p:blipFill>
        <p:spPr>
          <a:xfrm>
            <a:off x="1619280" y="3500280"/>
            <a:ext cx="5832360" cy="2737080"/>
          </a:xfrm>
          <a:prstGeom prst="rect">
            <a:avLst/>
          </a:prstGeom>
          <a:ln w="0">
            <a:noFill/>
          </a:ln>
        </p:spPr>
      </p:pic>
      <p:sp>
        <p:nvSpPr>
          <p:cNvPr id="72" name=""/>
          <p:cNvSpPr/>
          <p:nvPr/>
        </p:nvSpPr>
        <p:spPr>
          <a:xfrm flipH="1">
            <a:off x="2626920" y="2781360"/>
            <a:ext cx="496908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140360" y="2997360"/>
            <a:ext cx="1800000" cy="86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932360" y="907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771640" y="1268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8172360" y="907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Želimo li provjeriti da li smo dobro napravili možemo ponovo na taj gumb s netočnim odgovorom kliknuti desnom tipkom miša    Uređivanje hiperveze i u Postavkama akcije treba pisati ovako : </a:t>
            </a:r>
            <a:endParaRPr b="0" lang="en-US" sz="2400" spc="-1" strike="noStrike">
              <a:solidFill>
                <a:srgbClr val="000000"/>
              </a:solidFill>
              <a:latin typeface="Arial"/>
            </a:endParaRPr>
          </a:p>
        </p:txBody>
      </p:sp>
      <p:sp>
        <p:nvSpPr>
          <p:cNvPr id="78" name="PlaceHolder 2"/>
          <p:cNvSpPr>
            <a:spLocks noGrp="1"/>
          </p:cNvSpPr>
          <p:nvPr>
            <p:ph/>
          </p:nvPr>
        </p:nvSpPr>
        <p:spPr>
          <a:xfrm>
            <a:off x="468360" y="5373360"/>
            <a:ext cx="8229600" cy="111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o treba učiniti s onim drugim gumbom s netočnim odgovorom . </a:t>
            </a:r>
            <a:endParaRPr b="0" lang="en-US" sz="2400" spc="-1" strike="noStrike">
              <a:solidFill>
                <a:srgbClr val="000000"/>
              </a:solidFill>
              <a:latin typeface="Arial"/>
            </a:endParaRPr>
          </a:p>
        </p:txBody>
      </p:sp>
      <p:pic>
        <p:nvPicPr>
          <p:cNvPr id="79" name="" descr=""/>
          <p:cNvPicPr/>
          <p:nvPr/>
        </p:nvPicPr>
        <p:blipFill>
          <a:blip r:embed="rId1"/>
          <a:stretch/>
        </p:blipFill>
        <p:spPr>
          <a:xfrm>
            <a:off x="2916360" y="2205000"/>
            <a:ext cx="3429000" cy="3168720"/>
          </a:xfrm>
          <a:prstGeom prst="rect">
            <a:avLst/>
          </a:prstGeom>
          <a:ln w="0">
            <a:noFill/>
          </a:ln>
        </p:spPr>
      </p:pic>
      <p:sp>
        <p:nvSpPr>
          <p:cNvPr id="80" name=""/>
          <p:cNvSpPr/>
          <p:nvPr/>
        </p:nvSpPr>
        <p:spPr>
          <a:xfrm>
            <a:off x="2340000" y="141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 slajdu koji će se otvarati kada učenik točno odgovori (u ovom slučaju to je 3. slajd) treba na isti način napraviti hipervezu do slajda s novim pitanjem ( to će biti 5. slajd koji ovdje nismo radili ).</a:t>
            </a:r>
            <a:br>
              <a:rPr sz="2800"/>
            </a:br>
            <a:br>
              <a:rPr sz="2800"/>
            </a:br>
            <a:r>
              <a:rPr b="0" lang="en-US" sz="2800" spc="-1" strike="noStrike">
                <a:solidFill>
                  <a:srgbClr val="000000"/>
                </a:solidFill>
                <a:latin typeface="Arial"/>
              </a:rPr>
              <a:t>Na slajdu koji će se otvarati kada učenik netočno odgovori ( u ovom slučaju to je 4. slajd treba na isti način napraviti hipervezu do onog slajda na kojem je bilo pitanje na koji je učenik dao netočan odgovor ( u ovom slučaju to je 2. slajd ) .</a:t>
            </a:r>
            <a:br>
              <a:rPr sz="2800"/>
            </a:br>
            <a:br>
              <a:rPr sz="2800"/>
            </a:br>
            <a:r>
              <a:rPr b="0" lang="en-US" sz="2800" spc="-1" strike="noStrike">
                <a:solidFill>
                  <a:srgbClr val="000000"/>
                </a:solidFill>
                <a:latin typeface="Arial"/>
              </a:rPr>
              <a:t>Cijeli ovaj postupak treba ponoviti sa svakim sljedećim pitanjem u našem kvizu .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259920"/>
            <a:ext cx="8642160" cy="28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vo ćemo napraviti prva 4 slajda kao u običnoj prezentaciji.</a:t>
            </a:r>
            <a:br>
              <a:rPr sz="2400"/>
            </a:br>
            <a:r>
              <a:rPr b="0" lang="hr-HR" sz="2400" spc="-1" strike="noStrike">
                <a:solidFill>
                  <a:srgbClr val="000000"/>
                </a:solidFill>
                <a:latin typeface="Arial"/>
              </a:rPr>
              <a:t>1. SLAJD – umetni pozadinu, napiši naslov, umetni sličice po želji ili animacije ( sličice, animacije i pozadine – ako želiš pozadinu koju nemaš u svojim predlošcima dizajna prethodno pronađi na internetu i spremi u mapu na računalu) . </a:t>
            </a:r>
            <a:br>
              <a:rPr sz="2400"/>
            </a:br>
            <a:r>
              <a:rPr b="0" lang="hr-HR" sz="2400" spc="-1" strike="noStrike">
                <a:solidFill>
                  <a:srgbClr val="000000"/>
                </a:solidFill>
                <a:latin typeface="Arial"/>
              </a:rPr>
              <a:t>Sada još samo treba dodati akcijski gumb tako da u gornjoj traci klikneš na Dijaprojekcija       Akcijski gumbi i tu odabereš   željeni gumb .</a:t>
            </a:r>
            <a:endParaRPr b="0" lang="en-US" sz="2400" spc="-1" strike="noStrike">
              <a:solidFill>
                <a:srgbClr val="000000"/>
              </a:solidFill>
              <a:latin typeface="Arial"/>
            </a:endParaRPr>
          </a:p>
        </p:txBody>
      </p:sp>
      <p:sp>
        <p:nvSpPr>
          <p:cNvPr id="44" name=""/>
          <p:cNvSpPr/>
          <p:nvPr/>
        </p:nvSpPr>
        <p:spPr>
          <a:xfrm>
            <a:off x="4572000" y="2637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 descr=""/>
          <p:cNvPicPr/>
          <p:nvPr/>
        </p:nvPicPr>
        <p:blipFill>
          <a:blip r:embed="rId1"/>
          <a:stretch/>
        </p:blipFill>
        <p:spPr>
          <a:xfrm>
            <a:off x="2627280" y="3213000"/>
            <a:ext cx="4098960" cy="3456000"/>
          </a:xfrm>
          <a:prstGeom prst="rect">
            <a:avLst/>
          </a:prstGeom>
          <a:ln w="0">
            <a:noFill/>
          </a:ln>
        </p:spPr>
      </p:pic>
      <p:sp>
        <p:nvSpPr>
          <p:cNvPr id="46" name=""/>
          <p:cNvSpPr/>
          <p:nvPr/>
        </p:nvSpPr>
        <p:spPr>
          <a:xfrm>
            <a:off x="1763640" y="2781360"/>
            <a:ext cx="24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4920" y="333000"/>
            <a:ext cx="8302680" cy="604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aberete li prazan gumb u njega možete i pisati . Ja sam ovdje odabrala gumb sa strelicom za dalje . Klikom na odabrani gumb pojavit će se križić koji kliknete na željeno mjesto na slajdu ( u ovom slučaju to je u donjem desnom kutu ) .Tada će se otvoriti  prozorčić Postavke akcije pomoću kojeg se akcijskom gumbu dodaje akcija ( akcija označava što će se dogoditi kada se na njega klikne ). No taj ćemo prozorčić za sada samo zatvoriti jer ćemo to učiniti kasnije.  Isto tako gumb možete urediti po želji : povećati ga razvlačenjem , promijeniti mu boju tako da ga označite, zatim kliknete na njega desnom tipkom miša i odaberete u izborniku koji će se pojaviti   Oblikuj samooblik ( tu odaberi boju crtu obruba i sl. ) . </a:t>
            </a:r>
            <a:endParaRPr b="0" lang="en-US" sz="2400" spc="-1" strike="noStrike">
              <a:solidFill>
                <a:srgbClr val="000000"/>
              </a:solidFill>
              <a:latin typeface="Arial"/>
            </a:endParaRPr>
          </a:p>
        </p:txBody>
      </p:sp>
      <p:sp>
        <p:nvSpPr>
          <p:cNvPr id="48" name="PlaceHolder 2"/>
          <p:cNvSpPr>
            <a:spLocks noGrp="1"/>
          </p:cNvSpPr>
          <p:nvPr>
            <p:ph/>
          </p:nvPr>
        </p:nvSpPr>
        <p:spPr>
          <a:xfrm>
            <a:off x="394920" y="6381720"/>
            <a:ext cx="8218440" cy="176400"/>
          </a:xfrm>
          <a:prstGeom prst="rect">
            <a:avLst/>
          </a:prstGeom>
          <a:noFill/>
          <a:ln w="0">
            <a:noFill/>
          </a:ln>
        </p:spPr>
        <p:txBody>
          <a:bodyPr lIns="90000" rIns="90000" tIns="46800" bIns="46800" anchor="t">
            <a:normAutofit fontScale="6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404640"/>
            <a:ext cx="8640720" cy="279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LAJD – umetni pozadinu, sličicu po želji, upiši pitanje .Ako želiš imati dva ponuđena odgovora trebaš umetnuti dva akcijska gumba ( isto kao na 1. slajdu) ali odaberi prazne gumbe da u njih možeš upisati ponuđene odgovore. To ćeš učiniti tako da označiš gumb na slajdu , klikneš na njega desnom tipkom miša i u ponuđenom izborniku odabereš Uredi tekst . Sada možeš kliknuti u gumb i pisati željeni tekst . </a:t>
            </a:r>
            <a:endParaRPr b="0" lang="en-US" sz="2400" spc="-1" strike="noStrike">
              <a:solidFill>
                <a:srgbClr val="000000"/>
              </a:solidFill>
              <a:latin typeface="Arial"/>
            </a:endParaRPr>
          </a:p>
        </p:txBody>
      </p:sp>
      <p:pic>
        <p:nvPicPr>
          <p:cNvPr id="50" name="" descr=""/>
          <p:cNvPicPr/>
          <p:nvPr/>
        </p:nvPicPr>
        <p:blipFill>
          <a:blip r:embed="rId1"/>
          <a:stretch/>
        </p:blipFill>
        <p:spPr>
          <a:xfrm>
            <a:off x="1908000" y="3284640"/>
            <a:ext cx="5256360" cy="3311280"/>
          </a:xfrm>
          <a:prstGeom prst="rect">
            <a:avLst/>
          </a:prstGeom>
          <a:ln w="0">
            <a:noFill/>
          </a:ln>
        </p:spPr>
      </p:pic>
      <p:sp>
        <p:nvSpPr>
          <p:cNvPr id="51" name=""/>
          <p:cNvSpPr/>
          <p:nvPr/>
        </p:nvSpPr>
        <p:spPr>
          <a:xfrm flipH="1">
            <a:off x="5795640" y="2349360"/>
            <a:ext cx="86364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340000" y="1557360"/>
            <a:ext cx="1079640" cy="37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411280" y="1628640"/>
            <a:ext cx="2808360" cy="360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260280"/>
            <a:ext cx="8229600" cy="274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3. SLAJD – sada uređujemo slajd koji će se otvoriti ako je učenik na prethodnom slajdu točno odgovorio tj. kliknuo na gumb sa točnim odgovorom . Umetnemo pozadinu, sličicu nekog lika po želji i dodamo mu oblačić u koji upišemo željeni tekst ( oblačići se nalaze u donjoj traci pod nazivom Samooblici ) . Na kraju umetnemo i akcijski gumb. </a:t>
            </a:r>
            <a:endParaRPr b="0" lang="en-US" sz="2400" spc="-1" strike="noStrike">
              <a:solidFill>
                <a:srgbClr val="000000"/>
              </a:solidFill>
              <a:latin typeface="Arial"/>
            </a:endParaRPr>
          </a:p>
        </p:txBody>
      </p:sp>
      <p:pic>
        <p:nvPicPr>
          <p:cNvPr id="55" name="" descr=""/>
          <p:cNvPicPr/>
          <p:nvPr/>
        </p:nvPicPr>
        <p:blipFill>
          <a:blip r:embed="rId1"/>
          <a:stretch/>
        </p:blipFill>
        <p:spPr>
          <a:xfrm>
            <a:off x="1835280" y="2997360"/>
            <a:ext cx="4824360" cy="3456000"/>
          </a:xfrm>
          <a:prstGeom prst="rect">
            <a:avLst/>
          </a:prstGeom>
          <a:ln w="0">
            <a:noFill/>
          </a:ln>
        </p:spPr>
      </p:pic>
      <p:sp>
        <p:nvSpPr>
          <p:cNvPr id="56" name=""/>
          <p:cNvSpPr/>
          <p:nvPr/>
        </p:nvSpPr>
        <p:spPr>
          <a:xfrm flipH="1">
            <a:off x="4356000" y="1628640"/>
            <a:ext cx="3888000" cy="324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a:off x="5076720" y="1989000"/>
            <a:ext cx="71928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5866920" y="2781360"/>
            <a:ext cx="1513080" cy="30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404280"/>
            <a:ext cx="8353440" cy="243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4. SLAJD – sada moramo napraviti slajd koji će se otvoriti ako je učenik netočno odgovorio. Umetnemo pozadinu, sličicu lika, oblačić i na kraju akcijski gumb sa strelicom za nazad ili prazan gumb u koji možemo napisati npr. Pokušaj ponovo . </a:t>
            </a:r>
            <a:endParaRPr b="0" lang="en-US" sz="2800" spc="-1" strike="noStrike">
              <a:solidFill>
                <a:srgbClr val="000000"/>
              </a:solidFill>
              <a:latin typeface="Arial"/>
            </a:endParaRPr>
          </a:p>
        </p:txBody>
      </p:sp>
      <p:pic>
        <p:nvPicPr>
          <p:cNvPr id="60" name="" descr=""/>
          <p:cNvPicPr/>
          <p:nvPr/>
        </p:nvPicPr>
        <p:blipFill>
          <a:blip r:embed="rId1"/>
          <a:stretch/>
        </p:blipFill>
        <p:spPr>
          <a:xfrm>
            <a:off x="2124000" y="2852640"/>
            <a:ext cx="4608720" cy="324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1700280"/>
            <a:ext cx="8424720" cy="337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o sada smo samo umetnuli akcijske gumbe koje inače koristimo za uspostavljanje veze ( tzv. hiperveze) s drugim slajdovima u prezentaciji, a sada ćemo im dodijeliti akciju. To znači da za svaki gumb moramo odrediti što će se dogoditi tj. koji će se slajd otvoriti kada na njega kliknemo : </a:t>
            </a:r>
            <a:br>
              <a:rPr sz="2400"/>
            </a:br>
            <a:br>
              <a:rPr sz="2400"/>
            </a:br>
            <a:r>
              <a:rPr b="0" lang="hr-HR" sz="2400" spc="-1" strike="noStrike">
                <a:solidFill>
                  <a:srgbClr val="000000"/>
                </a:solidFill>
                <a:latin typeface="Arial"/>
              </a:rPr>
              <a:t>1. Idemo nazad na 1. slajd ( onaj s naslovom kviza ) gdje želimo da kada učenik klikne na taj gumb da se otvori sljedeći slajd  s prvim pitanjem . To ćemo učiniti tako da prvo označimo gumb na tom slajdu , kliknemo desnom tipkom miša i zatim u ponuđenom izborniku kliknemo na Uređivanje hiperveze .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vorit će se prozorčić Postavke akcije : </a:t>
            </a:r>
            <a:endParaRPr b="0" lang="en-US" sz="2800" spc="-1" strike="noStrike">
              <a:solidFill>
                <a:srgbClr val="000000"/>
              </a:solidFill>
              <a:latin typeface="Arial"/>
            </a:endParaRPr>
          </a:p>
        </p:txBody>
      </p:sp>
      <p:sp>
        <p:nvSpPr>
          <p:cNvPr id="63" name="PlaceHolder 2"/>
          <p:cNvSpPr>
            <a:spLocks noGrp="1"/>
          </p:cNvSpPr>
          <p:nvPr>
            <p:ph/>
          </p:nvPr>
        </p:nvSpPr>
        <p:spPr>
          <a:xfrm>
            <a:off x="457200" y="4005000"/>
            <a:ext cx="8229600" cy="212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da kliknemo na Hiperveza do i zatim na strelicu desno te u ponuđenom izborniku odabrati Sljedeći slajd ukoliko već nije odabran i onda kliknuti dolje na U redu . Time smo odredili da ćemo klikom na taj gumb prijeći na sljedeći slajd gdje se nalazi prvo pitanje našeg kviza. </a:t>
            </a:r>
            <a:endParaRPr b="0" lang="en-US" sz="2400" spc="-1" strike="noStrike">
              <a:solidFill>
                <a:srgbClr val="000000"/>
              </a:solidFill>
              <a:latin typeface="Arial"/>
            </a:endParaRPr>
          </a:p>
        </p:txBody>
      </p:sp>
      <p:pic>
        <p:nvPicPr>
          <p:cNvPr id="64" name="" descr=""/>
          <p:cNvPicPr/>
          <p:nvPr/>
        </p:nvPicPr>
        <p:blipFill>
          <a:blip r:embed="rId1"/>
          <a:stretch/>
        </p:blipFill>
        <p:spPr>
          <a:xfrm>
            <a:off x="3276720" y="1052640"/>
            <a:ext cx="2950920" cy="2754360"/>
          </a:xfrm>
          <a:prstGeom prst="rect">
            <a:avLst/>
          </a:prstGeom>
          <a:ln w="0">
            <a:noFill/>
          </a:ln>
        </p:spPr>
      </p:pic>
      <p:sp>
        <p:nvSpPr>
          <p:cNvPr id="65" name=""/>
          <p:cNvSpPr/>
          <p:nvPr/>
        </p:nvSpPr>
        <p:spPr>
          <a:xfrm flipV="1">
            <a:off x="1908000" y="1773360"/>
            <a:ext cx="1584360" cy="23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flipV="1">
            <a:off x="6012000" y="1988640"/>
            <a:ext cx="100800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4427280" y="1915920"/>
            <a:ext cx="43164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4859280" y="3716280"/>
            <a:ext cx="2174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620640"/>
            <a:ext cx="8362800" cy="511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ada idemo na 2. slajd gdje se nalazi naše prvo pitanje . Mi želimo postići da ako učenik klikne na točan odgovor da se otvori sljedeći slajd gdje piše da je to točan odgovor , a ako klikne na netočan odgovor da se otvori 4. slajd gdje piše da to nije točan odgovor .</a:t>
            </a:r>
            <a:br>
              <a:rPr sz="2800"/>
            </a:br>
            <a:r>
              <a:rPr b="0" lang="en-US" sz="2800" spc="-1" strike="noStrike">
                <a:solidFill>
                  <a:srgbClr val="000000"/>
                </a:solidFill>
                <a:latin typeface="Arial"/>
              </a:rPr>
              <a:t>Prvo označimo gumb sa točnim odgovorom , kliknemo desnom tipkom miša i kada se otvori izbornik kliknemo na  Uređivanje hiperveze . Otvorit će se prozorčić Postavke akcije gdje označimo Hiperveza do i na strelici desno označimo Sljedeći slajd jer na sljedećem slajdu piše da je odgovor točan . Na kraju kliknemo na U redu ( vidi na prethodnoj slici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18:10:23Z</dcterms:created>
  <dc:creator>eXPerience</dc:creator>
  <dc:description/>
  <dc:language>en-US</dc:language>
  <cp:lastModifiedBy>Krešo</cp:lastModifiedBy>
  <dcterms:modified xsi:type="dcterms:W3CDTF">2008-05-23T20:21:10Z</dcterms:modified>
  <cp:revision>6</cp:revision>
  <dc:subject/>
  <dc:title>Izrada kviza u Power Point prezentaciji </dc:title>
</cp:coreProperties>
</file>