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03D-5752-4393-AE51-A28E8F57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1F2C-0D4C-4EDF-8B22-08C0DCC7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F90-9FB4-4DC9-85F0-CEF206700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4AB-2A48-406D-8342-46F407F5A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E78-B39B-4B0E-9A13-D6675F54D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7204-CC5C-4EDD-BA97-8EA27FD0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872E-3C05-4A1A-B6EE-C562F075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6485-77E9-4364-A3A4-92B6E89D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6B0-6D71-4D74-89FA-4DE326067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91D9-ECED-4FAB-9291-7D05AB7F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39B-8A24-469E-BBF6-D30721A9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77F6-1A50-44D0-93F8-DD8F3A1AB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79AC-5EBB-4332-8EF6-FA38CF9C2FFD}" type="slidenum">
              <a:rPr b="0" lang="hr-H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rada interaktivnog kviza pomoću programa QUIZ.NET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utorica : Draženka Bajan , učiteljica RN, PŠ Hrastovac, OŠ Garešn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STALACIJA PROGRAMA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Idi na stranicu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interneta :</a:t>
            </a:r>
            <a:br>
              <a:rPr sz="2000"/>
            </a:b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www.pc-help4u.com/ostali-programi/quiz-.net-2007-izrada-</a:t>
            </a:r>
            <a:r>
              <a:rPr b="1" lang="hr-HR" sz="2000" spc="-1" strike="noStrike">
                <a:solidFill>
                  <a:srgbClr val="000000"/>
                </a:solidFill>
                <a:latin typeface="Arial"/>
              </a:rPr>
              <a:t>kviz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a-3.html</a:t>
            </a: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Otvorit će se stran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640" y="573408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Klikni na Down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7058160" cy="3817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flipV="1">
            <a:off x="2195640" y="4723920"/>
            <a:ext cx="1008000" cy="100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Otvorit će se prozorči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899640" y="2852640"/>
            <a:ext cx="77058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- klikni na Run i pričekaj da se otvori novi prozorčić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0" y="5764320"/>
            <a:ext cx="9144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 sljedećim koracima klikni na NEXT , te u narednim prozorčićima opet NEXT      NEXT      INSTAL      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484360" y="836640"/>
            <a:ext cx="3888000" cy="2087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V="1">
            <a:off x="2340000" y="2133720"/>
            <a:ext cx="165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2124000" y="3357720"/>
            <a:ext cx="479124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51280" y="6381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638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659640" y="6381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851280" y="5589360"/>
            <a:ext cx="14414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Možeš izaći s interneta i na desktopu će se pojaviti traka kviza (inače ćeš tu traku otvoriti tako da ideš u Moje računalo – C:disk – Program files – mapa QUIZ NET 2007)</a:t>
            </a:r>
            <a:br>
              <a:rPr sz="2400"/>
            </a:b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 toj mapi klikni na QUIZ NET.exe i pojavit će se traka kviza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4005360"/>
            <a:ext cx="8229600" cy="16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da imate jednostavan i brz program s kojim možete u nekoliko minuta napraviti kv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viz se isto tako može kopirati na USB memori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68360" y="4669920"/>
            <a:ext cx="8229600" cy="2187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56167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KO NAPRAVITI K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5444640"/>
            <a:ext cx="7345440" cy="8636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971640" y="2852640"/>
            <a:ext cx="4543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7000"/>
          </a:bodyPr>
          <a:p>
            <a:pPr marL="126720" indent="-126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Odaberite Novi projek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tvorit će se prozo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Upišite ime kviza ( npr. Vode u zavičaju ) i kliknite na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12536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Otvorite QUIZ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4533840" cy="7142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1907640" y="2349360"/>
            <a:ext cx="863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4321080" cy="1305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V="1">
            <a:off x="3924360" y="4292640"/>
            <a:ext cx="86364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vorit će se prozorčić 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39640" y="4437000"/>
            <a:ext cx="82296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Upišite 1. pitanje i pritisnite zeleni plus sa stra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onovite taj korak za svako sljedeće pit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Kada ste završili s dodavanjem pitanja pritisnite na strelicu u donjem desnom kutu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0920" y="907920"/>
            <a:ext cx="5400720" cy="3672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 flipV="1">
            <a:off x="2124000" y="3500280"/>
            <a:ext cx="144000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716360" y="3499920"/>
            <a:ext cx="216072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35280" y="623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7020000" y="4292640"/>
            <a:ext cx="21600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ada će se otvoriti prozorčić sa svim vašim pitanjima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8360" y="393372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značite klikom miša 1. pitanje slijeve strane i desno upišite ponuđene odgov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aberite točan odgovor povlačeći “ slider” u ravninu točnog odgov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onovite to za svako sljedeće pitan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Kada ste završili ponovo pritisnite strelic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124000" y="907920"/>
            <a:ext cx="4321080" cy="2880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1619280" y="1628640"/>
            <a:ext cx="649080" cy="237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6156000" y="2133360"/>
            <a:ext cx="144360" cy="26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859280" y="3573000"/>
            <a:ext cx="1008000" cy="251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6c75"/>
            </a:gs>
            <a:gs pos="100000">
              <a:srgbClr val="cce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vorit će se prozorčić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4365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daberite boje pitanja ,odgovora, pozadine i ostale postavke ako želite. Sada opet pritisnite strelicu i završili ste izradu kviza . Vaš kviz bit će spremljen u glavnoj mapi QUIZ.NET i podmapi Gotovi kvizovi . Da biste kviz kopirali na USB morate iz  mape željenog kviza kopirati exe datoteku i datoteku Resor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195640" y="836640"/>
            <a:ext cx="4781520" cy="338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 flipH="1" flipV="1">
            <a:off x="4500360" y="3284640"/>
            <a:ext cx="431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724360" y="4005360"/>
            <a:ext cx="505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8T18:35:36Z</dcterms:created>
  <dc:creator>eXPerience</dc:creator>
  <dc:description/>
  <dc:language>en-US</dc:language>
  <cp:lastModifiedBy>Krešo</cp:lastModifiedBy>
  <dcterms:modified xsi:type="dcterms:W3CDTF">2008-05-18T21:04:29Z</dcterms:modified>
  <cp:revision>6</cp:revision>
  <dc:subject/>
  <dc:title>Izrada interaktivnog kviza pomoću programa QUIZ.NET 2007</dc:title>
</cp:coreProperties>
</file>