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2.wmf" ContentType="image/x-wmf"/>
  <Override PartName="/ppt/media/image10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34.jpeg" ContentType="image/jpeg"/>
  <Override PartName="/ppt/media/image9.wmf" ContentType="image/x-wmf"/>
  <Override PartName="/ppt/media/image13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8.wmf" ContentType="image/x-wmf"/>
  <Override PartName="/ppt/media/image7.jpeg" ContentType="image/jpeg"/>
  <Override PartName="/ppt/media/image5.gif" ContentType="image/gif"/>
  <Override PartName="/ppt/media/image14.jpeg" ContentType="image/jpeg"/>
  <Override PartName="/ppt/media/image11.wmf" ContentType="image/x-wmf"/>
  <Override PartName="/ppt/media/image17.jpeg" ContentType="image/jpeg"/>
  <Override PartName="/ppt/media/image3.gif" ContentType="image/gif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CA2-13A4-4FFD-8381-D2650871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270-7357-4CCB-BC30-0568187E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6E7-EB08-432F-A382-0AE18D79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C77-4192-4AB0-A770-4BDA0E87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7E41-8D6C-40AD-B5BB-68976389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874D-B943-4917-AAB0-DE9B4FC1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42B2-599C-4197-9773-4F44FC27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A9B6-E416-40DA-842E-EF1CB065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FA90-92E7-4583-B1B7-FAFD3F5A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65B7-2D41-4BC0-8A61-145D5A3E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FE4D-8FA2-4BE3-8402-E1A51464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74E-35C3-464C-A0AC-323632A7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13C3-73BB-46C9-8102-3F966CF6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F1F3-254F-4E6C-8621-DA08D8CC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B425-095E-48F9-AB93-14E2F766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29FD-DDB5-4857-B6CD-C3F0CC6A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4003-4534-441D-BFAA-9FF9E12D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0CB-CC1C-4C97-89BD-9DE20A1E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155-78B3-4216-ABA8-60BDF01E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2C0-2720-452D-9E9D-263A1A16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793-6F86-4DE4-AA10-34AE0605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CAE-BFCC-43C9-A23E-BC31C906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335-7F7A-489D-BBC4-5F0864A8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971-2C87-4DBE-BA5C-7A3F3ED4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B566-0C3D-44EC-BDFD-4C0D7E77711B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F465-577B-4B56-A831-7986DF7F4DAB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4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033720" cy="460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42920" y="549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ERENSKA NASTA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14.11.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2060640"/>
            <a:ext cx="3816360" cy="76428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Tema: JE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3573360"/>
            <a:ext cx="4969080" cy="1015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8000"/>
                </a:solidFill>
                <a:uFillTx/>
                <a:latin typeface="Arial"/>
              </a:rPr>
              <a:t>Mjesto izvođenja:</a:t>
            </a: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8000"/>
                </a:solidFill>
                <a:latin typeface="Arial"/>
              </a:rPr>
              <a:t>         </a:t>
            </a:r>
            <a:r>
              <a:rPr b="1" lang="hr-HR" sz="2400" spc="-1" strike="noStrike">
                <a:solidFill>
                  <a:srgbClr val="008000"/>
                </a:solidFill>
                <a:latin typeface="Arial"/>
              </a:rPr>
              <a:t>Jamaričko brdo , lugar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1341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 Kozarice,  1., 2., 3., 4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5229360"/>
            <a:ext cx="3168720" cy="129672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TELJ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nijela Brkić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1. i 3.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leva Grgić: 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. i 4.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5440" y="3366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6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189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Times New Roman"/>
              </a:rPr>
              <a:t>TZK-s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3740400" cy="2803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932360" y="8748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3743280" cy="2806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39640" y="3860640"/>
            <a:ext cx="3775320" cy="28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9800" y="40788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7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333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preme za povratak kuć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40760" cy="550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485120" cy="5610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7485120" cy="5612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8421480" cy="6313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16360" y="836640"/>
            <a:ext cx="3024360" cy="1617480"/>
          </a:xfrm>
          <a:prstGeom prst="cloudCallout">
            <a:avLst>
              <a:gd name="adj1" fmla="val -48111"/>
              <a:gd name="adj2" fmla="val 57555"/>
            </a:avLst>
          </a:prstGeom>
          <a:solidFill>
            <a:srgbClr val="ffd05b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Joooj, što smo se danas umorili, ali bilo nam je jaaako lijep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6000" cy="6151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55640" y="1052640"/>
            <a:ext cx="7561440" cy="39888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26d18"/>
                </a:solidFill>
                <a:latin typeface="Times New Roman"/>
              </a:rPr>
              <a:t>STVARALAČKI RAD motiviran boravkom na Jamaričkom br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20000" y="2060640"/>
            <a:ext cx="1657440" cy="1185840"/>
          </a:xfrm>
          <a:prstGeom prst="wedgeEllipseCallout">
            <a:avLst>
              <a:gd name="adj1" fmla="val -59675"/>
              <a:gd name="adj2" fmla="val 61513"/>
            </a:avLst>
          </a:prstGeom>
          <a:solidFill>
            <a:srgbClr val="ffd05b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o je naš Šumski  dvor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628640"/>
            <a:ext cx="1655640" cy="1184400"/>
          </a:xfrm>
          <a:prstGeom prst="wedgeEllipseCallout">
            <a:avLst>
              <a:gd name="adj1" fmla="val 89694"/>
              <a:gd name="adj2" fmla="val 65148"/>
            </a:avLst>
          </a:prstGeom>
          <a:solidFill>
            <a:srgbClr val="ffd05b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zvali smo ga ŽIRAN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5880" y="18900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 našoj učionici u PŠ Koza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0720" y="1890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8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84320" y="139680"/>
            <a:ext cx="8775360" cy="657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50920" y="5589720"/>
            <a:ext cx="866520" cy="111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250920" y="40464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3203640" y="260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7956720" y="549360"/>
            <a:ext cx="866520" cy="1114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4932360" y="260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1619280" y="260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1763640" y="2708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6516720" y="2708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2"/>
          <a:stretch/>
        </p:blipFill>
        <p:spPr>
          <a:xfrm>
            <a:off x="4788000" y="256536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3"/>
          <a:stretch/>
        </p:blipFill>
        <p:spPr>
          <a:xfrm>
            <a:off x="3203640" y="2637000"/>
            <a:ext cx="866880" cy="111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4"/>
          <a:stretch/>
        </p:blipFill>
        <p:spPr>
          <a:xfrm>
            <a:off x="8028000" y="2781360"/>
            <a:ext cx="866880" cy="1114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5"/>
          <a:stretch/>
        </p:blipFill>
        <p:spPr>
          <a:xfrm>
            <a:off x="6516720" y="574344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6"/>
          <a:stretch/>
        </p:blipFill>
        <p:spPr>
          <a:xfrm>
            <a:off x="4788000" y="574344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7"/>
          <a:stretch/>
        </p:blipFill>
        <p:spPr>
          <a:xfrm>
            <a:off x="3203640" y="574344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8"/>
          <a:stretch/>
        </p:blipFill>
        <p:spPr>
          <a:xfrm>
            <a:off x="1763640" y="574344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9"/>
          <a:stretch/>
        </p:blipFill>
        <p:spPr>
          <a:xfrm>
            <a:off x="8101080" y="5589720"/>
            <a:ext cx="866880" cy="1114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244000" y="4437000"/>
            <a:ext cx="739800" cy="289080"/>
          </a:xfrm>
          <a:prstGeom prst="horizontalScroll">
            <a:avLst>
              <a:gd name="adj" fmla="val 1250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omic Sans MS"/>
              </a:rPr>
              <a:t>M. Grg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684720" y="403560"/>
            <a:ext cx="7776720" cy="5872320"/>
            <a:chOff x="684720" y="403560"/>
            <a:chExt cx="7776720" cy="5872320"/>
          </a:xfrm>
        </p:grpSpPr>
        <p:sp>
          <p:nvSpPr>
            <p:cNvPr id="127" name="_s9256"/>
            <p:cNvSpPr/>
            <p:nvPr/>
          </p:nvSpPr>
          <p:spPr>
            <a:xfrm>
              <a:off x="1929600" y="539640"/>
              <a:ext cx="5288040" cy="3873240"/>
            </a:xfrm>
            <a:custGeom>
              <a:avLst/>
              <a:gdLst>
                <a:gd name="textAreaLeft" fmla="*/ 0 w 5288040"/>
                <a:gd name="textAreaRight" fmla="*/ 5288400 w 5288040"/>
                <a:gd name="textAreaTop" fmla="*/ 0 h 3873240"/>
                <a:gd name="textAreaBottom" fmla="*/ 3873600 h 38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9262"/>
            <p:cNvSpPr/>
            <p:nvPr/>
          </p:nvSpPr>
          <p:spPr>
            <a:xfrm rot="5400000">
              <a:off x="3880800" y="743040"/>
              <a:ext cx="3873240" cy="5288040"/>
            </a:xfrm>
            <a:custGeom>
              <a:avLst/>
              <a:gdLst>
                <a:gd name="textAreaLeft" fmla="*/ 0 w 3873240"/>
                <a:gd name="textAreaRight" fmla="*/ 3873600 w 3873240"/>
                <a:gd name="textAreaTop" fmla="*/ 0 h 5288040"/>
                <a:gd name="textAreaBottom" fmla="*/ 5288400 h 528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9260"/>
            <p:cNvSpPr/>
            <p:nvPr/>
          </p:nvSpPr>
          <p:spPr>
            <a:xfrm rot="10800000">
              <a:off x="1929240" y="2362320"/>
              <a:ext cx="5288040" cy="3873600"/>
            </a:xfrm>
            <a:custGeom>
              <a:avLst/>
              <a:gdLst>
                <a:gd name="textAreaLeft" fmla="*/ 0 w 5288040"/>
                <a:gd name="textAreaRight" fmla="*/ 5288400 w 5288040"/>
                <a:gd name="textAreaTop" fmla="*/ 0 h 3873600"/>
                <a:gd name="textAreaBottom" fmla="*/ 3873960 h 38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9258"/>
            <p:cNvSpPr/>
            <p:nvPr/>
          </p:nvSpPr>
          <p:spPr>
            <a:xfrm rot="16200000">
              <a:off x="1392120" y="743040"/>
              <a:ext cx="3873240" cy="5288040"/>
            </a:xfrm>
            <a:custGeom>
              <a:avLst/>
              <a:gdLst>
                <a:gd name="textAreaLeft" fmla="*/ 0 w 3873240"/>
                <a:gd name="textAreaRight" fmla="*/ 3873600 w 3873240"/>
                <a:gd name="textAreaTop" fmla="*/ 0 h 5288040"/>
                <a:gd name="textAreaBottom" fmla="*/ 5288400 h 528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9254"/>
            <p:cNvSpPr/>
            <p:nvPr/>
          </p:nvSpPr>
          <p:spPr>
            <a:xfrm>
              <a:off x="5979600" y="895680"/>
              <a:ext cx="199368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PID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9257"/>
            <p:cNvSpPr/>
            <p:nvPr/>
          </p:nvSpPr>
          <p:spPr>
            <a:xfrm>
              <a:off x="1170720" y="897840"/>
              <a:ext cx="199368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HJ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9259"/>
            <p:cNvSpPr/>
            <p:nvPr/>
          </p:nvSpPr>
          <p:spPr>
            <a:xfrm>
              <a:off x="1174320" y="4420080"/>
              <a:ext cx="199296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TZK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9261"/>
            <p:cNvSpPr/>
            <p:nvPr/>
          </p:nvSpPr>
          <p:spPr>
            <a:xfrm>
              <a:off x="5983200" y="4417920"/>
              <a:ext cx="199296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GK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7524720" y="2852280"/>
              <a:ext cx="866880" cy="11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 rot="5175000">
              <a:off x="4120560" y="5248440"/>
              <a:ext cx="866520" cy="11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 rot="15729600">
              <a:off x="4120560" y="350640"/>
              <a:ext cx="867240" cy="111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635280" y="2924280"/>
            <a:ext cx="1800360" cy="647640"/>
          </a:xfrm>
          <a:custGeom>
            <a:avLst/>
            <a:gdLst>
              <a:gd name="textAreaLeft" fmla="*/ 76320 w 1800360"/>
              <a:gd name="textAreaRight" fmla="*/ 1724040 w 180036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600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6424" y="21600"/>
                </a:lnTo>
                <a:arcTo wR="3600" hR="3600" stAng="10800000" swAng="5400000"/>
                <a:lnTo>
                  <a:pt x="60024" y="3600"/>
                </a:lnTo>
                <a:arcTo wR="3600" hR="3600" stAng="5400000" swAng="5400000"/>
                <a:close/>
              </a:path>
            </a:pathLst>
          </a:cu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rel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333360"/>
            <a:ext cx="3456000" cy="11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. Zemunić: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Jesensko sunce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terpretacija pje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Ključni pojmovi: pjesma, vizualne i auditivne sl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260280"/>
            <a:ext cx="2987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sen u š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ljučni pojmovi: listopadna šuma, opadanje lišća, šumski plodo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5661000"/>
            <a:ext cx="305928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sen; Jesenska;  Muhara; M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ljučni pojmovi: pjesme kao tak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5516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danje i trčanje na različite načine;   Vođenje lopte nogom i rukom na različite na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822600" cy="695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908000" y="3068640"/>
            <a:ext cx="1800360" cy="165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 rot="10672200">
            <a:off x="755640" y="2780640"/>
            <a:ext cx="86688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33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1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252680" cy="2675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76500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ff"/>
                </a:solidFill>
                <a:latin typeface="Times New Roman"/>
              </a:rPr>
              <a:t>Srdačan doček i dobrodošlica djelatnice Šumarije Lipovljani: inž. Snježane Hle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105080" cy="2984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788000" y="4149720"/>
            <a:ext cx="352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a26d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26d18"/>
                </a:solidFill>
                <a:latin typeface="Arial"/>
              </a:rPr>
              <a:t>Šumarija Lipovlj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9900"/>
                </a:solidFill>
                <a:latin typeface="Arial"/>
              </a:rPr>
              <a:t>uloga šume u našem živ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ff"/>
                </a:solidFill>
                <a:latin typeface="Arial"/>
              </a:rPr>
              <a:t>biljni svijet,   jestivi i nejestivi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r-HR" sz="1800" spc="-1" strike="noStrike">
                <a:solidFill>
                  <a:srgbClr val="cc00ff"/>
                </a:solidFill>
                <a:latin typeface="Arial"/>
              </a:rPr>
              <a:t>šumski plod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6699"/>
                </a:solidFill>
                <a:latin typeface="Arial"/>
              </a:rPr>
              <a:t>životinjski svi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9900"/>
                </a:solidFill>
                <a:latin typeface="Arial"/>
              </a:rPr>
              <a:t>jesen u š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357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lijedi poučno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predavanje - razgovor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s g-đom Snježan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969840" cy="909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987640" y="333360"/>
            <a:ext cx="1081080" cy="957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 flipH="1">
            <a:off x="8172360" y="5229360"/>
            <a:ext cx="687600" cy="79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948360" y="5877000"/>
            <a:ext cx="750960" cy="635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2700360" y="1700280"/>
            <a:ext cx="1512720" cy="1439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7885080" y="3789360"/>
            <a:ext cx="865080" cy="766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71640" y="3213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RODA I DRU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476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2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981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26d18"/>
                </a:solidFill>
                <a:uFillTx/>
                <a:latin typeface="Arial"/>
              </a:rPr>
              <a:t>Dogovor o daljnjem radu i smještaj u “učionice” u prirodi – IZMJENIČNO ODJELJENSKI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50680" y="2430720"/>
            <a:ext cx="5991840" cy="3098160"/>
            <a:chOff x="1750680" y="2430720"/>
            <a:chExt cx="5991840" cy="3098160"/>
          </a:xfrm>
        </p:grpSpPr>
        <p:sp>
          <p:nvSpPr>
            <p:cNvPr id="162" name="_s11296"/>
            <p:cNvSpPr/>
            <p:nvPr/>
          </p:nvSpPr>
          <p:spPr>
            <a:xfrm>
              <a:off x="3479760" y="2517480"/>
              <a:ext cx="2246400" cy="22064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88"/>
            <p:cNvSpPr/>
            <p:nvPr/>
          </p:nvSpPr>
          <p:spPr>
            <a:xfrm>
              <a:off x="4039560" y="2430720"/>
              <a:ext cx="9698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jevanje “jesenskih” pjesa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95"/>
            <p:cNvSpPr/>
            <p:nvPr/>
          </p:nvSpPr>
          <p:spPr>
            <a:xfrm>
              <a:off x="4303440" y="3322440"/>
              <a:ext cx="2246400" cy="22064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86"/>
            <p:cNvSpPr/>
            <p:nvPr/>
          </p:nvSpPr>
          <p:spPr>
            <a:xfrm>
              <a:off x="6774480" y="4149720"/>
              <a:ext cx="9680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odanje i trčanj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ođenje lopt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99"/>
            <p:cNvSpPr/>
            <p:nvPr/>
          </p:nvSpPr>
          <p:spPr>
            <a:xfrm>
              <a:off x="2593440" y="3322440"/>
              <a:ext cx="2246400" cy="220644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1300"/>
            <p:cNvSpPr/>
            <p:nvPr/>
          </p:nvSpPr>
          <p:spPr>
            <a:xfrm>
              <a:off x="1750680" y="4223880"/>
              <a:ext cx="96804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Jesensko su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terpretacija pjes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77164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dok je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1. i 3.r.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 na nastavi 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Times New Roman"/>
              </a:rPr>
              <a:t>HRVATSKOG JEZIKA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843680" cy="5880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7843680" cy="5880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7843680" cy="5880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5440" y="19224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3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72400" cy="5826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772400" cy="5772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7772400" cy="5826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132000" y="1890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u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2. i 4.r. </a:t>
            </a:r>
            <a:r>
              <a:rPr b="1" lang="en-US" sz="1800" spc="-1" strike="noStrike" u="sng">
                <a:solidFill>
                  <a:srgbClr val="009900"/>
                </a:solidFill>
                <a:uFillTx/>
                <a:latin typeface="Times New Roman"/>
              </a:rPr>
              <a:t>je  nastava  GLAZBENE KUL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8160" cy="5290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19640" y="333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Calligraphy"/>
              </a:rPr>
              <a:t>veliki od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101080" y="47628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277120" y="5445000"/>
            <a:ext cx="866880" cy="111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277120" y="2924280"/>
            <a:ext cx="866880" cy="1114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50920" y="5445000"/>
            <a:ext cx="866520" cy="1114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50920" y="2997360"/>
            <a:ext cx="866520" cy="1114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24000" y="476280"/>
            <a:ext cx="866520" cy="1114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0920" y="1557360"/>
            <a:ext cx="2881080" cy="1152360"/>
          </a:xfrm>
          <a:prstGeom prst="wedgeRoundRectCallout">
            <a:avLst>
              <a:gd name="adj1" fmla="val 35787"/>
              <a:gd name="adj2" fmla="val 82370"/>
              <a:gd name="adj3" fmla="val 16667"/>
            </a:avLst>
          </a:prstGeom>
          <a:solidFill>
            <a:srgbClr val="ffd05b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eta Jelice, Vi ste već došli po nas a mi smo tek na odmoru?! Nećemo mi još kuć´,  lijepo nam je tu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35640" y="1484280"/>
            <a:ext cx="2305080" cy="865080"/>
          </a:xfrm>
          <a:prstGeom prst="wedgeRoundRectCallout">
            <a:avLst>
              <a:gd name="adj1" fmla="val -56953"/>
              <a:gd name="adj2" fmla="val 109634"/>
              <a:gd name="adj3" fmla="val 16667"/>
            </a:avLst>
          </a:prstGeom>
          <a:solidFill>
            <a:srgbClr val="ffd05b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bro. Ja ću vas pričekati. I meni je lijepo tu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7080" y="1890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4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627280" y="18900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nakon velikog odmora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i 4.r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ima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RVATSKI JE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777080" cy="5829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11280" y="708120"/>
            <a:ext cx="7777080" cy="5829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1280" y="692280"/>
            <a:ext cx="7848360" cy="5883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5440" y="26352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5. nastavna situ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800" y="658800"/>
            <a:ext cx="7769160" cy="5824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5800" y="658800"/>
            <a:ext cx="7769160" cy="5824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4360" y="658800"/>
            <a:ext cx="7775280" cy="5827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708360" y="18900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a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i 3.r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GLAZBENU KULT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8:33:21Z</dcterms:created>
  <dc:creator>Mileva Grgić</dc:creator>
  <dc:description/>
  <dc:language>en-US</dc:language>
  <cp:lastModifiedBy>Višnja</cp:lastModifiedBy>
  <dcterms:modified xsi:type="dcterms:W3CDTF">2009-10-21T21:09:33Z</dcterms:modified>
  <cp:revision>22</cp:revision>
  <dc:subject/>
  <dc:title>Slajd 1</dc:title>
</cp:coreProperties>
</file>