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6DD-E99E-48E8-88EE-5329A8FE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F1B-E545-46D7-B24D-0F627D7B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A04-B423-4280-8620-A4E7C4B8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B43-5CBA-42B1-BB5C-61A03E53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FBD-75D1-4FC5-8C85-D6F6CE23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7210-F94C-403A-AEB1-DE7DD5C0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8DBE-579B-4E60-9CB6-D353B7F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2B4A-E486-40D4-B400-6A85737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1A6-779D-470D-BC6D-8B9C2C5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1A42-8AD6-4350-AEAC-2E0D72A0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7B14-BDD0-4E42-946D-0BA329E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A4E-D262-452B-8AD6-4F3249E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FC7-D82F-476E-A92A-F30C210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6061-6332-424E-8721-7B17246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659-3923-4AE6-BC97-8CC0EACD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164-BFA8-4E81-992F-19B7B4CB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3A8C-B7AC-4903-B094-92F8DD98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D0F-F3DB-44A5-A1AD-AD3FF294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9BD-0D56-4306-A4C9-8E9ABBAB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F66-0398-452A-B409-89042E7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9DE-E5E8-42BB-95E4-7AC975A5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540-C3ED-4B94-9DF4-9657654D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174-3AAB-406D-AC56-3554F77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843-F292-4336-AF60-2B3FE59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600-0627-49A3-941F-17E5AB8C84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7CE-ABA4-464D-AB45-6AB92DBAFD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2392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UČENICI S GOVORNO –JEZIČNIM TEŠKOĆAMA I SPECIFIČNIM TEŠKOĆAMA U UČENJU U UVJETIMA ODGOJNO OBRAZOVNE INTEGRACIJE </a:t>
            </a:r>
            <a:br>
              <a:rPr sz="3600"/>
            </a:b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- sadržajne i metodičke posebnosti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221000"/>
            <a:ext cx="72392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Janja Ljubić, prof. defektol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arija Valjak, prof.pedag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Odjel škole POLIKLINI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Kompleksna rehabilitacija u Odjelu škole počinje 1983.g.a obuhvać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GRUPNI O-O REHABILITACIJSKI R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ilagođeni  o-o program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broj učenika u odjeljenju od 6-1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d1.-4. r. u nastavi su defektolozi a od 5.-8. r. predmetni učitelji osposobljeni za rad s ovim učenic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erbotonalni postupci za poticanje razvoja govora:stimulacije pokretom( harmonija tijela)i glazbene stimulac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NDIVIDUALNA rehabilitac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logopedska terap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izioterap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ineziterap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Govorno –glasovne  teškoće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Govorno –glasovne  teškoć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su poremećaji izgovora glasova,zamjene ili dodavanja glasova, mucanje, disfonija, nazalni izgovor,nerazumljiv izgovor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ve teškoće će imati veće posljedice na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socijalnom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emocionalnom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planu razvoja učenika jer izazivaju negativnu pažnju kod slušatelja i mogu utjecati na uspješnost komunik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adatak je učitelja da u odjeljenjima stvore ozračje tolerancije prema tim učenicima, da ukažu na potrebu dijagnostičke obrade  te kontaktom s logopedom odrede svoje zahtjeve prema nji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Jezične teškoć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Jezične teškoće uključuj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iromašan rječni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imenovanja, odnosno dosjećanja poznatih riječ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jednostavne i kratke rečen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rušenu organizaciju rečen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že usvajanje gramatičkih i pravopisnih pravil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duljeno vrijeme reakcije zbog teškoća u slušnom i kognitivnom procesuiranj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usvajanju simbola i dimenzije prostora i vremen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razumijevanju govora i pis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formiranju govornog i pismenog izraz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pecifične teškoće u učenj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isleksija, disgrafija i diskalkulija označavaju teškoće u čitanju, pisanju i računanju kod učenika urednog intelektualnog razvoja čije vještine čitanja, pisanja, i računanja nisu u skladu s općim sposobnostima učenika odnosno s razinom za tu kronološku dob.Kao dijagnoza postavljaju se u 2.-3. 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avedeni poremećaji mogu se javiti i zajed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ni dovode do teškoća u učenju koje su prisutne u svim obrazovnim i odgojnim predmetima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Teškoće u učenju koje imaju učenici s navedenim dijagnozama rezultat s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Djelomične nezrelosti funkcija koje su temelj kognitivnog funkcioniranja a to su: pažnja,vizualna i auditivno- govorna memorija,vizualno-motorička koordinacija,teškoće orijentacije u prostoru i vremen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Teškoće u području emocija i motivacije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Slaba izdržljivosti moždane aktiv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arakteristike kognitivnog funkcioniranj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sužen krug interes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ograničena poučenos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slabije razvijene sposobnosti zaključivanja,analiziranja i apstrahira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formiranju vlastitog stava prema osobama,događajima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rješavanju problemskih zadataka u kojima je potrebna pojačana mentalna aktivnost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33000"/>
            <a:ext cx="70182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3280" y="1557000"/>
            <a:ext cx="7313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Obilježja emocionalnog i psihičkog razvoja s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samostalnost, sugestibilnost, infantilnost, nesamokritičnost, razigran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gre su siromašne i jednolične,većinom pokret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tivira ih brz uspjeh inače brzo odustaju u radu,tijekom nastave se igraju sitnim predmeti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ocijalno nezreli( nema distanc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ebični, razmaženi, tvrdoglavi, nestrpljivi lakovjerni, površni u prosudbama, često neodgovorni i nerealni u ambicij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70360" y="404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hr-HR" sz="2900" spc="-1" strike="noStrike">
                <a:solidFill>
                  <a:srgbClr val="000000"/>
                </a:solidFill>
                <a:latin typeface="Verdana"/>
              </a:rPr>
              <a:t>Slabost moždanih aktivn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brzo mentalno umara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voljne koncentraci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stabilnost paž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manjena radna memor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entalna produktivnost varira u različitim satima, danima, periodu školske godine i vremenskim uvjetim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ravilnik o osnovnoškolskom odgoju i obrazovanju učenika s teškoćama u razvoj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bjavljen u Narodnim novinama broj 23/ 199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ŠTO ČINITI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zgovarati s članovima razrednog vijeć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bavijestiti stručnog suradnika koji će obaviti razgovor s roditeljima i uputiti učenika na obradu u odgovarajuću ustanovu koja će dati  preporuku o potrebnoj terapiji ili obliku školo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jčešća preporuka je individualizirani pristup uz logopedsku terapi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Kod složenijih slučajeva moguć je nastavak školovanja u specijaliziranoj ustanov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OGUĆNOSTI TERAPIJ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snovna značajka mozga je plastičnost koja je najizraženija u djetinjstv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posobnost govora , mišljenja, percepcije i usvajanja slova i brojki mogu se dulje razvijati jer su njihova kritična razdoblja za razvoj mnogo duža a za neke i doživot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uroni koji bujaju , ciljanom terapijom , učestalom vježbom i postupcima učenja preuzet će funkcije i stvarati nove sinap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spjeh je veći što terapija počne u nižoj kronološkoj dobi, stoga je velika važnost ranog otkrivanja teškoć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i pripremanju i izvođenju nastavnog sata učitelj treba uvažavati karakteristike funkcioniranja ovih učenika i dobivene preporuke za r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NASTA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treba biti: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dinamična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,s promjenama vrste i sadržaja aktivnosti i relaksirajućim pauz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aksimalno uvažava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ncip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mjerenosti i postup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 svim segmentima rada a to znači: 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jednostavnog, preglednog i kratk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(bilo da se radi o govoru ili tekstu) ka složenij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2. polisenzorike –poticanje što više osjeti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reporuke za svakodnevni rad - govorno jezične teškoć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Duže zadržavanje na pojedinim fazama rad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duže tekstove razlomiti na manje cjeline ili ih preuredi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(problem čitanja i razumijevanj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otpitanjima provjeravati razumijevanje pročitanog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nove riječi vježbati u različitim kontekstim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nepoznate riječi objasniti sinonimom ili drugim izražajnim sredstvim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ovezivanje nastavnih sadržaj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čeniku koji teško i rijetko samostalno odgovara dati mogućnost da ponovi odgovor drugog učenik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vidno obilježiti važne dijelove gradiv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korištenje mnogo vizualnih sredstava kao ilustracije sadržaja;pomoć kod pričanja i pisanja sasta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ronaći kompenzacijsku aktivnost radi sprečavanja  mogućih emocionalnih teškoć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SPITIVANJE UČEN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-  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ostupno povećavati težinu i broj zadatak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-   ispitivanje manjih dijelova gradiv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referiranje usmenog ispitivanja jer je pismen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većini teže ( osim kod govornih teškoća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ispitivati postavljanjem kratkih i jasnih pitanj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izbjegavati zadatke tipa:”ispričaj mi sve što znaš o …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d pismenog ispitivanja preferirati zadatke tipa dopunjavanja ili im dati pitanja da se pripreme unaprij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ismena pitanja kratka i jasna, koja očekuju isto takav odgovor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dati im više vremena za odgovor no drugim učenicim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d pismenog ispitivanja ne ocjenjivati greške koje su rezultat teškoće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SPECIFIČNE TEŠKOĆE U UČENJ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očene su tri osnovne skupine djece s teškoćama u čitanju, pisanju i računanj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1.   Djeca koja imaju prolazne teškoć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u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edagoški zapuštena djec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bolesna djec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čenici s puno izostajanja s nastav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sihički odsutna” djec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edovoljno zrela i s blažim poremećajem u ponašanj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čenici s prolaznim teškoćama u čitanju, pisanju i računanju trebat će više vremena za usvajanje ovih vještina nego drugim učenici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ogu imati teškoće u razumijevanju pročitanog i pronalaženju općih pravilnosti, pamćenju,organizaciji i obradi informacija i neujednačene sposob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z  stručnu pomoć logopeda i učitelja njihove teškoće će nestati tijekom prvog i drugog razr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2. Djeca koja imaju trajne teškoće u čitanju i pisanju i računanju u okviru općenito smanjenih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3. Djeca koja imaju trajne teškoće u čitanju, pisanju i računanju uz općenito dobre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isleksija, disgrafija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iskalkulij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trebna im je brza stručna pomoć i velika podrška okoline jer neuspješnost u školi pogoduje razvoju emocionalnih teškoća ( važnost kompenzacijskih aktivnost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stavljanje dijagnoze -  2./ 3. raz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4,5 % učenika savlada tehniku čitanja do kraja 1.obrazovnog razdoblj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2% savlada tehniku čitanja i pisanja do kraja 1. razred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13,4% nije uspjelo savladati tehniku čitanja i pisanja u 1. razred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( Članak “ Disleksija i disgrafija- etape prijeđenog puta”S. Jusufbegović,M. Šoštarić-Peklar,Verbotonalni razgovori Zagreb, lipanj 2001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Orijentacijska lista vrsta i stupnjeva teškoća u razvoj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očka 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oremećaj govorno –glasovne komunikacije i specifične teškoće u učenj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Poremećaj čitanja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eki simptom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teškoće u povezivanju glasova i slogova u riječ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mijenjanje riječi premještanjem ili umetanjem slogova ( vrata-trava, vino-nov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zamjena slova i slogova(do-od, pili-bil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pogađanje riječi (dobar - obad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izostavljanje i dodavanje glasova i slogova (brada- barad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brkanje redova teks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Poremećaj pisanja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ki simptom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teškoće u vezi grafem –fonem i fonološkoj obrad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zamjena oblikovno i zvučno sličnih slov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zrcalno pisanje slova i brojk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rukopis nečitak,pisanje sporo i s mnogo napora,teško slijedi pravac pisanj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izostavljanje slova,dijelova ili cijelih riječ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teškoće pri upotrebi pravopisnih pravil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izmijenjen redoslijed riječi u rečen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isanje je rezultat usklađenosti auditivnih, vizualnih, motornih i jezičnih funkcija mozga  i ako dođe do slabosti na nekoj od njih dolazi do poremećaja u pisanju s pretežnom karakteristikom te funkci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isgrafija je 2-3 puta češća od disleksije kod učenika 4.,5. i 6.razred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7960" y="738360"/>
            <a:ext cx="8128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Što činiti u nastavi ( čitanje i pisanj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poznati se s teškoćom učenika, njegovim mogućnostima i nemogućnostima i uvažavati ih u rad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užno je imati izvješće logopeda te surađivati s roditelj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ati mu povremeno da čita na glas dobro pripremljene riječi ili rješava naučene zadatk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taviti ga da sjedi bliže učitelju radi lakšeg nadzora i uputa za rad kod pismenih zadatak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smeno ga ispitiv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Za pismenu provjeru dati mu mogućnost temeljite pripreme , prilagodit mu materijal ( veći tisak i usmene  upu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pterećivati ga velikim zadaćam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reške u pisanju podcrtat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zbjegavati negativne primjedbe i usporedbe s drugom djecom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iti pažljiv i dosljedan u ispravljanju pogrešak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 razredu graditi pozitivnu i poticajnu klimu – pravo na različito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aditi s učenikom u dopunskoj nastav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cjenjivati greške proizašle iz teškoće ( disgrafij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Crte i kockice u tekama trebalo bi jače otisnu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Poremećaj računanja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je teškoća u razumijevanju i usvajanju matematičkih pojmova i operaci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loša orijentacija u prostoru i na tijelu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teškoće u formiranju pojma broj: pridruživanju, uspoređivanju, dobrojavanju i brojenj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teškoća u usvajanju matematičkih simbol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teškoće u operacijama brojevim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ema našem iskustvu terapija diskalkulija je daleko teža od disgrafije i disleksije i još uvijek ne postoji efikasan postupak rješavanja te teškoće a i stručnjaci se nisu njome dovoljno bavili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iskalkulija se najčešće zamjenjuj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dovoljnom vježbom ili lijenošću učenika pa učenik doživljavajući neuspjeh i osudu gubi motivaciju za rad i pruža otpor ( mrzi matematiku 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eškoće u usvajanju matematičkih sadržaja, isto kao čitanja i pisanja, mogu se javiti kao prolazne kod djece koja su pedagoški zapuštena ili nisu bila iz drugih razloga kvalitetno potican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Javljaju se kod učenika sniženog intelektualnog razvo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Javljaju se kao diskalkulija kod učenika dobrih općih sposobnost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jašnjenje u Glasni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640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remećajima govorno-glasovne komunikacije smatraju se oni kod kojih je zbog trajnih organskih i funkcionalnih promjena u centralnom i perifernom neuromuskulatornom sustavu komunikacija govorom otežana ili ne postoji pa je potrebno osigurati primjerene uvjete za osposobljavanje i zaštit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ni obuhvaćaju područja:glasa, govora,jezika,čitanja,pisanja i računan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pecifične teškoće u učenju su smetnje u području :čitanja ( disleksija, aleksi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isanja ( disgrafija, agrafi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računanju ( diskalkulija,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akalkuli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ku i je potrebna stručna pomoć, veliko razumijevanje učitelja i učenika a posebno roditelja. Roditeljima treba pojasniti teškoću da bi se mogli pravilno odnositi prema djetetu i zaštititi ga od okoline, jer se ovi učenici najčešće karakteriziraju kao “glupi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ku s poremećajem računanja potreban je individualizirani pristup u 1. i 2. razredu a kasnije i prilagođeni progra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ajviše se postigne radeći s učenikom individual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Nekoliko naputaka za r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diti s učenikom u dopunskoj nastavi i uključiti ga u logopedsku terapiju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nuditi učeniku različite tehnike rada a on će izabrati onu koja mu je najprimjerenij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omatrajte ga dok radi zadatak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ptimalno je vježbati nekoliko puta dnevno, kraće vrijeme i na isti nači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kazao se motivirajućim rad u paru s učenikom sličnih teškoć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treba stalnog pozitivnog potkrepljenj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1786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 višim razredima učenici s diskalkulijom imaju prilagođeni program a u računanju se mogu služiti kalkulatorom 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edmetni učitelji trebaju biti upoznati s teškoćom jer ona ima utjecaj na usvajanje gradiva geografije, povijesti, fizike i kemij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Što činiti u nastavi ( čitanje i pisanj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poznati se s teškoćom učenika, njegovim mogućnostima i nemogućnostima i uvažavati ih u rad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užno je imati izvješće logopeda te surađivati s roditelj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ati mu povremeno da čita na glas dobro pripremljene riječi ili rješava naučene zadatk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taviti ga da sjedi bliže učitelju radi lakšeg nadzora i uputa za rad kod pismenih zadatak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smeno ga ispitiv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Za pismenu provjeru dati mu mogućnost temeljite pripreme , prilagodit mu materijal ( veći tisak i usmene  upu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pterećivati ga velikim zadaćam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reške u pisanju podcrtat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zbjegavati negativne primjedbe i usporedbe s drugom djecom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iti pažljiv i dosljedan u ispravljanju pogrešak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 razredu graditi pozitivnu i poticajnu klimu – pravo na različito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aditi s učenikom u dopunskoj nastav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cjenjivati greške proizašle iz teškoće ( disgrafij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Crte i kockice u tekama trebalo bi jače otisnu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OSEBNOSTI U USVAJANJU PROGRAMA MATEMATIKE 1.r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ATEMATIKA-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Tijela u prostoru i odnosi među predmetima(veći,manji.niži,viši,dulji,krać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Učenici trebaju duže vrijeme za usvajanje riječi koje imenuju odn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6666"/>
                </a:solidFill>
                <a:latin typeface="Arial"/>
              </a:rPr>
              <a:t>Pripremni period-rješavanje zadatak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99308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čitelj treba provjeriti razumijevanje uputa:oboji,nacrtaj,precrtaj,zaokruži,rastavi,prekriži,obilježi,spoji i jezično složenijih zadataka koji zahtijevaju analitički pristup np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putno je prekriti zadatke ispod onog koji se rješav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093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tak: točke E i F spoji jednom ravnom i jednom zakrivljenom crto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tak koji učitelj čita je dugačak i treba ga postupno rješavat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rijentacijska lista vrste i stupnjeva teškoća u razvoju ne opisuje </a:t>
            </a:r>
            <a:r>
              <a:rPr b="1" lang="hr-HR" sz="2900" spc="-1" strike="noStrike">
                <a:solidFill>
                  <a:srgbClr val="000000"/>
                </a:solidFill>
                <a:latin typeface="Verdana"/>
              </a:rPr>
              <a:t>stupnjeve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ovih poremećaja pa ni </a:t>
            </a:r>
            <a:r>
              <a:rPr b="1" lang="hr-HR" sz="2900" spc="-1" strike="noStrike">
                <a:solidFill>
                  <a:srgbClr val="000000"/>
                </a:solidFill>
                <a:latin typeface="Verdana"/>
              </a:rPr>
              <a:t>optimalne oblike školovanja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za učenike kod kojih su dijagnosticiran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66"/>
                </a:solidFill>
                <a:latin typeface="Arial"/>
              </a:rPr>
              <a:t>Upoznavanje brojeva do 5,10 i2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kon obrade broja učenik bi trebao imati predodžbu broja, vizualno zahvaćati cjelinu u suprotnom će svaki puta ponovo brojiti elemente, što je znak za moguće teškoće u učen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reba pokušati vježbati slušnim putem i kretanjem u prosto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porno vježbati brojenje konkreta a uputno je najviše raditi prstima koje učenik osjeća i uvijek su mu dostup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u pravilnom izgovoru i pisanju brojevnih riječi naročito u drugoj deset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dređivanju broja ispred i iza (problem orijentacije lijevo-desn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že je odrediti broj ispred-problem brojenja unatra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teže razumijevanje dekadskih jedin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66"/>
                </a:solidFill>
                <a:latin typeface="Arial"/>
              </a:rPr>
              <a:t>Uspoređivanje broje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neuspješnost može biti posljedic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shvaćanje veličine broja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u učenju simbola veći-manji i jednako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a u orijentaciji lijevo-desno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s učenikom razgovarati o grešci da bismo otkrili gdje je probl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Verdana"/>
              </a:rPr>
              <a:t>Zadaci s uspoređivanjem zbroja i razli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 zbog loše radne memorije učenik će griješiti pa treba pomoć u postupku, tako da zapisuje rezultat iznad zadataka, pa ih zatim uspoređuje ,inače pišu kako mi se čini da bi trebalo b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3573360"/>
            <a:ext cx="7635960" cy="2256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rot="21257400">
            <a:off x="1835280" y="4076640"/>
            <a:ext cx="626760" cy="320760"/>
          </a:xfrm>
          <a:prstGeom prst="cloudCallout">
            <a:avLst>
              <a:gd name="adj1" fmla="val -96527"/>
              <a:gd name="adj2" fmla="val -2209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6666"/>
                </a:solidFill>
                <a:latin typeface="Arial"/>
              </a:rPr>
              <a:t>Rastavljanje brojeva-priprema za računan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posebno važna sposobnost za usvajanje računskih radnji pa joj treba posvetiti više vremena kroz svakodnevne kratke vježb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učenik koji ima teškoća u rastavljanju brojeva imat će ih i u savladavanju računskih radnj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potreban je ind. rad u školi i kod kuće, a roditelju treba objasniti važnost ove sposob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66"/>
                </a:solidFill>
                <a:latin typeface="Arial"/>
              </a:rPr>
              <a:t>Zbrajanje i oduzimanje do 5 i 1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diti uz konkretan materijal i sve pratiti govo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diti na jednoj ruci ako se koristi prst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o 10: dozvoliti korištenje konkreta kroz dulji peri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brojevna crta: ako učenik ima teškoća u orijentaciji lijevo –desno ona će mu privremeno pomoći u zbrajanju a,kad se obradi oduzimanje doći će do dezorijentac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r-H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Matematički izraz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pribrojnik,zbroj,umanjenik,umanjitelj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razlika- trebaju više vremena za usvajanje pa u početku treba izbjegavati zadatke tip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MJENI MJESTA PRIBROJNIKA I ZBROJ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r-H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Zamjena mjesta pribrojn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iako razumiju zakon komutacije 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oriste ga da bi olakšali računa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brajanje i oduzimanje do 2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koje učenik ima unutar prve desetice ponovit će se i u drugoj deset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tke će rješavati analogno prvoj desetici ali bez pravog razumijevan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6666"/>
                </a:solidFill>
                <a:latin typeface="Arial"/>
              </a:rPr>
              <a:t>Zbrajanje i oduzimanje preko deseti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izuzetno važna cj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-preduvjet za uspješno računanje je da zna rastaviti broj(do 10) na dva pribrojnika i riješi nepoznanicu za što je potrebna dobra radna memorija i koncentraci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čeniku s teškoćom u računanju treba ponuditi drugi način: rad prstima dobrojavanjem do 10 i dalje ili pamćenjem prvog pribrojnika i dobrojavanjem drugo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ili rad na brojevnoj cr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4010040"/>
            <a:ext cx="8488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LIKLINIKA SUVA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Dijagnostička obrad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logoped dijagnostič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OR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psiholog dijagnostič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 potrebi: neurolog, pedijatar,fizijatar,psihijata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Timska preporuka:individualna rehabilitacija, kompleksna rehabilitacija u predškolskom ili školskom odjel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47640" y="763560"/>
            <a:ext cx="64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sti problem se javlja kod oduzimanj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bzirom da teško broje unatrag možemo ih uputiti da broje od manjeg prema većem broj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( umjesto 16-9, broji od 9 do 1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Veza zbrajanja i oduziman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zumiju vezu zbrajanja i oduzimanj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li ju ne primjenjuju u zadacima tip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4+?=6 vjerojatno će napisati 4+10=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?+2=6 vjerojatno će napisati 8+2=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0-?=4 riješit će točn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?-2=2  vjerojatno će napisati 0-2=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 provjeravaju rezultat, na upozorenje usredotočit će se na zadatak i pronaći grešk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daci riječi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zadaci trebaju biti prilagođeni sposobnostima govornog izražavanja i razumije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Moguće teškoće u SAMOSTALNOM RJEŠAVANJU zadataka riječim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poro čita i ne razumije zadat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očita,razumije i napiše samo rezult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očita ,postavi zadatak i izračuna ali ne zna formulirati odgov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 početku zadavati jednostavne zadatke tip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Tin je imao 10 bombona,pojeo je 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bombona.Koliko mu je ostalo bom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bon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primjeren zadata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Na grani je bilo 15 vrapčića.Sedam 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je odletjelo a pet doletjelo.Koliko ih 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sada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OSEBNOSTI U USVAJANJU PROGRAMA MATEMATIKE 2.r.</a:t>
            </a:r>
            <a:br>
              <a:rPr sz="3200"/>
            </a:b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Brojevi do 10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7119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moguće teškoće u pravilnom izgovoru i pisanju brojevnih riječ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teže pronalaženje zadanog broja na brojevnoj cr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teže određivanje broja ispred desetice (29,39...) i iza 9 (69,4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omoć ćemo im velikom brojevnom crtom s vidljivo označenim desetic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Uspoređivanje broje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ako je učenik usvojio uspoređivanje brojeva do 20, uspješno će uspoređivati i brojeve do 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moguće su greške u uspoređivanju brojeva koji se pišu istim znamenkama npr: 34   4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primjeren zadata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Razliku brojeva 17 i 13 uvećaj za najveći jednoznamenkasti broj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atematički diktati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vaj tip zadataka mogu raditi uspješno uz značajno produljeno vrije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brajanje i oduzimanje do 1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k koji nije u potpunost usvoj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brajanje i oduzimanje do 20 teže će i sporije usvajati i ovo gradivo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koje su imali u zadacima do 20 s prijelazom preko desetice imat će i u zadacima tipa 56+8= i rješavat će ih dobrojavanjem ili uz pomoć brojevne cr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Dijagnostika ( logoped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 skladu s međunarodnom klasifikacijom bolesti i srodnih zdravstvenih proble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 Nedovoljno razvijen govor ( od 6.g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 Poremećaj sposobnosti jezičnog  izraža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 Poremećaj razumije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4. Dizartr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. Specifični razvojni poremećaj izgov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lijedeća veća teškoća će biti ko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brajanja dvoznamenkastih brojev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 prijelazom preko desetice 36+28=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ko ne uspijeva točno računa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džbenikom predviđenim metodički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stupkom, upućujemo ga na postup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ismenog zbrajanja 25    2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+24  +3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---------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sto vrijedi za oduziman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noženje i dijeljenje broje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nože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čenici shvaćaju da je množenje zbrajanje istih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ibrojnika i ako znaju dobro zbrajati mogu uspješ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ješavati zadatke množe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Većina ih nauči množenje brojevima 2,5 i 10.Cijel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ablicu množenja usvajaju duže vrijeme,a neki učen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maju izrazite teškoće u trajnom zapamćivanju tabli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nože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kim učenicima pri samostalnom rješavanju zadataka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žemo dopustiti služenje tablicom množe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eljenj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usvajaju teže od množenja i treba im još više vremena i pomoć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atematički izraz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ci teže čitaju, izgovaraju i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svajaju nove matematičke izraz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aktori,umnožak,djeljenik,djelitelj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oličnik,višekratnik, pa im to otežav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razumijevanje i rješavanje zadatak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ipa:NAPIŠI VIŠEKRATNIKE BROJA 6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VEĆE OD 12, MANJE OD 6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Redoslijed izvođenja više računskih radnj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ci griješe u primjeni naučeno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avila pogotovo ako nema zagra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28+5x7-14= i zadatke tog tipa n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vati u ispitima znanj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daci riječi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imjer teškog zadatka kojeg učenik može riješiti samo uz vođenje učitelja: JEDAN KAMION JE DOVEZAO 26 VREĆA BRAŠNA A DRUGI 17 VREĆA BRAŠNA VIŠE NEGO PRVI.KOLIKO SU VREĆA BRAŠNA OBA KAMIONA DOVEZL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JEDN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104043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OSEBNOSTI U USVAJANJU PROGRAMA HRVATSKOG JEZIKA-1.razred- početno čitanje i pisan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važno je ustanoviti razvijenost fonematskog sluha- stanje slušne analize i sinteze te vizualno zahvaćanje cjel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ako je fonematski sluh nerazvijen učenik će imati teškoća u pisanju i čitan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potrebno je s njim ind. vježbati na slijedeći nač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Upute za dopunsku nastavu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1. Vježbe za slušno i vizualno zapažanje manjih govornih i pisanih cj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  Učitelj glasno izgovori dvočlan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  Učenik ponov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  Učenik pomoću prsta pokuša odrediti broj glasov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dređuje koji su to glasov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 slovarici pronađe slova i slož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Čita slog, sam ili uz pomoć učitelj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čitelj prekrije složen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čenik prema sjećanju napiše slog u bilježnicu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čenik opet pročita složeni slo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od učenika koji nemaju asocijaciju glas – slovo, analizu i sintezu, vježbat ćemo slušnim putem i postepeno dodavati slov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ad učenik piše, dobro je da istovremeno izgovara taj gl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ažno je vježbu za fonematski sluh početi glasovima koji se mogu produljiti u vreme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stepeno dodavati iste vokale a zatim ih mijenjati radi vježbe vizualne percepcije, prvo u slogu a zatim jednostavnoj dvosložnoj riječ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pr: MAMA,MAMI,MEMO,MIMA a zatim dodavati druge suglasni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AŠA,MARA,MIRA,M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Rastavljanje rečenica na riječ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hr-HR" sz="2900" spc="-1" strike="noStrike">
                <a:solidFill>
                  <a:srgbClr val="000000"/>
                </a:solidFill>
                <a:latin typeface="Verdana"/>
              </a:rPr>
              <a:t>Zbog loše radne memorije treba zadavati kratke rečenice sastavljene od poznatih riječ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6. Poremećaj gla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7. Muc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8. Sindrom brzoplet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9. Afaz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0. Miješani poremećaj jezičnog razumijevanja i izraža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1. Specijalni poremećaj čitanja,računanja i pis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2. Specijalni poremećaj vještine uče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( nespecificiran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vladavanje glasova i sl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lakše će pronalaziti glas u inicijalnoj poziciji a teže u ostal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ogu imati teškoće u stvaranju veze grafem- fon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ježbati tako da pišući slovo istovremeno govori gl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BRADA SLOVA-prije pisanja u pisanku uvježbati motoričku sliku slova pišući zrakom a zatim na velikom papi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a učenika s teškoćama bilo bi lakš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a prvo usvoji 10-12 velikih tiskanih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lova a zatim početi s obradom  malih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iskanih slova ili bar tražiti da ih n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ju dok nisu usvojili osnovnu tehniku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nja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ala slova pisati samo pri obrad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ježbati njihovo prepoznavanje i čitanje slaganjem u slovaric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četno čitan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vježba kao u pripremnom razdobl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čitanje sloga tako da povezujemo glasove radeći luk iznad ili ispod njeg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kod dvosložnih riječi možemo prekriti drugi slo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išekratno ponavljanje slogova i riječi na isti nač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nje kratkih rečenica od poznatih i uvježbanih riječi(ne inzistirati na tekstovima iz početnic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četno pisanje tiskanih sl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oguće su teškoće u pisanju slov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bog loše grafomotorike i vizualne percepcije a mogu se uočiti ka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greške u smještaju slova u prostor bilježnice, kod pisanja i prepisivanja s ploč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IKTATE od poznatih riječi na nivou razvoja slušne analize, poželjno je raditi na dopunskoj nastavi, a u razredu učeniku dati da prepisuje riječi.Neki su učenici neuspješni u pisanju diktata zbog loše radne memori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četno pisanje pisanih sl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BRADA SLOVA- isto kao kod velikih uz više vježb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-najčešće greške su kod povezivanja slova jer pišu slovo po slovo a ne planiraju unaprijed( spajanje v+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d pisanja u crtovlje slova koja idu kroz dva i tri reda ,posebno malih slov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d prepisivanja s ploče niza riječi ili rečenica učenik se može izgubiti u tekstu jer preslikava najčešće riječ po riječ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ZADAĆA:svakodnevno pisanje obrađenih slova((manje, ali češć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KTATI pisanim slovima kad dobro ovladaju slušnom analizom i tehnikom pisan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Jezik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2.Izgovor glasova i pisanje slo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Neki učenici nemaju urednu artikulaciju nekog glasa ili ga uopće nemaju ili ga zamjenjuju drugim glasom. Ako im je greška osviještena oni će dobro pisati a ako nije, grešku izgovora prenosit će u pisanju(potrebna logo terapija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d teškoća u centralnom slušanju uz glas vežu drugo slov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3.Rečen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arakteristike su:siromašna rečenica s agramatizmima i narušenim redom riječi, posebno vidljivo u pisanju(ŠTO JE IVAN RADIO?IVAN JE RADIO UČIO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4.Veliko početno slovo- nauče pravilo ali im trema dugo da dođu do automatizacije, posebno u svakodnevnom pisanju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.Interpunkcija:određivanje u deformiranom tekstu s mnogo grešak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6.Jezično izražavanje:postoji teškoća u razumijevanju verbalnih poruka. Bez obzira na bogatiji spontani izraz, odgovori na pitanja su najkraći mogući.Učitelj treba inzistirati na odgovoru- kraćoj rečenic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i oblikovanje pitanja na tekst, trebaju pomo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d vježbi sastavljanja rečenica od zadanih riječi treba im zadati poznate riječi za sastavljanje tročlanih rečenica, bez kratkih riječi kao što su veznici,prijedlozi…Np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BU,NA,OBLAK,JE rješenje će možda biti NEBO JE NA OBLAK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opunjavanje rečenica:izbjegavati zadatke u kojima treba dopuniti prvu riječ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ipovijedanje je posebno težak oblik vježbe jer je vezano uz percepciju vremena i vremenskog slijeda događanja.Učenika je potrebno u pripovijedanje uvesti slijedom pitanja te slikom ili nizom slika. Neuspješni su pripovijedanju vlastitog iskustva i zamišljanj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Čitanje: učeniku zadavati tekstove na razini njegovih čitalačkih sposobnosti.Izbjegavati tekstove s dugačkim rečenicama,dugačkim i rijetko rabljenim riječima.Ne inzistirati na pravilnoj intonaciji dok ne čita s lakoćo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Brzinu čitanja ispitati na dopunskoj nastav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isanje:učenici s govorno jezičnim teškoćama imaju problem prenošenja govorne poruke u pisanu.Pisani izraz je puno siromašniji i netočniji od govornog.Griješe posebno u redoslijedu riječi i sintaks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Dijagnostika  ( psiholog 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ntelektualne sposob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otorički i psihomotorni razvoj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izuomotorna percep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izualno i auditivno zapamćiv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Lateraliza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nje i pis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zina razvoja gov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naliza ponašanja tijekom ispiti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Hrvatski jezik, 2.razred</a:t>
            </a:r>
            <a:br>
              <a:rPr sz="3200"/>
            </a:b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Jezi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Imenice: učenici će razlikovati  imenice od drugih vrsta riječi u govornoj i pisanoj formi ako su im dobro poznate i koriste ih u svakodnevnom govoru( inače pogađaju).Potrebno je vježbanje postavljanjem pitanja TKO?ŠTO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 Veliko početno slovo: teškoće u uporabi pravila.Npr: Ulica Ljudevita Posavsko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laška U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Jezično izražavan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Slušanje i govorenje: postupno davati složenija pitanja i tražiti dulje odgov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Pripovijedanje:nisu uspješni u samostalnom pripovijedanju, potrebno im je vođenje pitanjima i potpitanjima ili slikom i nizom slik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Opisivanje:nedovoljno je dati plan opisivanja jer ga ne razumiju.Treba im dati kratka pitanja na koja će odgovoriti a nizanje odgovora činit će kratak opi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4.Obavijest:teško razlučuju bitno od nebitnog pa ih je potrebno voditi u formuliranju obavijest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.Izvješćivanje: obzirom da teže slijede kronološki red zbivanja treba ih voditi pitanj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7. Izražajno čitanje možemo tražiti od učenika koji su dobro usvojili tehniku čitanja i nemaju teškoće u razumijevan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eks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8.Pisanje čestitki i razglednica: bitno je dati im uzorak te vježbati smještaj teksta na običnom papir formata razgledni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9.Stvaralačko pisanje-sastavak je najteži oblik pismenog izražavanja.Bez obzira na dobru usmenu pripremu sastavci su im oskudni,zbrkani i puni grešaka.Često, suočeni sa zadatkom ,odmah odustaj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reške treba ispraviti zajedno s učenikom. Sastav treba ponovo prepisa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čenika treba pohvaliti za ono što je dobro napravi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10.Pravopisne norme:usvajanje je proc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njiževno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Dijelove pjesme uočavaju samo im je teži pojam pjesničke slike. Pjesme su pogodne za vježbe čitanj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Redoslijed događanja u priči: teže zamjećuju uzročno posljedičnu i vremensku povezanost događaja.Pomaže im ilustracija teks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Glavni i sporedni likovi:imaju siromašan rječnik kojim se opisuju karakteristike likova, posebno etičke.Brzo uočavaju pozitivne i negativne osobine likova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5.Bajke i igrokazi i razne dramatizacije učenici rado izvode a tekstove praćene pokretom i scenskom igrom mnogo brže pamte.Poželjni su i radi poticanja sigurnosti u govor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orijske pojmove iz književnosti i medijske kulture učenici vremenom usvo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6.Lektira:u 1. r. preporučujemo da se čita u ško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.r. učeniku s teškoćama čitanja i razumijevanja treba stalna pomoć roditelja .Obzirom da je uloga lektire da učenik zavoli čitanje ,davat ćemo mu tekst, odnosno dio primjerenog teksta da proč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putno je iskoristiti dječje časopise za izbor prigodnih teksto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Čitanje s razumijevanj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imjer teže razumljivog teksta(dio teksta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Zimi, kad je bio dubok snijeg,morao je siromaš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dječak izaći te donesti drva na sanjkama.Kad ih j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kupio i utovario,a budući da mu je bilo hladno,nije još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htio ići kući,nego je htio naložiti vatru i malo 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ugrijat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ilagodba teksta: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Zima je.Snijeg je dubok.Siromaš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dječak je morao izaći i donesti drva na sanjk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kupio ih je i utovario.Bilo mu je hladno.Nije još hti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ći kući.Htio je naložiti vatru i malo se ugrijati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a tako prilagođen tekst možemo postaviti niz kratkih pitanj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KOMPENZACIJSKE AKTIVNOSTI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UČENIK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a bismo spriječili pojavu emocionalnih teškoća učenika o kojima govorimo, uputno je otkriti područja u kojima postižu dobre ili zapažene rezultate.Pozitivan efekt uspjeha u tim aktivnostima pridonijet će emocionalnoj ravnoteži pa time i motivaciji za savladavanje težih područj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jčešće kompenzacijske aktivnosti s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likanje, pjevanje, gluma , ples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KLJUČA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Sve do sada spomenute teškoće mogu se javiti zajedn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Što ih ranije prepoznamo i počnemo stručno tretirati uspjeh terapije će biti već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Svaki učenik s teškoćom funkcionira na sebi svojstven način i zato ga treba promatrati dok radi zadatak. Tako ćemo brže pronaći optimalan način smanjenja  ili rješavanja teškoć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O njihovom poznavanju, stručnom tretmanu i pravilnom odnosu škole i roditelja prema učeniku ovisi kvaliteta učenikova života i njegovo napredovanj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6:39:23Z</dcterms:created>
  <dc:creator>maca</dc:creator>
  <dc:description/>
  <dc:language>en-US</dc:language>
  <cp:lastModifiedBy>Krešo</cp:lastModifiedBy>
  <dcterms:modified xsi:type="dcterms:W3CDTF">2008-09-29T10:42:24Z</dcterms:modified>
  <cp:revision>276</cp:revision>
  <dc:subject/>
  <dc:title>Pravilnik o osnovnoškolskom odgoju i obrazovanju učenika s teškoćama u razvoju</dc:title>
</cp:coreProperties>
</file>