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B2BC-5122-4172-8936-3C4B669EE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C9CF-DBC9-4A53-BE46-BA49A835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D3DF-86E7-4C69-953D-8D286C00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BBDE-A15D-4AA1-A24A-009EDDF6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9432-8876-48F0-8592-89261266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0FDA-B7A4-4899-AC06-4D5575B4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D339-BB31-4773-9661-73867985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663D-A7C2-4B4A-A57A-17EC5B31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8FEA-98AB-4893-A291-26A3A26C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CB9E-4655-4788-8D39-41728C3C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3D9F-539E-4EBD-B1CA-826C4849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B139-E0AB-4959-8A8C-8BCA8869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2A96-CA79-4245-95DF-6CA9BAD4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0016-3DD7-4A1E-ACA1-FCE2550E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4968-4338-4FD4-99DD-CDCB5FC5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AF4A-B3A2-446C-9E17-1A1CD8D0B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D6CF-3845-4EDF-AD2A-AD5AEEA26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4691-42FF-4DDC-A1F1-D188ABB9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1F8A-2579-4CDB-A69E-566F1C8F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4C20-FE9E-4BC9-AB74-7C7A78E1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8AFA-1E5C-4DD7-8103-AD7F32C5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CDB8-C418-4A6D-832B-05DDA83C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8E86-18CC-4E49-BA75-94493E90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7E5F-ED89-4989-B1EB-63CFDF3D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6369-5768-4DAB-9ADD-E8C17876D7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FC7A-6535-42AC-861F-86585B603A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Etno – eko selo Stara Kap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elo Stara Kapela nalazi se u Brodsko – posavskoj županiji, u blizini granice s Požeško – slavonskom županijom, na obroncima Požeške go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elo ima dvadesetak, uglavnom starijih stanovnika, a entuzijazmom lokalnog liječnika dr. Antuna Tucića koji je krenuo od uređenja obiteljskog gospodarstva selo je poprimilo potpuno novi izgled. Stara Kapela je prvo eko – etno selo u Brodsko – posavskoj županij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2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elo</a:t>
            </a:r>
            <a:br>
              <a:rPr sz="2400"/>
            </a:b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Kroz cijelo selo je postavljena rasvjeta – na struju i fenjeri, a na svakom stupu urezani su stihovi naših pjesnik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547640" y="1628640"/>
            <a:ext cx="5257800" cy="3943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835280" y="1773360"/>
            <a:ext cx="5119560" cy="3840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195640" y="2060640"/>
            <a:ext cx="5040360" cy="3779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4067280" y="2492280"/>
            <a:ext cx="4254480" cy="3191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1187280" y="3068640"/>
            <a:ext cx="4464360" cy="334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2627280" y="2349360"/>
            <a:ext cx="4535640" cy="3402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3780000" y="1700280"/>
            <a:ext cx="35827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87280" y="1557360"/>
            <a:ext cx="6350040" cy="4762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771640" y="1628640"/>
            <a:ext cx="3392640" cy="4525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Obiteljska kuća dr. Tucić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403280" y="1484280"/>
            <a:ext cx="6034320" cy="4525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835280" y="1484280"/>
            <a:ext cx="6350040" cy="4762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1547640" y="1700280"/>
            <a:ext cx="3703680" cy="4940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1692360" y="1773360"/>
            <a:ext cx="6350040" cy="4762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3059280" y="2349360"/>
            <a:ext cx="504000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27440" y="-360"/>
            <a:ext cx="63165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Dvoriš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476360" y="692280"/>
            <a:ext cx="5040360" cy="3779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692360" y="907920"/>
            <a:ext cx="5184720" cy="3889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908000" y="1197000"/>
            <a:ext cx="5904000" cy="4429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2124000" y="1413000"/>
            <a:ext cx="6050160" cy="4537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042920" y="981000"/>
            <a:ext cx="3729240" cy="4969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3708360" y="1700280"/>
            <a:ext cx="4753080" cy="3565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3924360" y="2637000"/>
            <a:ext cx="5040360" cy="3781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1187280" y="1268280"/>
            <a:ext cx="63374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631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ogledajte u što je pretvoren stari štagalj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6350040" cy="4762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042920" y="1484280"/>
            <a:ext cx="6350040" cy="4762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979640" y="1844640"/>
            <a:ext cx="6350040" cy="4318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2340000" y="2205000"/>
            <a:ext cx="5113440" cy="3835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2843280" y="2133720"/>
            <a:ext cx="5119560" cy="3840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3419640" y="3284640"/>
            <a:ext cx="4105080" cy="3079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5508720" y="2276640"/>
            <a:ext cx="31827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30T19:26:24Z</dcterms:created>
  <dc:creator>Prosvjetari</dc:creator>
  <dc:description/>
  <dc:language>en-US</dc:language>
  <cp:lastModifiedBy>Krešo</cp:lastModifiedBy>
  <dcterms:modified xsi:type="dcterms:W3CDTF">2008-06-30T21:20:56Z</dcterms:modified>
  <cp:revision>2</cp:revision>
  <dc:subject/>
  <dc:title>Etno – eko selo Stara Kapela</dc:title>
</cp:coreProperties>
</file>