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5.png" ContentType="image/png"/>
  <Override PartName="/ppt/media/arrow.wav" ContentType="audio/x-wav"/>
  <Override PartName="/ppt/media/image1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894-A922-4000-86B2-B442D96B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403-CB99-46E1-97CC-F7F71A00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75B-056E-4300-8563-2E7AA6A8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B53-4728-4E6F-8AB2-74063EDB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A42-FED1-47E5-BE2C-49770F58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04B-9C6C-4CEC-A8F8-B811E2AF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670-03E4-4183-AD6F-E43BD1CD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ECD-4FD6-439D-B210-705E310C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AAA-F9F8-42D4-8BC5-3CD6EE64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ACD-34CD-445E-81CA-2ADE4260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E7B-9A5B-4973-B35B-8F30D8CB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36F-C797-4D77-B639-04C5E836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2523"/>
            </a:gs>
            <a:gs pos="100000">
              <a:srgbClr val="8c3d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8893-3C9A-4B14-A5ED-F054CAB5011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7200" spc="-1" strike="noStrike">
                <a:solidFill>
                  <a:srgbClr val="000000"/>
                </a:solidFill>
                <a:latin typeface="Snap ITC"/>
              </a:rPr>
              <a:t>DUD - MURV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600" y="199980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doni MT"/>
                <a:ea typeface="Arial Unicode MS"/>
              </a:rPr>
              <a:t>Osnovna škola “ Ivan Mažuranić” , Sibin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428840" y="364320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Županijski kviz “Lijepa naša” ,                      Okučani , 13. veljače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5-Point Star 4"/>
          <p:cNvSpPr/>
          <p:nvPr/>
        </p:nvSpPr>
        <p:spPr>
          <a:xfrm>
            <a:off x="1285920" y="3714840"/>
            <a:ext cx="21420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-Point Star 5"/>
          <p:cNvSpPr/>
          <p:nvPr/>
        </p:nvSpPr>
        <p:spPr>
          <a:xfrm>
            <a:off x="7143840" y="4429080"/>
            <a:ext cx="21420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Diagram 6" descr=""/>
          <p:cNvPicPr/>
          <p:nvPr/>
        </p:nvPicPr>
        <p:blipFill>
          <a:blip r:embed="rId1"/>
          <a:stretch/>
        </p:blipFill>
        <p:spPr>
          <a:xfrm>
            <a:off x="133200" y="353880"/>
            <a:ext cx="901728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85840" y="500040"/>
            <a:ext cx="84294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lod je bogat vitaminom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adrži slobodne organske kiseline, karotin, pektin, šećer, sluz, gume i smol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narodnoj medicini sirup od ploda crnog duda koristi se kod visoke temperature  te za regulaciju stol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lod bijelog duda u kombinaciji s plodom trešnje, kao sirup, pomaže kod upale krajnika, želučanih problema i  grozn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d lista i kore prave se ljekoviti čajevi koji pomažu liječenju upale grla i mokraćnih putova, kao i kod šećerne bole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Snap ITC"/>
              </a:rPr>
              <a:t>Uradili 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755640" y="981000"/>
            <a:ext cx="759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učili smo potrebnu literaturu o načinu sadnje d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vjetovali smo se sa stručnjacima iz Poljoprivredne škole i Savjetodavne službe za voćarstvo Brodsko – posavske župa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z pomoć učitelja i nastavnika organizirali smo sudjelovanje velikog broja učenika u sadnji sad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akoj sadnici dali smo ime kako bismo ih približili učeni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učavali smo kako se trebamo brinuti o zasađenim biljkama i koje su mogućnosti njihove iskoristiv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govarali smo s bakama o njihovom sjećanju na uzgoj dudova, dudovog svilca i proizvodnju sv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300_0058.JPG"/>
          <p:cNvPicPr/>
          <p:nvPr/>
        </p:nvPicPr>
        <p:blipFill>
          <a:blip r:embed="rId1"/>
          <a:stretch/>
        </p:blipFill>
        <p:spPr>
          <a:xfrm>
            <a:off x="1428840" y="428760"/>
            <a:ext cx="6072120" cy="4554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2214720" y="54291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djela u radne skupine i planiranje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300_0085.JPG"/>
          <p:cNvPicPr/>
          <p:nvPr/>
        </p:nvPicPr>
        <p:blipFill>
          <a:blip r:embed="rId1"/>
          <a:stretch/>
        </p:blipFill>
        <p:spPr>
          <a:xfrm>
            <a:off x="1857240" y="500040"/>
            <a:ext cx="5643720" cy="4232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428840" y="507204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panje rupa za sad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300_0074.JPG"/>
          <p:cNvPicPr/>
          <p:nvPr/>
        </p:nvPicPr>
        <p:blipFill>
          <a:blip r:embed="rId1"/>
          <a:stretch/>
        </p:blipFill>
        <p:spPr>
          <a:xfrm>
            <a:off x="714240" y="42876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6215040" y="928800"/>
            <a:ext cx="22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prezno spuštanje sadnica u rup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 naravno, uz pomoć odrasli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300_0081.JPG"/>
          <p:cNvPicPr/>
          <p:nvPr/>
        </p:nvPicPr>
        <p:blipFill>
          <a:blip r:embed="rId1"/>
          <a:stretch/>
        </p:blipFill>
        <p:spPr>
          <a:xfrm rot="5937000">
            <a:off x="2516400" y="1492920"/>
            <a:ext cx="5202000" cy="390204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285840" y="21430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grtanje mlade sad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PA230157.JPG"/>
          <p:cNvPicPr/>
          <p:nvPr/>
        </p:nvPicPr>
        <p:blipFill>
          <a:blip r:embed="rId1"/>
          <a:stretch/>
        </p:blipFill>
        <p:spPr>
          <a:xfrm rot="20596800">
            <a:off x="928440" y="49968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5786280" y="1714680"/>
            <a:ext cx="271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tovremeno se sadilo drveće i u područnim škol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vo su prvi napori kopanja ru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PA230168.JPG"/>
          <p:cNvPicPr/>
          <p:nvPr/>
        </p:nvPicPr>
        <p:blipFill>
          <a:blip r:embed="rId1"/>
          <a:stretch/>
        </p:blipFill>
        <p:spPr>
          <a:xfrm rot="2757600">
            <a:off x="2967480" y="1354320"/>
            <a:ext cx="5529240" cy="4146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214200" y="47862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 ovo je završna fa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lijevanja sad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B120208.JPG"/>
          <p:cNvPicPr/>
          <p:nvPr/>
        </p:nvPicPr>
        <p:blipFill>
          <a:blip r:embed="rId1"/>
          <a:stretch/>
        </p:blipFill>
        <p:spPr>
          <a:xfrm rot="1217400">
            <a:off x="4021200" y="669600"/>
            <a:ext cx="4394160" cy="2967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PB120206.JPG"/>
          <p:cNvPicPr/>
          <p:nvPr/>
        </p:nvPicPr>
        <p:blipFill>
          <a:blip r:embed="rId2"/>
          <a:stretch/>
        </p:blipFill>
        <p:spPr>
          <a:xfrm rot="1193400">
            <a:off x="3619080" y="3346560"/>
            <a:ext cx="4189320" cy="2695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PB110202.JPG"/>
          <p:cNvPicPr/>
          <p:nvPr/>
        </p:nvPicPr>
        <p:blipFill>
          <a:blip r:embed="rId3"/>
          <a:stretch/>
        </p:blipFill>
        <p:spPr>
          <a:xfrm rot="1427400">
            <a:off x="814320" y="1212840"/>
            <a:ext cx="4194360" cy="3146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PB110201.JPG"/>
          <p:cNvPicPr/>
          <p:nvPr/>
        </p:nvPicPr>
        <p:blipFill>
          <a:blip r:embed="rId4"/>
          <a:stretch/>
        </p:blipFill>
        <p:spPr>
          <a:xfrm rot="1376400">
            <a:off x="37800" y="4181400"/>
            <a:ext cx="4763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Snap ITC"/>
              </a:rPr>
              <a:t>Istražili 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Naziv biljk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Porijek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Rasprostranjeno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Opis stabla, lista i ploda du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Povoljno tlo na kojem uspijev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Način uzgo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Uporabu list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Uporabu plo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Uporabu stabl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Ljekovita svojstv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rni dud 2.jpg"/>
          <p:cNvPicPr/>
          <p:nvPr/>
        </p:nvPicPr>
        <p:blipFill>
          <a:blip r:embed="rId1"/>
          <a:stretch/>
        </p:blipFill>
        <p:spPr>
          <a:xfrm>
            <a:off x="5292720" y="3613320"/>
            <a:ext cx="3637080" cy="2727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5214960" y="635796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lod crnog d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979640" y="1700280"/>
            <a:ext cx="24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otografije s ba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v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u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Snap ITC"/>
              </a:rPr>
              <a:t>Predlaž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lansku sadnju novih sadnica duda u školskom vr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ipremanje lišća za izradu č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zgoj dudovog svilca ,ali isključivo na human i ekološki nač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navljanje znanja o izradi svilenih vlakana i njihovoj praktičnoj upora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rad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udovog plod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 pripremanje marmelade, džema, vina, rakije (dudove bačve), sušenje plo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ok od duda – tri litre ploda duda lagano se miješa s dvije litre vode i doda 30 grama vinske kiseline. Pusti se da odstoji 24 sata, tada se procijedi i kuha sa šećerom (odnos soka i šećera 1: 1). Pusti se lagano kuhati i skida se pjena s površine. Kada je kuhano, ulije se u boce i dobro zatvo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ezentaciju izradi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vana Milković, 5.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rinela Galetić, 7.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tarina Zirdum, 7.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ntonela Kovačević, 8.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ntorice: Dunja Ujvary Cse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ntonija Mačin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554040" y="493560"/>
            <a:ext cx="829152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thumb_huge.jpeg"/>
          <p:cNvPicPr/>
          <p:nvPr/>
        </p:nvPicPr>
        <p:blipFill>
          <a:blip r:embed="rId1"/>
          <a:stretch/>
        </p:blipFill>
        <p:spPr>
          <a:xfrm>
            <a:off x="285840" y="285840"/>
            <a:ext cx="5929200" cy="5929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6500880" y="214200"/>
            <a:ext cx="228600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9 – 20 m</a:t>
            </a:r>
            <a:br>
              <a:rPr sz="2100"/>
            </a:b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Otporno</a:t>
            </a:r>
            <a:br>
              <a:rPr sz="2100"/>
            </a:b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Grmoliko</a:t>
            </a:r>
            <a:br>
              <a:rPr sz="2100"/>
            </a:b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Dugovječno</a:t>
            </a:r>
            <a:br>
              <a:rPr sz="2100"/>
            </a:b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Okruglasta krošnja</a:t>
            </a:r>
            <a:br>
              <a:rPr sz="2100"/>
            </a:b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Bijeli viši od crnog</a:t>
            </a:r>
            <a:br>
              <a:rPr sz="2100"/>
            </a:b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Tradicija: murva u sredini dvorišta, a ispod nje klup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000080" y="628668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Stablo duda s krošnj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ntonija\Desktop\Murvica\putwatermark.jpeg"/>
          <p:cNvPicPr/>
          <p:nvPr/>
        </p:nvPicPr>
        <p:blipFill>
          <a:blip r:embed="rId1"/>
          <a:stretch/>
        </p:blipFill>
        <p:spPr>
          <a:xfrm>
            <a:off x="357120" y="357120"/>
            <a:ext cx="4857840" cy="6184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580000" y="260280"/>
            <a:ext cx="29289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rcoliki nazubljeni list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ugi 6 – 14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Široki 4 – 1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Uzduž žila posuti dlačic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Gornja strana svijetlo zelena, a donja zelenkastos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eteljka duga 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alene razlike u izgledu lista primjetne su s obzirom na vrstu d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10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crni dud.jpg"/>
          <p:cNvPicPr/>
          <p:nvPr/>
        </p:nvPicPr>
        <p:blipFill>
          <a:blip r:embed="rId1"/>
          <a:stretch/>
        </p:blipFill>
        <p:spPr>
          <a:xfrm>
            <a:off x="4127400" y="341280"/>
            <a:ext cx="4602240" cy="2316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4284720" y="27082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Bijeli dud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Morus alba) – plodovi su bijeli do bijelo žute, povremeno ružičaste bo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Crni dud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Morus nigra)  – plodovi su tamno ljubičasti ili crn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Crveni dud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Morus rubra) – sličan je crnom dudu, s tim da su plodovi u zreloj fazi crve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Documents and Settings\Antonija\Desktop\Murvica\crni dud 3.jpg"/>
          <p:cNvPicPr/>
          <p:nvPr/>
        </p:nvPicPr>
        <p:blipFill>
          <a:blip r:embed="rId2"/>
          <a:stretch/>
        </p:blipFill>
        <p:spPr>
          <a:xfrm>
            <a:off x="357120" y="4500720"/>
            <a:ext cx="394200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Antonija\Desktop\Murvica\show1.jpeg"/>
          <p:cNvPicPr/>
          <p:nvPr/>
        </p:nvPicPr>
        <p:blipFill>
          <a:blip r:embed="rId3"/>
          <a:stretch/>
        </p:blipFill>
        <p:spPr>
          <a:xfrm>
            <a:off x="1000080" y="785880"/>
            <a:ext cx="2306520" cy="33973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0"/>
          <p:cNvSpPr/>
          <p:nvPr/>
        </p:nvSpPr>
        <p:spPr>
          <a:xfrm>
            <a:off x="285840" y="628668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lodovi duda jagodasta su oblika i beru se od lipnja do kolov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684360" y="333360"/>
            <a:ext cx="81057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ste na dobro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dreniranim ilovastim tlim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oli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topla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j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Lomljivo korjenje zahtijeva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oprez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Otporn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su na mraz, jer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kasno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cvjetaju i razvijaju listo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ud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e u prirodi sam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oprašuje.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ve dvije godine raste dosta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sporo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a poslije znatno brž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Lako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se razmnožava reznicama dužine 25 – 30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ud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se u pravilu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što manje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rezu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ežu se pregusti, odumrli i bolesni izdan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ta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udovi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lako lome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zbog velike krošnje i lomljivog dr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agram 4" descr=""/>
          <p:cNvPicPr/>
          <p:nvPr/>
        </p:nvPicPr>
        <p:blipFill>
          <a:blip r:embed="rId1"/>
          <a:stretch/>
        </p:blipFill>
        <p:spPr>
          <a:xfrm>
            <a:off x="1639800" y="1639800"/>
            <a:ext cx="5797800" cy="4511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285840" y="35712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cd5b5"/>
                </a:solidFill>
                <a:latin typeface="Calibri"/>
              </a:rPr>
              <a:t>PL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cd5b5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fcd5b5"/>
                </a:solidFill>
                <a:latin typeface="Calibri"/>
              </a:rPr>
              <a:t>svježi plodovi aromatični su i vrlo ukusni, ali se vrlo brzo kv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1357200" y="2928960"/>
            <a:ext cx="1285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leptir.jpg"/>
          <p:cNvPicPr/>
          <p:nvPr/>
        </p:nvPicPr>
        <p:blipFill>
          <a:blip r:embed="rId1"/>
          <a:stretch/>
        </p:blipFill>
        <p:spPr>
          <a:xfrm>
            <a:off x="6357960" y="3786120"/>
            <a:ext cx="253980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0"/>
          <p:cNvSpPr/>
          <p:nvPr/>
        </p:nvSpPr>
        <p:spPr>
          <a:xfrm>
            <a:off x="6572160" y="62150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cd5b5"/>
                </a:solidFill>
                <a:latin typeface="Calibri"/>
              </a:rPr>
              <a:t>Dudov sv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Diagram 14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942400" cy="6510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1000080" y="300024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cd5b5"/>
                </a:solidFill>
                <a:latin typeface="Calibri"/>
              </a:rPr>
              <a:t>LIST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8:45:07Z</dcterms:created>
  <dc:creator>Antonija</dc:creator>
  <dc:description/>
  <dc:language>en-US</dc:language>
  <cp:lastModifiedBy>Stojic</cp:lastModifiedBy>
  <dcterms:modified xsi:type="dcterms:W3CDTF">2009-02-06T14:53:31Z</dcterms:modified>
  <cp:revision>44</cp:revision>
  <dc:subject/>
  <dc:title>DUD - MURVA</dc:title>
</cp:coreProperties>
</file>