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3C6-0897-4DB0-9938-EB1A1DA0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530-E1AF-47C4-B10C-15ED15B4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183-1E8E-4A27-8EB8-9DE394A6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5E88-5B51-4418-9E39-6D291D2D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DEAC-47EC-4E0A-A33D-A9149BB6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170-C66C-42F9-AB77-7411FF76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0EE7-7A25-451F-8BBB-9F0C1342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D59D-398B-410A-BA2C-E0FE7A69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0C7-3956-4EAB-AC1D-EB125117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1759-BC7F-45F7-84B5-03C685C4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FDCB-C272-4222-9C23-63042FA6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27A3-3279-4D84-BB21-FDC513E2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4C8E-B5E4-4541-98A5-4869A95F26B8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 bojama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43640" y="1890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16360" y="4149720"/>
            <a:ext cx="2828880" cy="181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10160" y="60213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Grgi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419640" y="549360"/>
            <a:ext cx="2232000" cy="17287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1484280"/>
            <a:ext cx="2232000" cy="2089080"/>
          </a:xfrm>
          <a:prstGeom prst="irregularSeal2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1844640"/>
            <a:ext cx="2232360" cy="17287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5800" y="36450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V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7440" y="2349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Ž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6720" y="357336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9800" y="4508640"/>
            <a:ext cx="50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SNOVNE BO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5560" y="5589720"/>
            <a:ext cx="65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novne boje ne možemo dobiti miješanjem drugih boj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 ako ih međusobno miješamo, možemo dobiti izvedene bo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65440" y="333360"/>
            <a:ext cx="505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ZVEDENE BO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2560" y="2133720"/>
            <a:ext cx="1008000" cy="576000"/>
          </a:xfrm>
          <a:prstGeom prst="irregularSeal2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4000" y="2133720"/>
            <a:ext cx="863640" cy="576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1557360"/>
            <a:ext cx="1871640" cy="158436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47640" y="3860640"/>
            <a:ext cx="1008360" cy="648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87640" y="3789360"/>
            <a:ext cx="1008000" cy="64764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3357720"/>
            <a:ext cx="1729080" cy="1295280"/>
          </a:xfrm>
          <a:prstGeom prst="irregularSeal2">
            <a:avLst/>
          </a:prstGeom>
          <a:solidFill>
            <a:srgbClr val="ff92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5157720"/>
            <a:ext cx="1008000" cy="64764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5229360"/>
            <a:ext cx="1008000" cy="574560"/>
          </a:xfrm>
          <a:prstGeom prst="irregularSeal2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59640" y="4653000"/>
            <a:ext cx="1584360" cy="1368360"/>
          </a:xfrm>
          <a:prstGeom prst="irregularSeal2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1440" y="1268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5960" y="29973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RANČ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50880" y="429264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JUBIČ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760" y="6093000"/>
            <a:ext cx="45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rom osnovnih boja nastaju izvedene bo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64360" y="22525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6720" y="39337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3280" y="5373720"/>
            <a:ext cx="3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2720" y="22780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20200" y="39276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57080" y="53737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14520" y="260280"/>
            <a:ext cx="437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ONOVI BOJ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5520" y="1052640"/>
            <a:ext cx="86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da nekoj boji dodajemo bijelu ili crnu, oduzimamo joj jačinu. Ona postaje “slabij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o dobivamo tonove bo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060640"/>
            <a:ext cx="865440" cy="64764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2060640"/>
            <a:ext cx="865080" cy="64764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65600" y="2760840"/>
            <a:ext cx="865080" cy="64764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3440" y="1844640"/>
            <a:ext cx="1366920" cy="1079640"/>
          </a:xfrm>
          <a:prstGeom prst="irregularSeal2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16520" y="2689200"/>
            <a:ext cx="865440" cy="64764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84880" y="2184480"/>
            <a:ext cx="1513080" cy="1297080"/>
          </a:xfrm>
          <a:prstGeom prst="irregularSeal2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85280" y="2152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09800" y="2852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38000" y="2224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5240" y="27795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4292640"/>
            <a:ext cx="914400" cy="914400"/>
          </a:xfrm>
          <a:prstGeom prst="irregularSeal2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4508640"/>
            <a:ext cx="914400" cy="914400"/>
          </a:xfrm>
          <a:prstGeom prst="irregularSeal2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4724280"/>
            <a:ext cx="914400" cy="914400"/>
          </a:xfrm>
          <a:prstGeom prst="irregularSeal2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4940280"/>
            <a:ext cx="914400" cy="914400"/>
          </a:xfrm>
          <a:prstGeom prst="irregularSeal2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5156280"/>
            <a:ext cx="914400" cy="914400"/>
          </a:xfrm>
          <a:prstGeom prst="irregularSeal2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3645000"/>
            <a:ext cx="914400" cy="914400"/>
          </a:xfrm>
          <a:prstGeom prst="irregularSeal2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3860640"/>
            <a:ext cx="914400" cy="914400"/>
          </a:xfrm>
          <a:prstGeom prst="irregularSeal2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4076640"/>
            <a:ext cx="914400" cy="914400"/>
          </a:xfrm>
          <a:prstGeom prst="irregularSeal2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00720" y="4869000"/>
            <a:ext cx="914400" cy="914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16360" y="5084640"/>
            <a:ext cx="914400" cy="91440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5300640"/>
            <a:ext cx="914400" cy="91440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16720" y="4294080"/>
            <a:ext cx="914400" cy="914400"/>
          </a:xfrm>
          <a:prstGeom prst="irregularSeal2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32720" y="4510080"/>
            <a:ext cx="914400" cy="91440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48360" y="4726080"/>
            <a:ext cx="914400" cy="914400"/>
          </a:xfrm>
          <a:prstGeom prst="irregularSeal2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4360" y="4943520"/>
            <a:ext cx="914400" cy="9144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5157720"/>
            <a:ext cx="914400" cy="914400"/>
          </a:xfrm>
          <a:prstGeom prst="irregularSeal2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48760" y="5640480"/>
            <a:ext cx="87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OMPLEMENTATNI KONTR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720" y="404640"/>
            <a:ext cx="751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iječ komplementarno znači nadopunjujuć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o znači da se komplementarne boje međusobno nadopunjuj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komplementarnom paru uvijek je jedna osnovna i jedna izvedena bo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133720"/>
            <a:ext cx="1165320" cy="98748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2133720"/>
            <a:ext cx="1079640" cy="100800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6360" y="3789360"/>
            <a:ext cx="1057320" cy="1058760"/>
          </a:xfrm>
          <a:prstGeom prst="irregularSeal2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3860640"/>
            <a:ext cx="1081080" cy="1152720"/>
          </a:xfrm>
          <a:prstGeom prst="irregularSeal2">
            <a:avLst/>
          </a:prstGeom>
          <a:solidFill>
            <a:srgbClr val="ff92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1989000"/>
            <a:ext cx="1202040" cy="10591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20000" y="1989000"/>
            <a:ext cx="1152360" cy="1081080"/>
          </a:xfrm>
          <a:prstGeom prst="irregularSeal2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263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728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0720" y="2565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05:40:07Z</dcterms:created>
  <dc:creator>GRGA</dc:creator>
  <dc:description/>
  <dc:language>en-US</dc:language>
  <cp:lastModifiedBy>Krešo</cp:lastModifiedBy>
  <dcterms:modified xsi:type="dcterms:W3CDTF">2008-03-18T17:48:58Z</dcterms:modified>
  <cp:revision>5</cp:revision>
  <dc:subject/>
  <dc:title>O bojama…</dc:title>
</cp:coreProperties>
</file>