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EB1C-0FB3-4776-8FFE-2D779D3F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F34-04E8-45FF-A53F-54EBA2AE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1C6C-9030-41D0-A640-5B0E7791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BF0-234D-4088-86D1-BEF9C874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E001-560D-4A34-B378-73875559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99C5-5C0C-4339-804D-930F1CF0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06A2-9E47-4D65-918D-52C4E515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DA2-A5FB-49B9-88FB-A2A67ECE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4F2-82F9-43CC-8934-39181804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D4BE-9A46-4B25-AA1E-4B0DF264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3D6-8F55-49EE-A9C3-FFF6FF31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FDCA-1B18-42A8-AC44-9A35186B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425B-A9F6-4055-9C1C-CF9E14A13E42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3048120" cy="6858000"/>
          </a:xfrm>
          <a:prstGeom prst="rect">
            <a:avLst/>
          </a:prstGeom>
          <a:solidFill>
            <a:srgbClr val="ddddff"/>
          </a:solidFill>
          <a:ln w="9360">
            <a:solidFill>
              <a:srgbClr val="ddd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120" y="457200"/>
            <a:ext cx="1143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Arial"/>
              </a:rPr>
              <a:t>Boj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09480" y="1523880"/>
            <a:ext cx="8305920" cy="37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dimenzije boja:     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1. Vrsta bo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primarn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sekundarn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tercijarn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     2. Ton boje  - (svjetliji, tamniji)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     3. Čistoća boje (valer) – jarkost, intenzitet, zagasitost,  kvalitet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efekti boja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     - tople i hladne bo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kontrasti boja        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po Paulu Klee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) komplementarni kontrast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         b) kontrast krivih paro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943600" y="3743280"/>
            <a:ext cx="312408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po Johanesu Itten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) kontrast boje prema boji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b) kontrast svjetlo - tamno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c) kontrast toplo - hladno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d) komplementarni kontrast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e) simultani (istodobni) kontrast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f)  kontrast kvalitet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g) kontrast kvantitet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2. ton boje:</a:t>
            </a:r>
            <a:br>
              <a:rPr sz="18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vjetlina bo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819520" y="838080"/>
            <a:ext cx="380880" cy="381240"/>
          </a:xfrm>
          <a:prstGeom prst="rect">
            <a:avLst/>
          </a:prstGeom>
          <a:solidFill>
            <a:srgbClr val="464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200400" y="838080"/>
            <a:ext cx="380880" cy="381240"/>
          </a:xfrm>
          <a:prstGeom prst="rect">
            <a:avLst/>
          </a:prstGeom>
          <a:solidFill>
            <a:srgbClr val="585858"/>
          </a:solidFill>
          <a:ln w="93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581280" y="838080"/>
            <a:ext cx="381240" cy="381240"/>
          </a:xfrm>
          <a:prstGeom prst="rect">
            <a:avLst/>
          </a:prstGeom>
          <a:solidFill>
            <a:srgbClr val="6c6c6c"/>
          </a:solidFill>
          <a:ln w="9360">
            <a:solidFill>
              <a:srgbClr val="6c6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962520" y="8380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343400" y="838080"/>
            <a:ext cx="380880" cy="381240"/>
          </a:xfrm>
          <a:prstGeom prst="rect">
            <a:avLst/>
          </a:prstGeom>
          <a:solidFill>
            <a:srgbClr val="9a9a9a"/>
          </a:solidFill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4724280" y="838080"/>
            <a:ext cx="381240" cy="381240"/>
          </a:xfrm>
          <a:prstGeom prst="rect">
            <a:avLst/>
          </a:prstGeom>
          <a:solidFill>
            <a:srgbClr val="c2c2c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5105520" y="838080"/>
            <a:ext cx="380880" cy="381240"/>
          </a:xfrm>
          <a:prstGeom prst="rect">
            <a:avLst/>
          </a:prstGeom>
          <a:solidFill>
            <a:srgbClr val="e6e6e6"/>
          </a:solidFill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5486400" y="8380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2c2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2438280" y="838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2819520" y="1219320"/>
            <a:ext cx="380880" cy="380880"/>
          </a:xfrm>
          <a:prstGeom prst="rect">
            <a:avLst/>
          </a:prstGeom>
          <a:solidFill>
            <a:srgbClr val="82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7"/>
          <p:cNvSpPr/>
          <p:nvPr/>
        </p:nvSpPr>
        <p:spPr>
          <a:xfrm>
            <a:off x="3200400" y="1219320"/>
            <a:ext cx="380880" cy="380880"/>
          </a:xfrm>
          <a:prstGeom prst="rect">
            <a:avLst/>
          </a:prstGeom>
          <a:solidFill>
            <a:srgbClr val="b00000"/>
          </a:solidFill>
          <a:ln w="9360">
            <a:solidFill>
              <a:srgbClr val="b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3581280" y="1219320"/>
            <a:ext cx="381240" cy="380880"/>
          </a:xfrm>
          <a:prstGeom prst="rect">
            <a:avLst/>
          </a:prstGeom>
          <a:solidFill>
            <a:srgbClr val="d60000"/>
          </a:solidFill>
          <a:ln w="9360">
            <a:solidFill>
              <a:srgbClr val="d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3962520" y="1219320"/>
            <a:ext cx="380880" cy="38088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4343400" y="1219320"/>
            <a:ext cx="380880" cy="380880"/>
          </a:xfrm>
          <a:prstGeom prst="rect">
            <a:avLst/>
          </a:prstGeom>
          <a:solidFill>
            <a:srgbClr val="ff7373"/>
          </a:solidFill>
          <a:ln w="9360">
            <a:solidFill>
              <a:srgbClr val="ff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1"/>
          <p:cNvSpPr/>
          <p:nvPr/>
        </p:nvSpPr>
        <p:spPr>
          <a:xfrm>
            <a:off x="4724280" y="1219320"/>
            <a:ext cx="381240" cy="380880"/>
          </a:xfrm>
          <a:prstGeom prst="rect">
            <a:avLst/>
          </a:prstGeom>
          <a:solidFill>
            <a:srgbClr val="ffabab"/>
          </a:solidFill>
          <a:ln w="9360">
            <a:solidFill>
              <a:srgbClr val="ff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5105520" y="1219320"/>
            <a:ext cx="380880" cy="380880"/>
          </a:xfrm>
          <a:prstGeom prst="rect">
            <a:avLst/>
          </a:prstGeom>
          <a:solidFill>
            <a:srgbClr val="ffdddd"/>
          </a:solidFill>
          <a:ln w="9360">
            <a:solidFill>
              <a:srgbClr val="ff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3"/>
          <p:cNvSpPr/>
          <p:nvPr/>
        </p:nvSpPr>
        <p:spPr>
          <a:xfrm>
            <a:off x="5486400" y="12193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2438280" y="12193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6172200" y="83808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kromatski tono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kromatski tono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8" descr="D:\predavanja\Boja mala\tonovi vaze.jpg"/>
          <p:cNvPicPr/>
          <p:nvPr/>
        </p:nvPicPr>
        <p:blipFill>
          <a:blip r:embed="rId1"/>
          <a:stretch/>
        </p:blipFill>
        <p:spPr>
          <a:xfrm>
            <a:off x="2438280" y="2577960"/>
            <a:ext cx="46864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"/>
          <p:cNvSpPr/>
          <p:nvPr/>
        </p:nvSpPr>
        <p:spPr>
          <a:xfrm>
            <a:off x="5638680" y="403848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isti tonovi, različite vrste bo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9" descr="D:\predavanja\Boja mala\vrsta.jpg"/>
          <p:cNvPicPr/>
          <p:nvPr/>
        </p:nvPicPr>
        <p:blipFill>
          <a:blip r:embed="rId1"/>
          <a:stretch/>
        </p:blipFill>
        <p:spPr>
          <a:xfrm>
            <a:off x="5715000" y="825480"/>
            <a:ext cx="3073320" cy="3060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2362320" y="57150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ista vrsta, različiti tono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1" descr="D:\predavanja\Boja mala\Gestalt.plavo.1970.jpg"/>
          <p:cNvPicPr/>
          <p:nvPr/>
        </p:nvPicPr>
        <p:blipFill>
          <a:blip r:embed="rId2"/>
          <a:stretch/>
        </p:blipFill>
        <p:spPr>
          <a:xfrm>
            <a:off x="190440" y="838080"/>
            <a:ext cx="4533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030"/>
          <p:cNvSpPr/>
          <p:nvPr/>
        </p:nvSpPr>
        <p:spPr>
          <a:xfrm>
            <a:off x="304920" y="53341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Henri Matisse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Arapsk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kavan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31" descr="D:\predavanja\Boja mala\Arapska.kavana.1913.jpg"/>
          <p:cNvPicPr/>
          <p:nvPr/>
        </p:nvPicPr>
        <p:blipFill>
          <a:blip r:embed="rId1"/>
          <a:stretch/>
        </p:blipFill>
        <p:spPr>
          <a:xfrm>
            <a:off x="317520" y="660240"/>
            <a:ext cx="5397480" cy="4521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2" descr="D:\predavanja\Boja mala\Arapska.kavana2.1913.jpg"/>
          <p:cNvPicPr/>
          <p:nvPr/>
        </p:nvPicPr>
        <p:blipFill>
          <a:blip r:embed="rId2"/>
          <a:stretch/>
        </p:blipFill>
        <p:spPr>
          <a:xfrm>
            <a:off x="6019920" y="2765520"/>
            <a:ext cx="289548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5105520" y="56386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Victor Vasarely:</a:t>
            </a:r>
            <a:br>
              <a:rPr sz="1200"/>
            </a:br>
            <a:r>
              <a:rPr b="0" i="1" lang="hr-HR" sz="1200" spc="-1" strike="noStrike">
                <a:solidFill>
                  <a:srgbClr val="ffffff"/>
                </a:solidFill>
                <a:latin typeface="Arial"/>
              </a:rPr>
              <a:t>Gestalt Rugo</a:t>
            </a: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, 197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D:\predavanja\Boja mala\Gestalt.Rugo.1978.jpg"/>
          <p:cNvPicPr/>
          <p:nvPr/>
        </p:nvPicPr>
        <p:blipFill>
          <a:blip r:embed="rId1"/>
          <a:stretch/>
        </p:blipFill>
        <p:spPr>
          <a:xfrm>
            <a:off x="851040" y="0"/>
            <a:ext cx="402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2" descr="D:\predavanja\Boja mala\4. razred. pieta.jpg"/>
          <p:cNvPicPr/>
          <p:nvPr/>
        </p:nvPicPr>
        <p:blipFill>
          <a:blip r:embed="rId1"/>
          <a:stretch/>
        </p:blipFill>
        <p:spPr>
          <a:xfrm>
            <a:off x="6388200" y="127080"/>
            <a:ext cx="2603520" cy="360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D:\predavanja\Boja mala\4. razred.pieta2.jpg"/>
          <p:cNvPicPr/>
          <p:nvPr/>
        </p:nvPicPr>
        <p:blipFill>
          <a:blip r:embed="rId2"/>
          <a:stretch/>
        </p:blipFill>
        <p:spPr>
          <a:xfrm>
            <a:off x="5384880" y="4038480"/>
            <a:ext cx="3606840" cy="260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D:\predavanja\Boja mala\pieta gluma.jpg"/>
          <p:cNvPicPr/>
          <p:nvPr/>
        </p:nvPicPr>
        <p:blipFill>
          <a:blip r:embed="rId3"/>
          <a:stretch/>
        </p:blipFill>
        <p:spPr>
          <a:xfrm>
            <a:off x="341280" y="76320"/>
            <a:ext cx="148752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D:\predavanja\Boja mala\priprema tonovi.jpg"/>
          <p:cNvPicPr/>
          <p:nvPr/>
        </p:nvPicPr>
        <p:blipFill>
          <a:blip r:embed="rId4"/>
          <a:stretch/>
        </p:blipFill>
        <p:spPr>
          <a:xfrm>
            <a:off x="152280" y="2486160"/>
            <a:ext cx="495324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259092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3. Čistoća boje (val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5800" y="1295280"/>
            <a:ext cx="74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Boja gubi svoju čistoću dodavanjem sive – degradacija boje. Boju možemo degradirati i oduzimanjem pigmenta (akvarel boji dodati vodu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" descr="D:\predavanja\Boja mala\valeri.jpg"/>
          <p:cNvPicPr/>
          <p:nvPr/>
        </p:nvPicPr>
        <p:blipFill>
          <a:blip r:embed="rId1"/>
          <a:stretch/>
        </p:blipFill>
        <p:spPr>
          <a:xfrm>
            <a:off x="762120" y="2743200"/>
            <a:ext cx="3070080" cy="320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D:\predavanja\Boja mala\cistoca.jpg"/>
          <p:cNvPicPr/>
          <p:nvPr/>
        </p:nvPicPr>
        <p:blipFill>
          <a:blip r:embed="rId2"/>
          <a:stretch/>
        </p:blipFill>
        <p:spPr>
          <a:xfrm>
            <a:off x="5181480" y="2819520"/>
            <a:ext cx="30862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3" descr="D:\predavanja\Boja mala\2. razred. valeri1.jpg"/>
          <p:cNvPicPr/>
          <p:nvPr/>
        </p:nvPicPr>
        <p:blipFill>
          <a:blip r:embed="rId1"/>
          <a:stretch/>
        </p:blipFill>
        <p:spPr>
          <a:xfrm>
            <a:off x="2133720" y="55440"/>
            <a:ext cx="2971800" cy="2156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D:\predavanja\Boja mala\2. razred. valeri2.jpg"/>
          <p:cNvPicPr/>
          <p:nvPr/>
        </p:nvPicPr>
        <p:blipFill>
          <a:blip r:embed="rId2"/>
          <a:stretch/>
        </p:blipFill>
        <p:spPr>
          <a:xfrm>
            <a:off x="5638680" y="106200"/>
            <a:ext cx="3048120" cy="2103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D:\predavanja\Boja mala\2. razred. valeri3.jpg"/>
          <p:cNvPicPr/>
          <p:nvPr/>
        </p:nvPicPr>
        <p:blipFill>
          <a:blip r:embed="rId3"/>
          <a:stretch/>
        </p:blipFill>
        <p:spPr>
          <a:xfrm>
            <a:off x="5638680" y="2316240"/>
            <a:ext cx="3048120" cy="2103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D:\predavanja\Boja mala\2. razred. valeri4.jpg"/>
          <p:cNvPicPr/>
          <p:nvPr/>
        </p:nvPicPr>
        <p:blipFill>
          <a:blip r:embed="rId4"/>
          <a:stretch/>
        </p:blipFill>
        <p:spPr>
          <a:xfrm>
            <a:off x="5638680" y="4572000"/>
            <a:ext cx="3048120" cy="2139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D:\predavanja\Boja mala\priprema valeri.jpg"/>
          <p:cNvPicPr/>
          <p:nvPr/>
        </p:nvPicPr>
        <p:blipFill>
          <a:blip r:embed="rId5"/>
          <a:stretch/>
        </p:blipFill>
        <p:spPr>
          <a:xfrm>
            <a:off x="76320" y="2239920"/>
            <a:ext cx="510516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190440" y="525780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Joan Mir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Slik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D:\predavanja\Boja mala\Joan Miro. Slika. 1953.jpg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D:\predavanja\Boja\Munsell.jpg"/>
          <p:cNvPicPr/>
          <p:nvPr/>
        </p:nvPicPr>
        <p:blipFill>
          <a:blip r:embed="rId1"/>
          <a:stretch/>
        </p:blipFill>
        <p:spPr>
          <a:xfrm>
            <a:off x="2502000" y="65160"/>
            <a:ext cx="6413400" cy="6259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228600" y="3497400"/>
            <a:ext cx="20574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. H. Munsell je Ostwaldovu kružnicu “uprostorio” i pretvorio je u kuglu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spostavlja tri dimenzije boj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. kromatska kvaliteta, vrsta (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hu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. svjetlina (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valu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3. čistoću (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chrom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0" y="457200"/>
            <a:ext cx="31240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b) efekti bo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505320" y="4572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ople i hladne bo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990720" y="62485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scar Kokoscha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Dolomitski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krajolik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2" descr="D:\predavanja\Boja mala\Oskar.Kokoscha.Dolomitski.krajolik2.1913.jpg"/>
          <p:cNvPicPr/>
          <p:nvPr/>
        </p:nvPicPr>
        <p:blipFill>
          <a:blip r:embed="rId1"/>
          <a:stretch/>
        </p:blipFill>
        <p:spPr>
          <a:xfrm>
            <a:off x="1066680" y="1557360"/>
            <a:ext cx="7162920" cy="4691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D:\predavanja\Boja mala\Henri Matisse. Crveni.atelier2.jpg"/>
          <p:cNvPicPr/>
          <p:nvPr/>
        </p:nvPicPr>
        <p:blipFill>
          <a:blip r:embed="rId2"/>
          <a:stretch/>
        </p:blipFill>
        <p:spPr>
          <a:xfrm>
            <a:off x="838080" y="1424160"/>
            <a:ext cx="7391520" cy="51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91440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saak Newton prizmom otkriva sve boje u bijeloj svjetlosti. Proglašava sedam boja u spektru po uzoru na glazbenu ljestvicu i ezoteriju.</a:t>
            </a:r>
            <a:br>
              <a:rPr sz="1600"/>
            </a:b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spektrum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= prikaza, fan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D:\predavanja\Boja\spektar.jpg"/>
          <p:cNvPicPr/>
          <p:nvPr/>
        </p:nvPicPr>
        <p:blipFill>
          <a:blip r:embed="rId1"/>
          <a:stretch/>
        </p:blipFill>
        <p:spPr>
          <a:xfrm>
            <a:off x="228600" y="259092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D:\predavanja\Boja mala\rainbow.jpg"/>
          <p:cNvPicPr/>
          <p:nvPr/>
        </p:nvPicPr>
        <p:blipFill>
          <a:blip r:embed="rId2"/>
          <a:stretch/>
        </p:blipFill>
        <p:spPr>
          <a:xfrm>
            <a:off x="3200400" y="2081160"/>
            <a:ext cx="56386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"/>
          <p:cNvSpPr/>
          <p:nvPr/>
        </p:nvSpPr>
        <p:spPr>
          <a:xfrm>
            <a:off x="2133720" y="5715000"/>
            <a:ext cx="4824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1066680" y="5715000"/>
            <a:ext cx="48276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3200400" y="5715000"/>
            <a:ext cx="482760" cy="533520"/>
          </a:xfrm>
          <a:prstGeom prst="rect">
            <a:avLst/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2743200" y="5927760"/>
            <a:ext cx="290520" cy="320760"/>
          </a:xfrm>
          <a:prstGeom prst="rect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1676520" y="5927760"/>
            <a:ext cx="288720" cy="320760"/>
          </a:xfrm>
          <a:prstGeom prst="rect">
            <a:avLst/>
          </a:prstGeom>
          <a:solidFill>
            <a:srgbClr val="018799"/>
          </a:solidFill>
          <a:ln w="9360">
            <a:solidFill>
              <a:srgbClr val="0187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2133720" y="2895480"/>
            <a:ext cx="482400" cy="533520"/>
          </a:xfrm>
          <a:prstGeom prst="rect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1066680" y="2895480"/>
            <a:ext cx="48276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5"/>
          <p:cNvSpPr/>
          <p:nvPr/>
        </p:nvSpPr>
        <p:spPr>
          <a:xfrm>
            <a:off x="3200400" y="2895480"/>
            <a:ext cx="4827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2743200" y="3108240"/>
            <a:ext cx="290520" cy="320760"/>
          </a:xfrm>
          <a:prstGeom prst="rect">
            <a:avLst/>
          </a:prstGeom>
          <a:solidFill>
            <a:srgbClr val="ffd833"/>
          </a:solidFill>
          <a:ln w="9360">
            <a:solidFill>
              <a:srgbClr val="ffd8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1676520" y="3108240"/>
            <a:ext cx="288720" cy="320760"/>
          </a:xfrm>
          <a:prstGeom prst="rect">
            <a:avLst/>
          </a:prstGeom>
          <a:solidFill>
            <a:srgbClr val="fd8003"/>
          </a:solidFill>
          <a:ln w="9360">
            <a:solidFill>
              <a:srgbClr val="fd8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8" descr="D:\predavanja\Boja mala\Oskar.Kokoscha.Dolomitski.krajolik2.1913.jpg"/>
          <p:cNvPicPr/>
          <p:nvPr/>
        </p:nvPicPr>
        <p:blipFill>
          <a:blip r:embed="rId1"/>
          <a:stretch/>
        </p:blipFill>
        <p:spPr>
          <a:xfrm>
            <a:off x="5079960" y="3886200"/>
            <a:ext cx="3606840" cy="2362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D:\predavanja\Boja mala\Henri Matisse. Crveni.atelier2.jpg"/>
          <p:cNvPicPr/>
          <p:nvPr/>
        </p:nvPicPr>
        <p:blipFill>
          <a:blip r:embed="rId2"/>
          <a:stretch/>
        </p:blipFill>
        <p:spPr>
          <a:xfrm>
            <a:off x="5181480" y="1143000"/>
            <a:ext cx="3505320" cy="2432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0" descr="D:\predavanja\Boja mala\krug.nijanse.jpg"/>
          <p:cNvPicPr/>
          <p:nvPr/>
        </p:nvPicPr>
        <p:blipFill>
          <a:blip r:embed="rId3"/>
          <a:stretch/>
        </p:blipFill>
        <p:spPr>
          <a:xfrm>
            <a:off x="914400" y="144360"/>
            <a:ext cx="2286000" cy="2162160"/>
          </a:xfrm>
          <a:prstGeom prst="rect">
            <a:avLst/>
          </a:prstGeom>
          <a:ln w="0">
            <a:noFill/>
          </a:ln>
        </p:spPr>
      </p:pic>
      <p:sp>
        <p:nvSpPr>
          <p:cNvPr id="137" name="Line 32"/>
          <p:cNvSpPr/>
          <p:nvPr/>
        </p:nvSpPr>
        <p:spPr>
          <a:xfrm>
            <a:off x="380880" y="1219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"/>
          <p:cNvSpPr/>
          <p:nvPr/>
        </p:nvSpPr>
        <p:spPr>
          <a:xfrm>
            <a:off x="380880" y="380880"/>
            <a:ext cx="35816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drvo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tople i hladne bo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slik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temp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razred: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 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D:\predavanja\Boja mala\2. razred. toplo hladno 1.jpg"/>
          <p:cNvPicPr/>
          <p:nvPr/>
        </p:nvPicPr>
        <p:blipFill>
          <a:blip r:embed="rId1"/>
          <a:stretch/>
        </p:blipFill>
        <p:spPr>
          <a:xfrm>
            <a:off x="376200" y="2666880"/>
            <a:ext cx="2443320" cy="3581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D:\predavanja\Boja mala\2. razred. toplo hladno 2.jpg"/>
          <p:cNvPicPr/>
          <p:nvPr/>
        </p:nvPicPr>
        <p:blipFill>
          <a:blip r:embed="rId2"/>
          <a:stretch/>
        </p:blipFill>
        <p:spPr>
          <a:xfrm>
            <a:off x="3352680" y="2666880"/>
            <a:ext cx="2443320" cy="3581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D:\predavanja\Boja mala\2. razred. toplo hladno 3.jpg"/>
          <p:cNvPicPr/>
          <p:nvPr/>
        </p:nvPicPr>
        <p:blipFill>
          <a:blip r:embed="rId3"/>
          <a:stretch/>
        </p:blipFill>
        <p:spPr>
          <a:xfrm>
            <a:off x="6324480" y="2666880"/>
            <a:ext cx="24433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26668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Koloristička perspek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876920" y="632448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aurice de Vlamnick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Krajolik s crvenim drvećem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28600" y="60948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toplo – bliž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hladno – dal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8" descr="D:\predavanja\Boja mala\Maurice.de.Vlaminck.Krajolik.s.crvenim.drvecem.1907.jpg"/>
          <p:cNvPicPr/>
          <p:nvPr/>
        </p:nvPicPr>
        <p:blipFill>
          <a:blip r:embed="rId1"/>
          <a:stretch/>
        </p:blipFill>
        <p:spPr>
          <a:xfrm>
            <a:off x="2057400" y="712800"/>
            <a:ext cx="678168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Modulacija    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jena – svjetlost</a:t>
            </a:r>
            <a:br>
              <a:rPr sz="1600"/>
            </a:b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hladno – toplo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delacij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jena – svjetlost</a:t>
            </a:r>
            <a:br>
              <a:rPr sz="1600"/>
            </a:b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amno - svjetl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905120" y="59738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ndre Derain, 19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685800" y="1752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9"/>
          <p:cNvSpPr/>
          <p:nvPr/>
        </p:nvSpPr>
        <p:spPr>
          <a:xfrm>
            <a:off x="1447920" y="1752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60948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13716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4" descr="D:\predavanja\Boja mala\Andre.Derain.1905.jpg"/>
          <p:cNvPicPr/>
          <p:nvPr/>
        </p:nvPicPr>
        <p:blipFill>
          <a:blip r:embed="rId1"/>
          <a:stretch/>
        </p:blipFill>
        <p:spPr>
          <a:xfrm>
            <a:off x="3505320" y="0"/>
            <a:ext cx="507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6"/>
          <p:cNvSpPr/>
          <p:nvPr/>
        </p:nvSpPr>
        <p:spPr>
          <a:xfrm>
            <a:off x="380880" y="4648320"/>
            <a:ext cx="30481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ortret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dulacij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slik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e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ast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razred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D:\predavanja\Boja mala\4. razred. modulacija 2.jpg"/>
          <p:cNvPicPr/>
          <p:nvPr/>
        </p:nvPicPr>
        <p:blipFill>
          <a:blip r:embed="rId1"/>
          <a:stretch/>
        </p:blipFill>
        <p:spPr>
          <a:xfrm>
            <a:off x="355680" y="698400"/>
            <a:ext cx="3606840" cy="257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D:\predavanja\Boja mala\4. razred. modulacija 1.jpg"/>
          <p:cNvPicPr/>
          <p:nvPr/>
        </p:nvPicPr>
        <p:blipFill>
          <a:blip r:embed="rId2"/>
          <a:stretch/>
        </p:blipFill>
        <p:spPr>
          <a:xfrm>
            <a:off x="4648320" y="685800"/>
            <a:ext cx="3995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3" descr="D:\predavanja\Boja mala\krug.nijanse.jpg"/>
          <p:cNvPicPr/>
          <p:nvPr/>
        </p:nvPicPr>
        <p:blipFill>
          <a:blip r:embed="rId1"/>
          <a:stretch/>
        </p:blipFill>
        <p:spPr>
          <a:xfrm>
            <a:off x="380880" y="2585880"/>
            <a:ext cx="4114800" cy="38912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457200"/>
            <a:ext cx="3352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c) kontrasti bo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886200" y="457200"/>
            <a:ext cx="3200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 Paulu Klee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) komplementarni kontrast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) kontrast krivih par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7"/>
          <p:cNvSpPr/>
          <p:nvPr/>
        </p:nvSpPr>
        <p:spPr>
          <a:xfrm flipV="1">
            <a:off x="1752480" y="396252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8"/>
          <p:cNvSpPr/>
          <p:nvPr/>
        </p:nvSpPr>
        <p:spPr>
          <a:xfrm flipH="1" flipV="1">
            <a:off x="16002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2438280" y="39625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04920" y="2133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omplementarni parov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6095880" y="21337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rivi” parov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7086600" y="2895480"/>
            <a:ext cx="838080" cy="685800"/>
          </a:xfrm>
          <a:prstGeom prst="rect">
            <a:avLst/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647712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5410080" y="2895480"/>
            <a:ext cx="838440" cy="685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5791320" y="4114800"/>
            <a:ext cx="6094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7086600" y="4114800"/>
            <a:ext cx="60948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9"/>
          <p:cNvSpPr/>
          <p:nvPr/>
        </p:nvSpPr>
        <p:spPr>
          <a:xfrm>
            <a:off x="8001000" y="4114800"/>
            <a:ext cx="60948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0"/>
          <p:cNvSpPr/>
          <p:nvPr/>
        </p:nvSpPr>
        <p:spPr>
          <a:xfrm>
            <a:off x="6324480" y="5486400"/>
            <a:ext cx="60984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2"/>
          <p:cNvSpPr/>
          <p:nvPr/>
        </p:nvSpPr>
        <p:spPr>
          <a:xfrm flipV="1">
            <a:off x="6400800" y="36576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3"/>
          <p:cNvSpPr/>
          <p:nvPr/>
        </p:nvSpPr>
        <p:spPr>
          <a:xfrm flipH="1" flipV="1">
            <a:off x="6324480" y="365760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4"/>
          <p:cNvSpPr/>
          <p:nvPr/>
        </p:nvSpPr>
        <p:spPr>
          <a:xfrm>
            <a:off x="4952880" y="4114800"/>
            <a:ext cx="60984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5"/>
          <p:cNvSpPr/>
          <p:nvPr/>
        </p:nvSpPr>
        <p:spPr>
          <a:xfrm>
            <a:off x="5334120" y="4648320"/>
            <a:ext cx="9903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6"/>
          <p:cNvSpPr/>
          <p:nvPr/>
        </p:nvSpPr>
        <p:spPr>
          <a:xfrm flipH="1">
            <a:off x="6781680" y="4648320"/>
            <a:ext cx="6098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7"/>
          <p:cNvSpPr/>
          <p:nvPr/>
        </p:nvSpPr>
        <p:spPr>
          <a:xfrm flipH="1">
            <a:off x="7391160" y="36576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8"/>
          <p:cNvSpPr/>
          <p:nvPr/>
        </p:nvSpPr>
        <p:spPr>
          <a:xfrm>
            <a:off x="7620120" y="36576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0"/>
          <p:cNvSpPr/>
          <p:nvPr/>
        </p:nvSpPr>
        <p:spPr>
          <a:xfrm flipH="1">
            <a:off x="53341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31"/>
          <p:cNvSpPr/>
          <p:nvPr/>
        </p:nvSpPr>
        <p:spPr>
          <a:xfrm>
            <a:off x="5791320" y="36576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026"/>
          <p:cNvSpPr/>
          <p:nvPr/>
        </p:nvSpPr>
        <p:spPr>
          <a:xfrm>
            <a:off x="380880" y="4572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Komplementarni kontr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28"/>
          <p:cNvSpPr/>
          <p:nvPr/>
        </p:nvSpPr>
        <p:spPr>
          <a:xfrm>
            <a:off x="5410080" y="62784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incent Van Gogh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Autoportret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88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33" descr="D:\predavanja\Boja\Vincent.van.Gogh.Autoportret3.jpg"/>
          <p:cNvPicPr/>
          <p:nvPr/>
        </p:nvPicPr>
        <p:blipFill>
          <a:blip r:embed="rId1"/>
          <a:stretch/>
        </p:blipFill>
        <p:spPr>
          <a:xfrm>
            <a:off x="6222960" y="3809880"/>
            <a:ext cx="2158920" cy="2057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37" descr="D:\predavanja\Boja mala\Vincent.van.Gogh.Autoportret2.1889.jpg"/>
          <p:cNvPicPr/>
          <p:nvPr/>
        </p:nvPicPr>
        <p:blipFill>
          <a:blip r:embed="rId2"/>
          <a:stretch/>
        </p:blipFill>
        <p:spPr>
          <a:xfrm>
            <a:off x="6095880" y="317520"/>
            <a:ext cx="2400480" cy="2882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38" descr="D:\predavanja\Boja mala\Vincent.van.Gogh.Autoportret.1889.jpg"/>
          <p:cNvPicPr/>
          <p:nvPr/>
        </p:nvPicPr>
        <p:blipFill>
          <a:blip r:embed="rId3"/>
          <a:stretch/>
        </p:blipFill>
        <p:spPr>
          <a:xfrm>
            <a:off x="444600" y="1143000"/>
            <a:ext cx="4813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2590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c) kontrasti bo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172200" y="399960"/>
            <a:ext cx="2666880" cy="19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 Johanesu Itten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1) kontrast boje prema boji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2) kontrast svjetlo - tamno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3) kontrast toplo - hladno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4) komplementarni kontrast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5) simultani (istodobni) kontrast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6) kontrast kvalitete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7) kontrast kvantite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380880" y="13716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1. Kontrast boje prema bo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9" descr="D:\predavanja\Boja mala\Eduardo Paolozzi.jpg"/>
          <p:cNvPicPr/>
          <p:nvPr/>
        </p:nvPicPr>
        <p:blipFill>
          <a:blip r:embed="rId1"/>
          <a:stretch/>
        </p:blipFill>
        <p:spPr>
          <a:xfrm>
            <a:off x="3344760" y="0"/>
            <a:ext cx="252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D:\predavanja\Boja mala\Rembrandt van Rijn. Ukazanje u Emausu. 1629.jpg"/>
          <p:cNvPicPr/>
          <p:nvPr/>
        </p:nvPicPr>
        <p:blipFill>
          <a:blip r:embed="rId1"/>
          <a:stretch/>
        </p:blipFill>
        <p:spPr>
          <a:xfrm>
            <a:off x="304920" y="0"/>
            <a:ext cx="78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5"/>
          <p:cNvSpPr/>
          <p:nvPr/>
        </p:nvSpPr>
        <p:spPr>
          <a:xfrm>
            <a:off x="304920" y="304920"/>
            <a:ext cx="2666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Motiv: vizualni, prskalica</a:t>
            </a:r>
            <a:br>
              <a:rPr sz="1600"/>
            </a:b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Likovni problem: svjetlo – tamni kontrast</a:t>
            </a:r>
            <a:br>
              <a:rPr sz="1600"/>
            </a:b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Likovno područje: slikanje</a:t>
            </a:r>
            <a:br>
              <a:rPr sz="1600"/>
            </a:b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Likovne tehnika: temp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D:\predavanja\Boja mala\svjetlo.jpg"/>
          <p:cNvPicPr/>
          <p:nvPr/>
        </p:nvPicPr>
        <p:blipFill>
          <a:blip r:embed="rId1"/>
          <a:stretch/>
        </p:blipFill>
        <p:spPr>
          <a:xfrm>
            <a:off x="4267080" y="152280"/>
            <a:ext cx="4419720" cy="3059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D:\predavanja\Boja mala\svjetlo2.jpg"/>
          <p:cNvPicPr/>
          <p:nvPr/>
        </p:nvPicPr>
        <p:blipFill>
          <a:blip r:embed="rId2"/>
          <a:stretch/>
        </p:blipFill>
        <p:spPr>
          <a:xfrm>
            <a:off x="4419720" y="3516480"/>
            <a:ext cx="4260600" cy="32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0" y="457200"/>
            <a:ext cx="3352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a) dimenzije boj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0400" y="1371600"/>
            <a:ext cx="3124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rsta boje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on bo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Čistoća boje (val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5257800" y="59738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Henri Matisse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Plavi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prozor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5715000" y="13716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3. Kontrast toplo - hlad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D:\predavanja\Boja mala\Henri Matisse. Plavi.prozor.1912.jpg"/>
          <p:cNvPicPr/>
          <p:nvPr/>
        </p:nvPicPr>
        <p:blipFill>
          <a:blip r:embed="rId1"/>
          <a:stretch/>
        </p:blipFill>
        <p:spPr>
          <a:xfrm>
            <a:off x="36504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533520" y="655308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incent van Gogh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Noćni kafe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88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5" descr="D:\predavanja\Boja mala\Vincent.van.Gogh.Nocni cafe.1888.jpg"/>
          <p:cNvPicPr/>
          <p:nvPr/>
        </p:nvPicPr>
        <p:blipFill>
          <a:blip r:embed="rId1"/>
          <a:stretch/>
        </p:blipFill>
        <p:spPr>
          <a:xfrm>
            <a:off x="533520" y="289080"/>
            <a:ext cx="784836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5715000" y="13716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5. Sukcesivni kontr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3"/>
          <p:cNvSpPr/>
          <p:nvPr/>
        </p:nvSpPr>
        <p:spPr>
          <a:xfrm>
            <a:off x="1371600" y="297180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8" descr="D:\predavanja\Boja\Albers2.jpg"/>
          <p:cNvPicPr/>
          <p:nvPr/>
        </p:nvPicPr>
        <p:blipFill>
          <a:blip r:embed="rId1"/>
          <a:stretch/>
        </p:blipFill>
        <p:spPr>
          <a:xfrm>
            <a:off x="5791320" y="1905120"/>
            <a:ext cx="3171600" cy="41907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9"/>
          <p:cNvSpPr/>
          <p:nvPr/>
        </p:nvSpPr>
        <p:spPr>
          <a:xfrm>
            <a:off x="5791320" y="61722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lbersova vjež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5715000" y="13716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6. Kontrast kvalit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114800" y="3992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Joan Miro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Sl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6" descr="D:\predavanja\Boja mala\Joan Miro. Slika. 1953.jpg"/>
          <p:cNvPicPr/>
          <p:nvPr/>
        </p:nvPicPr>
        <p:blipFill>
          <a:blip r:embed="rId1"/>
          <a:stretch/>
        </p:blipFill>
        <p:spPr>
          <a:xfrm>
            <a:off x="685800" y="1517760"/>
            <a:ext cx="46483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5562720" y="368784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eorges Braque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Billi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D:\predavanja\Boja\G Braque2.jpg"/>
          <p:cNvPicPr/>
          <p:nvPr/>
        </p:nvPicPr>
        <p:blipFill>
          <a:blip r:embed="rId1"/>
          <a:stretch/>
        </p:blipFill>
        <p:spPr>
          <a:xfrm>
            <a:off x="304920" y="4114800"/>
            <a:ext cx="5333760" cy="24051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715000" y="1371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7. Kontrast kvantit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7" descr="D:\predavanja\Boja mala\vaga.jpg"/>
          <p:cNvPicPr/>
          <p:nvPr/>
        </p:nvPicPr>
        <p:blipFill>
          <a:blip r:embed="rId2"/>
          <a:stretch/>
        </p:blipFill>
        <p:spPr>
          <a:xfrm>
            <a:off x="6019920" y="4064040"/>
            <a:ext cx="2514600" cy="2449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D:\predavanja\Boja mala\George Braque.Billiard.jpg"/>
          <p:cNvPicPr/>
          <p:nvPr/>
        </p:nvPicPr>
        <p:blipFill>
          <a:blip r:embed="rId3"/>
          <a:stretch/>
        </p:blipFill>
        <p:spPr>
          <a:xfrm>
            <a:off x="304920" y="154080"/>
            <a:ext cx="50292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Miješanje boj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838080" y="914400"/>
            <a:ext cx="70866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mehaničk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miješanje boja –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supraktivn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miješanj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 pigmentacija, osnovne boje C, P, 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optičk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miješanje boja –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aditivn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miješanje, svjetlosti.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GB snopovi na televiziji: 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 – red (crvena), G – green (zelena), B – blue (plava)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MYK u tisku: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 – cijan (svjetloplava)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 – magenta (crvenoljubičasta)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 – yellow (žuta)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 – key (označava crn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D:\predavanja\Boja\spektar.jpg"/>
          <p:cNvPicPr/>
          <p:nvPr/>
        </p:nvPicPr>
        <p:blipFill>
          <a:blip r:embed="rId1"/>
          <a:stretch/>
        </p:blipFill>
        <p:spPr>
          <a:xfrm>
            <a:off x="1371600" y="4114800"/>
            <a:ext cx="2008080" cy="2362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D:\predavanja\Boja\mijesanje.jpg"/>
          <p:cNvPicPr/>
          <p:nvPr/>
        </p:nvPicPr>
        <p:blipFill>
          <a:blip r:embed="rId2"/>
          <a:stretch/>
        </p:blipFill>
        <p:spPr>
          <a:xfrm>
            <a:off x="4267080" y="4238640"/>
            <a:ext cx="22384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1. vrsta bo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38080" y="1371600"/>
            <a:ext cx="175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primarne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sekundarne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I + I = II)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tercijarne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I + II = 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914400" y="3200400"/>
            <a:ext cx="29718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Ostwaldov krug boj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Wilhelm Ostwald traku (niz) 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pektra zakrivljuje u kružnicu.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iješa susjedne boje i dobiva 100 čistih boja, koje naziva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kromatske,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šarene boje.</a:t>
            </a:r>
            <a:br>
              <a:rPr sz="1600"/>
            </a:b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ve boje koje nisu u spektru naziva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akromatske,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nešarene boje (neboj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5" descr="D:\predavanja\Boja mala\krug.primarne.jpg"/>
          <p:cNvPicPr/>
          <p:nvPr/>
        </p:nvPicPr>
        <p:blipFill>
          <a:blip r:embed="rId1"/>
          <a:stretch/>
        </p:blipFill>
        <p:spPr>
          <a:xfrm>
            <a:off x="5257800" y="2590920"/>
            <a:ext cx="2158920" cy="1650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D:\predavanja\Boja mala\krug.sekundarne.jpg"/>
          <p:cNvPicPr/>
          <p:nvPr/>
        </p:nvPicPr>
        <p:blipFill>
          <a:blip r:embed="rId2"/>
          <a:stretch/>
        </p:blipFill>
        <p:spPr>
          <a:xfrm>
            <a:off x="5257800" y="2590920"/>
            <a:ext cx="2146320" cy="2209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D:\predavanja\Boja mala\krug.puni.jpg"/>
          <p:cNvPicPr/>
          <p:nvPr/>
        </p:nvPicPr>
        <p:blipFill>
          <a:blip r:embed="rId3"/>
          <a:stretch/>
        </p:blipFill>
        <p:spPr>
          <a:xfrm>
            <a:off x="4495680" y="1879560"/>
            <a:ext cx="3606840" cy="360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D:\predavanja\Boja mala\krug.nijanse.jpg"/>
          <p:cNvPicPr/>
          <p:nvPr/>
        </p:nvPicPr>
        <p:blipFill>
          <a:blip r:embed="rId4"/>
          <a:stretch/>
        </p:blipFill>
        <p:spPr>
          <a:xfrm>
            <a:off x="4495680" y="1981080"/>
            <a:ext cx="35053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80880" y="304920"/>
            <a:ext cx="327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šum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kromatsk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akromatsk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bo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slik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temp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7" descr="D:\predavanja\Boja mala\3. razred. sareno nesareno 1.jpg"/>
          <p:cNvPicPr/>
          <p:nvPr/>
        </p:nvPicPr>
        <p:blipFill>
          <a:blip r:embed="rId1"/>
          <a:stretch/>
        </p:blipFill>
        <p:spPr>
          <a:xfrm>
            <a:off x="4521240" y="241200"/>
            <a:ext cx="4089240" cy="295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D:\predavanja\Boja mala\3. razred. sareno nesareno 2.jpg"/>
          <p:cNvPicPr/>
          <p:nvPr/>
        </p:nvPicPr>
        <p:blipFill>
          <a:blip r:embed="rId2"/>
          <a:stretch/>
        </p:blipFill>
        <p:spPr>
          <a:xfrm>
            <a:off x="4495680" y="3543480"/>
            <a:ext cx="38610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7238880" y="56088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iet Mondrian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Kompozicij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2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D:\predavanja\Boja mala\Mondrian. Kompozicija. 1921.jpg"/>
          <p:cNvPicPr/>
          <p:nvPr/>
        </p:nvPicPr>
        <p:blipFill>
          <a:blip r:embed="rId1"/>
          <a:stretch/>
        </p:blipFill>
        <p:spPr>
          <a:xfrm>
            <a:off x="914400" y="330120"/>
            <a:ext cx="612144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D:\predavanja\Boja mala\1.razred. osnovne boje1.jpg"/>
          <p:cNvPicPr/>
          <p:nvPr/>
        </p:nvPicPr>
        <p:blipFill>
          <a:blip r:embed="rId1"/>
          <a:stretch/>
        </p:blipFill>
        <p:spPr>
          <a:xfrm>
            <a:off x="5257800" y="469800"/>
            <a:ext cx="3606840" cy="250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D:\predavanja\Boja mala\1.razred. osnovne boje4.jpg"/>
          <p:cNvPicPr/>
          <p:nvPr/>
        </p:nvPicPr>
        <p:blipFill>
          <a:blip r:embed="rId2"/>
          <a:stretch/>
        </p:blipFill>
        <p:spPr>
          <a:xfrm>
            <a:off x="5257800" y="3505320"/>
            <a:ext cx="360684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D:\predavanja\Boja mala\priprema.primarne.jpg"/>
          <p:cNvPicPr/>
          <p:nvPr/>
        </p:nvPicPr>
        <p:blipFill>
          <a:blip r:embed="rId3"/>
          <a:stretch/>
        </p:blipFill>
        <p:spPr>
          <a:xfrm>
            <a:off x="0" y="1752480"/>
            <a:ext cx="49528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7467480" y="545616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Franc Mark:</a:t>
            </a:r>
            <a:br>
              <a:rPr sz="1200"/>
            </a:b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Plavičastocrn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lisic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D:\predavanja\Boja mala\Franz.Marc.Plavicastocrna.lisica.1911.jpg"/>
          <p:cNvPicPr/>
          <p:nvPr/>
        </p:nvPicPr>
        <p:blipFill>
          <a:blip r:embed="rId1"/>
          <a:stretch/>
        </p:blipFill>
        <p:spPr>
          <a:xfrm>
            <a:off x="380880" y="765000"/>
            <a:ext cx="6705720" cy="52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D:\predavanja\Boja mala\1.razred.duga1.jpg"/>
          <p:cNvPicPr/>
          <p:nvPr/>
        </p:nvPicPr>
        <p:blipFill>
          <a:blip r:embed="rId1"/>
          <a:stretch/>
        </p:blipFill>
        <p:spPr>
          <a:xfrm>
            <a:off x="5257800" y="571680"/>
            <a:ext cx="3606840" cy="2476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D:\predavanja\Boja mala\1.razred.duga2.jpg"/>
          <p:cNvPicPr/>
          <p:nvPr/>
        </p:nvPicPr>
        <p:blipFill>
          <a:blip r:embed="rId2"/>
          <a:stretch/>
        </p:blipFill>
        <p:spPr>
          <a:xfrm>
            <a:off x="5257800" y="3581280"/>
            <a:ext cx="3606840" cy="2476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D:\predavanja\Boja mala\priprema.sekundarne.jpg"/>
          <p:cNvPicPr/>
          <p:nvPr/>
        </p:nvPicPr>
        <p:blipFill>
          <a:blip r:embed="rId3"/>
          <a:stretch/>
        </p:blipFill>
        <p:spPr>
          <a:xfrm>
            <a:off x="0" y="1600200"/>
            <a:ext cx="48769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0T15:09:51Z</dcterms:created>
  <dc:creator>Miro</dc:creator>
  <dc:description/>
  <dc:language>en-US</dc:language>
  <cp:lastModifiedBy>Kreso Stojic</cp:lastModifiedBy>
  <dcterms:modified xsi:type="dcterms:W3CDTF">2009-05-15T20:29:18Z</dcterms:modified>
  <cp:revision>159</cp:revision>
  <dc:subject/>
  <dc:title>Boja</dc:title>
</cp:coreProperties>
</file>