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8D3-7E5C-4BB0-B819-F65EA933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1E7-AA97-452A-876E-6C1F6B05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BAA-86A2-43BB-B20A-CFE37DEC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441-06F1-4656-A31F-85585CA9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F9E18-78E7-47A1-A33F-E3CA7B75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A28A1-1195-4DDA-8B6E-6FE2AD4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48FBE-F319-462A-AEFE-2ABBC47F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DCD30-22B6-4441-904D-2A7C0A89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2B2C5-911B-4BDA-9225-D40BDD8C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A2167-A1D3-4351-98DF-DEB4D696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E37CB-3A52-43C9-9D06-F81F865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7FA-962D-406A-9E6C-7EFCFCB5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9F3C-9905-4F36-A576-E94AEC10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97F23-4133-4DFC-89F0-338858A5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6D4FD-F699-498D-97A3-642A985C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0206B-B98D-43B3-8857-E3C66829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C2F7B-9616-44D6-B75C-93440094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F6E62-73B8-4B97-9579-1606383E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EF91-5EB0-4461-9A64-2427A913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F3AD-D10E-4098-BE2B-7499CBCB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AE56-0CC0-44B7-A201-506CD59F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0B59-6A5B-44C8-9840-E50A6F69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F4B-4F0E-4C8D-886F-4806B40D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723B-9891-4C4B-BA66-69AFA877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B055-C74C-430F-B3A8-5A93CAAA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CBB0-ADFF-4F61-9C07-0EBFDB5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89E8-868F-4E31-939A-9640ADA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817A-8E25-4DFC-9DB6-0DCF999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2C05-07F1-4C2A-80BD-C2F0C1AF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FC6C-8030-4501-99E8-D5E47E2F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5BD67-4121-463F-B58C-E4C1D96B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C5231-E206-4C3B-86C6-66287D4C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37B37-AB1E-4473-AE72-822F8B6D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B43-C1F2-4FAB-B8DC-1602C09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E418C-5B04-4FD3-8AAF-151DDFE3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112D98-C46A-4505-982C-1B445220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129D6-1376-4DC5-95F9-6EDCF1F5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FBDEB-ADC5-4D95-98DB-8FA62A73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0585B6-4C9B-48B6-BB73-05FAD39A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3E915-F2B4-42BB-8159-2DA6A317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5209B-3F3F-4974-9ACD-DEA1BFA1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8E772-74AE-415C-AA89-54F89A01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2FF744-FD2D-44C6-8E76-97FE7309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1CD-9CD2-4323-9D4D-D550C82A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817-833E-4773-9BF7-79824331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A2A-9F28-4107-8E2A-8E1291A4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C79-57F7-4D72-BACB-1CFA149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ED1-9331-4B5E-995B-DBA4BA9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67E5-0FEB-4A4C-8DE9-A423F84671EA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5BA8-3277-4C41-A59D-54D39945CA5F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6FFD-2398-41DE-919C-C04F1CB2D60D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FC1F-29D7-485E-A110-C997C7D13535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14F5-B6EE-427B-9320-76715804E387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04BD-9FCB-4425-95C0-99D3DED0EBBC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A579-BC3D-4A5D-A946-A92A7C464F54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F6BD-C1AC-4F0C-A2F4-E8E209EA5D41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1" descr=""/>
          <p:cNvPicPr/>
          <p:nvPr/>
        </p:nvPicPr>
        <p:blipFill>
          <a:blip r:embed="rId2"/>
          <a:stretch/>
        </p:blipFill>
        <p:spPr>
          <a:xfrm>
            <a:off x="30240" y="1322280"/>
            <a:ext cx="8053200" cy="3146400"/>
          </a:xfrm>
          <a:prstGeom prst="rect">
            <a:avLst/>
          </a:prstGeom>
          <a:ln w="0">
            <a:noFill/>
          </a:ln>
        </p:spPr>
      </p:pic>
      <p:sp>
        <p:nvSpPr>
          <p:cNvPr id="172" name="Date Placeholder 6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4B4-26DB-4A53-AB35-A2C1BF955F14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693760" y="564372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6600"/>
                </a:solidFill>
                <a:latin typeface="Constantia"/>
              </a:rPr>
              <a:t>Branka Kamenečki Orlić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5C91-F4AF-4967-9935-17D2DB8B6C10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357120" y="1714680"/>
            <a:ext cx="7500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stvaranje banke riječi ili osobne liste riječ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ilustriranje knjige priča, pjesam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izrada plakata koji reklamira knjig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uređivanje novina koje prate čitanje knjiga djece u razred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isanje pisma autoru knjige – pjes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uređivanje novina koje prate čitanje knjiga djece u razred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8D82-FB95-44A0-9CEA-A9991156E172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0" y="500040"/>
            <a:ext cx="5929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isanje pisma autoru knjige – pjes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crtanje ili opisivanje određenog dijela knji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romjena završetk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isanje radnje koja bi mogl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rethoditi prič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okušaj da se glavna ideja priče sažme u jednu rečenic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3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BE4B-2B93-4039-8D33-1616E3B82364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2286000" y="500040"/>
            <a:ext cx="6215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glumačka izvedba jednog dijela fabu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roučavanje autora knjige i pisanje izvješća za razre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opisivanje osobnog doživljaja susreta s jednim likom iz prič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stvaranje igre temeljene na pročitanom djel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opisivanje avanture lika koji im se svidio u 1. lic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ilustracija naslovnice knji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E1FC-9F41-4650-8A86-A3939AFBBB8C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2581200" y="428760"/>
            <a:ext cx="55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MOGUĆNOSTI ODGOVORA NA PROČITAN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14720" y="1143000"/>
          <a:ext cx="5406840" cy="4479840"/>
        </p:xfrm>
        <a:graphic>
          <a:graphicData uri="http://schemas.openxmlformats.org/drawingml/2006/table">
            <a:tbl>
              <a:tblPr/>
              <a:tblGrid>
                <a:gridCol w="2571480"/>
                <a:gridCol w="283536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MOGUĆI ODGOVO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lan prič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apravi plan tako da slijediš radnju prič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einaka tek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mijeni dio priče tako da nam pokažeš kako bi ti riješio/la probl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epričavanj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auči sažeto prepričati prič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lustracij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lustriraj značajne scene iz priče i napiši nešto o svakoj ilustracij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Čitanje priče prijatelji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čitaj dio priče prijateljima uz objašnjenje zašto si odabrao/la baš taj 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ramatizacij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ramatiziraj dio priče s prijatelji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lakat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zradi s prijateljima plakat koji će potaknuti drugu djecu da pročitaju knjigu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 ne zaboravi plakat treba biti zanimljiv kako bi zainteresirao i nagovarao na čitanje 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44C6-66B4-4518-9559-843C48DA7DA9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3071880" y="500040"/>
          <a:ext cx="5668920" cy="4054320"/>
        </p:xfrm>
        <a:graphic>
          <a:graphicData uri="http://schemas.openxmlformats.org/drawingml/2006/table">
            <a:tbl>
              <a:tblPr/>
              <a:tblGrid>
                <a:gridCol w="2835360"/>
                <a:gridCol w="283356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stale knji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daberi i druge knjige istog autora, pročitaj ih i usporedi. Izvijesti ost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eoblačenj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buci se kao lik iz priče i odglumi omiljenu scen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ov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drži uvjerljiv govor koristeći se podacima koje si sakupio/la  iz knji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Raspra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Raspravljaj s prijateljima o knjizi braneći svoje stavo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is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apiši pismo autoru knjige. Usredotoči se na ono što si naučio/la i kako će ti to pomoći u živo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ovinski  član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apiši kritiku – svoje mišljenje o pročitanoj knjiz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gr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astavi s prijateljima križaljku s pojmovima vezanim uz pročitanu knjig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4"/>
          <p:cNvSpPr/>
          <p:nvPr/>
        </p:nvSpPr>
        <p:spPr>
          <a:xfrm>
            <a:off x="928800" y="4643280"/>
            <a:ext cx="73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efac9"/>
                </a:solidFill>
                <a:latin typeface="Comic Sans MS"/>
              </a:rPr>
              <a:t> </a:t>
            </a:r>
            <a:r>
              <a:rPr b="1" lang="hr-HR" sz="2000" spc="-1" strike="noStrike">
                <a:solidFill>
                  <a:srgbClr val="fefac9"/>
                </a:solidFill>
                <a:latin typeface="Comic Sans MS"/>
              </a:rPr>
              <a:t>da bi ovakav način lektire bio što uspješniji učenici su podijeljeni u grup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efac9"/>
                </a:solidFill>
                <a:latin typeface="Comic Sans MS"/>
              </a:rPr>
              <a:t> </a:t>
            </a:r>
            <a:r>
              <a:rPr b="1" lang="hr-HR" sz="2000" spc="-1" strike="noStrike">
                <a:solidFill>
                  <a:srgbClr val="fefac9"/>
                </a:solidFill>
                <a:latin typeface="Comic Sans MS"/>
              </a:rPr>
              <a:t>važno ih je uputiti na posjete knjižnici i traženje pomoć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A61E-00D8-48AE-ADFC-C59BB74FEB4C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714240" y="125280"/>
            <a:ext cx="7929720" cy="64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hr-HR" sz="2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LEKTIRA U TREĆEM RAZREDU – primjeri -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EZOPOVE BASNE </a:t>
            </a: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– napiši basnu u kojoj sve riječi počinju istim slovo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L. PALJETAK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MIŠEVI I MAČKE NAGLAVAČKE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apiši strip temeljen na pjesmici koja ti se najviše svidjela ( ne zaboravi objašnjenje zašto baš ta pjesmica 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. B. MAŽURANIĆ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ČUDNOVATE ZGODE ŠEGRTA HLAPIĆA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isanje nastavka prič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plakat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ramatizacija najzanimljivijeg djela prič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ve o piscu u obliku izvješć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vinski članak – naše mišljenje o pročitano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71AB-B856-4D34-9B3B-3BE75CAA2851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428760" y="1877400"/>
            <a:ext cx="85788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lustracija jedne priče – slikovnic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poredba crtić – knjig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oblikovati jednu priču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M. LOVRAK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VLAK U SNIJEGU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ramatizacija najzanimljivijeg djela prič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ismo autoru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adio reklam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plakat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asprava o knjiz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D. HORVATIĆ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GRIČKI TOP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turističkog plakata temeljenog na prič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klama knjig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ažetak prič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va naslovnic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786600" y="178596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S. ŠKRINJARIĆ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KAKTUS BAJKE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40A-4DAB-4E2D-9AED-31C6FE9665AF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575360" y="1663200"/>
            <a:ext cx="7119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V.NAZOR</a:t>
            </a: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BIJELI JELEN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pisivanje osobnog doživljaja susreta s glavnom liko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ažimanje glavne ideje u jednu rečenicu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slikovnic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H.LOFTING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DR. DOLITTELEU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poredba knjiga – fil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Čitanje priče prijateljim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onodrama glavnog lik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svrt na knjigu – kritik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W.BONSELES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PČELICA MAJA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grokaz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čemu glavni lik sanja noću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adio reklam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gra – križaljka s pojmovima iz knjig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zidne slik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Picture 3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AF60-0424-4786-A5AB-19748270B685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diddles_write bock.gif"/>
          <p:cNvPicPr/>
          <p:nvPr/>
        </p:nvPicPr>
        <p:blipFill>
          <a:blip r:embed="rId1"/>
          <a:stretch/>
        </p:blipFill>
        <p:spPr>
          <a:xfrm>
            <a:off x="4572000" y="500040"/>
            <a:ext cx="3895560" cy="2905200"/>
          </a:xfrm>
          <a:prstGeom prst="rect">
            <a:avLst/>
          </a:prstGeom>
          <a:ln w="0">
            <a:noFill/>
          </a:ln>
        </p:spPr>
      </p:pic>
      <p:pic>
        <p:nvPicPr>
          <p:cNvPr id="227" name="TextBox 3" descr=""/>
          <p:cNvPicPr/>
          <p:nvPr/>
        </p:nvPicPr>
        <p:blipFill>
          <a:blip r:embed="rId2"/>
          <a:stretch/>
        </p:blipFill>
        <p:spPr>
          <a:xfrm>
            <a:off x="927000" y="1316160"/>
            <a:ext cx="7425000" cy="74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7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7BA3-34A4-45D6-96FB-8937B45D1E7B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Rectangle 4" descr=""/>
          <p:cNvPicPr/>
          <p:nvPr/>
        </p:nvPicPr>
        <p:blipFill>
          <a:blip r:embed="rId2"/>
          <a:stretch/>
        </p:blipFill>
        <p:spPr>
          <a:xfrm>
            <a:off x="762120" y="2230560"/>
            <a:ext cx="7650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64F7-5C20-4558-8324-1F01EC8AC904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642960" y="2550960"/>
            <a:ext cx="728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gramatika i pravopis bi se trebali učiti u kasnijim razredima jer do tada bi djetetu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pisanje kao izričaj postalo  automatizirana aktivno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preporučljivo je da djeca uče pisati kao što uče govorit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08CE-9196-4584-A521-D24E60552753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Picture 2" descr="diddle schrijft.gif"/>
          <p:cNvPicPr/>
          <p:nvPr/>
        </p:nvPicPr>
        <p:blipFill>
          <a:blip r:embed="rId1"/>
          <a:stretch/>
        </p:blipFill>
        <p:spPr>
          <a:xfrm>
            <a:off x="311040" y="396720"/>
            <a:ext cx="1955880" cy="15606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571680" y="2136600"/>
            <a:ext cx="785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nedovršene rečenice ohrabruju dijete da se izraze o sebi, da shvati  i prihvati svoje želje, potrebe, razočaranja, misli ideje, osjećaje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Comic Sans MS"/>
              </a:rPr>
              <a:t>PR.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Ljubav je…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Pjeva mi se kada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Uplašim se kada…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Kod sebe jako volim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Sretan/a sam kada…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Da sam mama /tata ja bi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9408-FC82-4DC7-B22A-E302413E403C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1071720" y="1947240"/>
            <a:ext cx="60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Napišite pismo jednom dijelu svoga tije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Napiši svoju tajnu ( potpis nije obvezatan ). Spremi pismo u košaricu koja čuva tajne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Na zajedničkim sastancima izvlačimo i čitamo tajne kao da su naše – pričamo ili pišemo o osjećajima koje je ta tajna pobudila u nama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C4BB-95F0-4D59-8A3A-B6EBF6AA1B99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714240" y="2550960"/>
            <a:ext cx="700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Pisanje, posebno poezija ide iz srca, pomaže nam da budemo slobodni, ponekad malo luckasti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Djeca vole slušati pjesme koje su napisala druga djeca – to u njima pobuđuje želju da i sami nešto napiš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2597-A6FB-416A-A32B-D82F999E9747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571680" y="1857240"/>
            <a:ext cx="7429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Grupnom pisanju pjesama djeca pristupaju s posebnim oduševljenjem ( svako dijete govori ili piše jedan stih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Pjesme mogu nastati tako da s djecom razgovaramo o riječima koje opisuju naše osjećaje – proširivanje svjesnosti o riječima potiče djecu na pisanje poezij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Odrasli teško mogu pisati tako da dijete osjeti  « ono nešto «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701D-68C1-4A15-9884-9FF94457A980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000080" y="2232000"/>
            <a:ext cx="6357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LEKTIRA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– riječ koja jednako teško odzvanja u ušima djece i roditelj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Vjerujte mi postoji rješenje problema zvanog </a:t>
            </a:r>
            <a:r>
              <a:rPr b="1" lang="hr-HR" sz="24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LEKTIRA.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va neugodna školska obveza može postati jako zanimljiva, zabavna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poručljivo je poštivati individualnost svakog djeteta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4E07-FFA9-4081-B11A-FDCB8D483681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428760" y="-44280"/>
            <a:ext cx="8501040" cy="66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vo su samo neke mogućnosti </a:t>
            </a:r>
            <a:r>
              <a:rPr b="1" lang="hr-HR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KAKO PISATI LEKTIRU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ovisno o uzrastu i interesu djece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dnevnik čitanja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– tijekom čitanja djeca zapisuju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sobne reakcije na pročitan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pisanje sažetka prič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pisanje slikovnica ili malih knjig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pisanje poezij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pisanje dra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53:09Z</dcterms:created>
  <dc:creator>Angels</dc:creator>
  <dc:description/>
  <dc:language>en-US</dc:language>
  <cp:lastModifiedBy>Angels</cp:lastModifiedBy>
  <dcterms:modified xsi:type="dcterms:W3CDTF">2008-04-23T20:17:17Z</dcterms:modified>
  <cp:revision>1</cp:revision>
  <dc:subject/>
  <dc:title>Slide 1</dc:title>
</cp:coreProperties>
</file>