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E9F-AB38-4FAB-B175-4E34BB1A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AD8-2746-412F-8CEB-4497B03D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738-C3F0-46E9-860D-3BB9D639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BB5-2FEF-4785-8508-CAFE4CEF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6E61-DAFC-4048-8D3D-CC58862D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651E-28D2-42A3-A63D-FBDCC2EE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E2DA-41D1-47AF-8A82-48C2ECCA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3575-4966-424C-8411-B19D2573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3B60-D836-4943-A6CF-3F103331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3BA0-8086-4683-B1C6-3C819BAF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10A7-4B24-4C16-B4B3-918947A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E5E-81DF-4226-A423-12DCFA40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3E33-B634-40AD-BE71-D531BD84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80CC-8DB6-4111-B765-AEDC6FCD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2E3F-A4CC-4D8A-97D3-2388B0A3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0E7B-8050-43A5-AB04-A8061507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A457-D3B4-4B04-94B3-8A40EF6A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2B2-9CEB-4749-BC1B-524AD2FE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BA2-9A7F-410F-BB22-39C54C5C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AE9-C756-4A91-AA20-5422B290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3ED-3276-4C2F-817E-798CEBB2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005-27D6-4E7C-A707-C0290D46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EA8-8E06-4B0E-9A22-1F304B89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9BE-7D0C-4E40-8CE5-8A7A9116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20BC-CC9D-4E30-99A4-11E732ADAAA9}" type="slidenum"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ardinal"/>
          <p:cNvPicPr/>
          <p:nvPr/>
        </p:nvPicPr>
        <p:blipFill>
          <a:blip r:embed="rId2"/>
          <a:stretch/>
        </p:blipFill>
        <p:spPr>
          <a:xfrm>
            <a:off x="7543800" y="5029200"/>
            <a:ext cx="104760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ardinal"/>
          <p:cNvPicPr/>
          <p:nvPr/>
        </p:nvPicPr>
        <p:blipFill>
          <a:blip r:embed="rId2"/>
          <a:stretch/>
        </p:blipFill>
        <p:spPr>
          <a:xfrm flipH="1">
            <a:off x="0" y="0"/>
            <a:ext cx="3029040" cy="23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435D-A746-48BF-9E92-21BD8BD02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70828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Palatino Linotype"/>
              </a:rPr>
              <a:t>Dragi roditelji,</a:t>
            </a:r>
            <a:br>
              <a:rPr sz="6600"/>
            </a:br>
            <a:r>
              <a:rPr b="0" lang="hr-HR" sz="6600" spc="-1" strike="noStrike">
                <a:solidFill>
                  <a:srgbClr val="000000"/>
                </a:solidFill>
                <a:latin typeface="Palatino Linotype"/>
              </a:rPr>
              <a:t>dobrodošli!</a:t>
            </a:r>
            <a:endParaRPr b="0" lang="en-US" sz="6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Palatino Linotype"/>
              </a:rPr>
              <a:t>Disciplinske metode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Upotrijebite konstruktivnu kritiku: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Prije nego ćete izgrditi dijete radije se fokusirajte na loše ponašanje i kako se ono može popraviti.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Palatino Linotype"/>
              </a:rPr>
              <a:t>Na primjer, umjesto da kažete:’Napravio si nered! Ostavio si igračke svuda naokolo’, pokušajte reći: ’Ova soba je u neredu. Molim te da je pospremiš.’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Umjesto fokusiranja na negativnom ponašanju, pomozite da ga dijete zamijeni sa prihvatljivijim ponašanjem.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Palatino Linotype"/>
              </a:rPr>
              <a:t>Na primjer, ako dijete baca loptu po kući, odvedite ga van i poigrajte se loptom zajedno</a:t>
            </a: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Palatino Linotype"/>
              </a:rPr>
              <a:t>Preusmjerite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Palatino Linotype"/>
              </a:rPr>
              <a:t>Dajte djetetu predah ili time-ou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3827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Odmaknite dijete od situacije kako bi ono vratilo samokontrolu.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6" name="Picture 4" descr="p46telloffkids_468x460"/>
          <p:cNvPicPr/>
          <p:nvPr/>
        </p:nvPicPr>
        <p:blipFill>
          <a:blip r:embed="rId1"/>
          <a:stretch/>
        </p:blipFill>
        <p:spPr>
          <a:xfrm>
            <a:off x="4643280" y="1557360"/>
            <a:ext cx="3457800" cy="3398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Palatino Linotype"/>
              </a:rPr>
              <a:t>Promičite mentalno zdravlje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Obratite pažnju i promičite mentalno zdravlje Vašeg djeteta kao i njegovo fizičko zdravlje.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9" name="Picture 4" descr="bubble"/>
          <p:cNvPicPr/>
          <p:nvPr/>
        </p:nvPicPr>
        <p:blipFill>
          <a:blip r:embed="rId1"/>
          <a:stretch/>
        </p:blipFill>
        <p:spPr>
          <a:xfrm>
            <a:off x="5219640" y="1916280"/>
            <a:ext cx="2808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Ima prijatelje i dobro se slaže s ostalom djeco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Može se koncentrirati i usredotočiti pažnju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Ima relativno stabilne režime prehrane i spavanj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Pokazuje prihvatljiv interes i napredak u školi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Zadovoljan je barem malo sa svim aspektima života-obitelji, prijateljima, školom, fizičkim izgledo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Nije tjeskoban ili ljutit zbog manjih neugodnosti i smetnji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Njegovi strahovi su prihvatljivi i nisu pretjerani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Pokazuje poštovanje prema drugim ljudim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Ima hobije i uživa u različitim aktivnostim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0000"/>
                </a:solidFill>
                <a:latin typeface="Palatino Linotype"/>
              </a:rPr>
              <a:t>Znaci jakog mentalnog zdravlja</a:t>
            </a:r>
            <a:r>
              <a:rPr b="0" lang="hr-HR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Palatino Linotype"/>
              </a:rPr>
              <a:t>POZITIVNO IZRAŽAVANJE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981000"/>
          <a:ext cx="8218440" cy="576756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djelotvorna tehn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Tehnika ljubavi i log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olim te sjedni. Sada ćemo jest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Jesti ćemo čim sjedneš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olim te budi tih. Ne mogu čuti tvoga brata kada oboje govorite istovremen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ado ću te poslušati čim tvoj brat završi razgovarati sa m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čisti svoju sobu da možemo ići u kupovinu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ado ću te odvesti u kupovinu čim ti soba bude čist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 pričaj dok ti čita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očet ću ti čitati ponovno čim završiš pričati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 možeš se igrati dok nisi završio svoju zadaću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lobodno se idi igrati či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i završio svoju zadaću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bavljaj kućanske poslove na vrijeme ili ćeš biti kažnjen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Vrlo rado ću te pustiti da ideš sa svojim prijateljima čim </a:t>
                      </a: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baviš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kućansk</a:t>
                      </a: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poslov</a:t>
                      </a: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50920" y="620640"/>
          <a:ext cx="8229600" cy="5645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 razgovaraj sa mnom tim tonom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oslušat ću čim ti glas bude smiren kao moj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ću kupiti tvoju prljavu odjeću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ado ću ti oprati odjeću koja je ostavljena u košu za prljavo rublj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 ideš van bez kaputa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ožeš izaći van čim staviš kapu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 vraćaj se u ovu prostoriju dok ne pokažeš malo poštovanja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lobodno se vrati u ovu prostoriju kad budeš smir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ospremi ovu sobu odmah, ozbiljno mislim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lodobno nam se možeš pridružiti na ____________ čim ti je soba pospremljen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restani kršiti pravila igr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ni koji poštuju pravil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gre dobrodošli  su igrati </a:t>
                      </a: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Palatino Linotype"/>
              </a:rPr>
              <a:t>DOMAĆA ZADAĆA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alatino Linotype"/>
              </a:rPr>
              <a:t>Utvrdite vrijeme KADA će se raditi domaća zadaća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alatino Linotype"/>
              </a:rPr>
              <a:t>Stvorite mjesto GDJE će se pisati domaća zadaća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alatino Linotype"/>
              </a:rPr>
              <a:t>Pokažite interes za ono što dijete uči i ako ste u mogućnosti, pomozit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alatino Linotype"/>
              </a:rPr>
              <a:t>Informirajte se o radu i napretku svog djeteta  i razgovarajte o mogućim poteškoćama</a:t>
            </a: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7" name="Picture 4" descr="sadchild1"/>
          <p:cNvPicPr/>
          <p:nvPr/>
        </p:nvPicPr>
        <p:blipFill>
          <a:blip r:embed="rId1"/>
          <a:stretch/>
        </p:blipFill>
        <p:spPr>
          <a:xfrm>
            <a:off x="2556000" y="4292640"/>
            <a:ext cx="3671640" cy="231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Palatino Linotype"/>
              </a:rPr>
              <a:t>Hvala!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9" name="Picture 4" descr="fam"/>
          <p:cNvPicPr/>
          <p:nvPr/>
        </p:nvPicPr>
        <p:blipFill>
          <a:blip r:embed="rId1"/>
          <a:stretch/>
        </p:blipFill>
        <p:spPr>
          <a:xfrm>
            <a:off x="1000080" y="1762200"/>
            <a:ext cx="7143840" cy="333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lies_away"/>
          <p:cNvPicPr/>
          <p:nvPr/>
        </p:nvPicPr>
        <p:blipFill>
          <a:blip r:embed="rId2"/>
          <a:stretch/>
        </p:blipFill>
        <p:spPr>
          <a:xfrm rot="1544400">
            <a:off x="610920" y="333000"/>
            <a:ext cx="1400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smanjite prepiranje, održavanje prodika i vikanj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se pouzdate u Vaše roditeljske vješt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stvorite više vremena za seb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stvorite vještine kojima ćete poticati suradnju umjesto svađ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Palatino Linotype"/>
              </a:rPr>
              <a:t>Metode koje Vam mogu pomoći:</a:t>
            </a: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stvori osjećaj odgovornosti i inicijativ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ojača samopoštovanj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razvije vještine za donošenje pravovaljanih odluka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potiče suradnju i uspjeh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Palatino Linotype"/>
              </a:rPr>
              <a:t>Vašem djetetu možete pomoći:</a:t>
            </a: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0000"/>
                </a:solidFill>
                <a:latin typeface="Palatino Linotype"/>
              </a:rPr>
              <a:t>Pomozite djetetu da razvije socijalne vještine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Socijalna kompetencija i samopoštovanje idu ruku pod ruku, stoga nađite vremena da pokažete dobar primjer i naučite dijete ponašanjima koja potiču pozitivne socijalne odnose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1" name="Picture 4" descr="Children%20playing"/>
          <p:cNvPicPr/>
          <p:nvPr/>
        </p:nvPicPr>
        <p:blipFill>
          <a:blip r:embed="rId1"/>
          <a:stretch/>
        </p:blipFill>
        <p:spPr>
          <a:xfrm>
            <a:off x="5148360" y="2060640"/>
            <a:ext cx="35938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Palatino Linotype"/>
              </a:rPr>
              <a:t>Nađite vremena za razgovor sa svojim djetetom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Potaknite dijete na razgovor i dajte mu do znanja da je razgovor o osjećajima zdrav način iskazivanja straha, ljutnje, tuge i boli. Naučite dijete riječima kojima će moći opisati svoje osjećaje i budite mu uzor pričajući mu o vlastitim osjećajima.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Palatino Linotype"/>
              </a:rPr>
              <a:t>Ostavite stres sa posla – na poslu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Važno je najprije prepoznati i imenovati vlastite potrebe kako bi mogli sabrati misli i biti smireni i postaviti dobar primjer svojoj djeci.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800" spc="-1" strike="noStrike">
                <a:solidFill>
                  <a:srgbClr val="000000"/>
                </a:solidFill>
                <a:latin typeface="Palatino Linotype"/>
              </a:rPr>
              <a:t>Izbjegavajte 'hyper-parenting'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ijete treba vremena i prostora i da bude kreativno, da razmišlja i otkriva život na vlastiti način.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6" name="Picture 4" descr="1108744179_4080"/>
          <p:cNvPicPr/>
          <p:nvPr/>
        </p:nvPicPr>
        <p:blipFill>
          <a:blip r:embed="rId1"/>
          <a:stretch/>
        </p:blipFill>
        <p:spPr>
          <a:xfrm>
            <a:off x="5508720" y="1628640"/>
            <a:ext cx="266544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Palatino Linotype"/>
              </a:rPr>
              <a:t>Slavite uspjeh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Nagrađujući dijete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za dobro ponašanje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više je konstruktivno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nego dati mu do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znanja kada se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ponašalo neprimjereno.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Picture 4" descr="1044139244_ink_result"/>
          <p:cNvPicPr/>
          <p:nvPr/>
        </p:nvPicPr>
        <p:blipFill>
          <a:blip r:embed="rId1"/>
          <a:stretch/>
        </p:blipFill>
        <p:spPr>
          <a:xfrm>
            <a:off x="4859280" y="1125360"/>
            <a:ext cx="3645000" cy="3645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Palatino Linotype"/>
              </a:rPr>
              <a:t>Upotrijebite disciplinu, a ne kaznu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‘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Disciplina’ je metoda učenja djece prihvatljivom ponašanju i pomoć da djeca sama donose mudre odluke kako bi djelovali pozitivno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’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Kazna’, s druge strane, uključuje uporabu fizičkih sredstava ili verbalnog kritiziranja da se ukaže na negativno ponašanje.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Dok kažnjavanje može voditi ka smanjivanju samopouzdanja, disciplina će pomoći da djeca usvoje pozitivne socijalizacijske vještine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12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12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12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0:58:01Z</dcterms:created>
  <dc:creator>Mia</dc:creator>
  <dc:description/>
  <dc:language>en-US</dc:language>
  <cp:lastModifiedBy>ja</cp:lastModifiedBy>
  <dcterms:modified xsi:type="dcterms:W3CDTF">2009-02-14T20:03:26Z</dcterms:modified>
  <cp:revision>13</cp:revision>
  <dc:subject/>
  <dc:title>Dragi roditelji, dobrodošli!</dc:title>
</cp:coreProperties>
</file>